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move the slide</a:t>
            </a:r>
            <a:endParaRPr b="0" lang="en-US" sz="4400" spc="-1" strike="noStrike">
              <a:solidFill>
                <a:srgbClr val="0033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1C4A-0B3C-47CB-8930-F27D3CE46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duction to ENERGY FLOW</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 August 4, 2003)</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NIV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omnivores?</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mnivores are consumers that eat both plants &amp; animal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 Consumer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bears and human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Chains &amp; Food We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ecosystems transfer energy from organisms to organism in feeding relationships called trophic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a food chain describe this path of energy? (ar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shows the energy passing from one organism to the next as it is eaten.  Make sure to talk about the direction of the arrows pointing INTO the animal that eat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Chains &amp; Food We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e trophic level by number in the food chai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once to bring in numbers) Trophic Level 1 – produc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the trophic level number correspond with the “eating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first trophic level is the plants/producers which first produce the food fusing the sun’s energy.  The second trophic level is the herbivore that eats the plants.  The third trophic level is the primary consumer/carnivore which the first to eat meat.  The fourth trophic level is the secondary consumer/carnivore which is the second meat eater in the chain and continuing through succeeding trophic levels and consum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od webs because they have more diversity in what can be ea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of representing trophic levels in a food web, an ecological pyramid can be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sun eclipse with pal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the ultimate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Astronomy Picture of the Da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a pyramid used to represent these feeding relationship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mally there is more energy, biomass and number of organisms at the lower level, decreasing as you move upwar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is this also a pyrami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has the same general pyramid shape decreasing toward the top and shows trophic leve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what happens to the mass, numbers,and energy from trophic level to trophic leve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they decrease as you go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different about this pyram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has a very small trophic level 1 (produ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the producer level be so small and support the trophic levels above it? </a:t>
            </a:r>
            <a:r>
              <a:rPr b="1" lang="en-US" sz="1200" spc="-1" strike="noStrike">
                <a:solidFill>
                  <a:srgbClr val="000000"/>
                </a:solidFill>
                <a:latin typeface="Times New Roman"/>
              </a:rPr>
              <a:t>(Rhetorical question - lead in for the next two slid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of Aquatic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 </a:t>
            </a:r>
            <a:r>
              <a:rPr b="1" lang="en-US" sz="1200" spc="-1" strike="noStrike">
                <a:solidFill>
                  <a:srgbClr val="000000"/>
                </a:solidFill>
                <a:latin typeface="Times New Roman"/>
              </a:rPr>
              <a:t>Follows the normal pattern of having many more phytoplankton at T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 - </a:t>
            </a:r>
            <a:r>
              <a:rPr b="1" lang="en-US" sz="1200" spc="-1" strike="noStrike">
                <a:solidFill>
                  <a:srgbClr val="000000"/>
                </a:solidFill>
                <a:latin typeface="Times New Roman"/>
              </a:rPr>
              <a:t>The phytoplankton reproduce a a rate only just slightly higher than the rate at which they are eaten.  Since they are so small and weigh so little there is a very small 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 </a:t>
            </a:r>
            <a:r>
              <a:rPr b="1" lang="en-US" sz="1200" spc="-1" strike="noStrike">
                <a:solidFill>
                  <a:srgbClr val="000000"/>
                </a:solidFill>
                <a:latin typeface="Times New Roman"/>
              </a:rPr>
              <a:t>Follows the normal pattern of having much more energy available at T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yramid of biomass in aquatic ecosystems (ocean &amp; fresh) and some terrestrial ecosystems such as the pyramid of numbers for  the temperate forest.  Because the trees are so large their numbers are small compared to the number of organisms at the higher trophic level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of Aquatic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 </a:t>
            </a:r>
            <a:r>
              <a:rPr b="1" lang="en-US" sz="1200" spc="-1" strike="noStrike">
                <a:solidFill>
                  <a:srgbClr val="000000"/>
                </a:solidFill>
                <a:latin typeface="Times New Roman"/>
              </a:rPr>
              <a:t>In the temperate forest, the trees are huge but smaller in number compared to the grasses in a prairie and so are fewer compared to the number of organisms at the higher trophic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 - </a:t>
            </a:r>
            <a:r>
              <a:rPr b="1" lang="en-US" sz="1200" spc="-1" strike="noStrike">
                <a:solidFill>
                  <a:srgbClr val="000000"/>
                </a:solidFill>
                <a:latin typeface="Times New Roman"/>
              </a:rPr>
              <a:t>Follows the normal pattern of having much more mass at TL1 from the huge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 </a:t>
            </a:r>
            <a:r>
              <a:rPr b="1" lang="en-US" sz="1200" spc="-1" strike="noStrike">
                <a:solidFill>
                  <a:srgbClr val="000000"/>
                </a:solidFill>
                <a:latin typeface="Times New Roman"/>
              </a:rPr>
              <a:t>Follows the normal pattern of having much more energy available at T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what you eat, what ar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names of producer, omnivore, consumer, detritivore, herbivore, carnivore, decomposer, autotroph, heterotrop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ERS</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re producers?</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ducers are autotrophs that trap solar energy into organic molecules during photosynthesis. </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Plants, algae and some bacteri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UM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Times New Roman"/>
              </a:rPr>
              <a:t>What are consum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Times New Roman"/>
              </a:rPr>
              <a:t>Consumers are </a:t>
            </a:r>
            <a:r>
              <a:rPr b="1" lang="en-US" sz="1600" spc="-1" strike="noStrike">
                <a:solidFill>
                  <a:srgbClr val="000000"/>
                </a:solidFill>
                <a:latin typeface="Times New Roman"/>
              </a:rPr>
              <a:t>heterotrophs </a:t>
            </a:r>
            <a:r>
              <a:rPr b="1" lang="en-US" sz="1600" spc="-1" strike="noStrike">
                <a:solidFill>
                  <a:srgbClr val="ff6600"/>
                </a:solidFill>
                <a:latin typeface="Times New Roman"/>
              </a:rPr>
              <a:t>that eat other organisms</a:t>
            </a:r>
            <a:r>
              <a:rPr b="1" lang="en-US" sz="1600" spc="-1" strike="noStrike">
                <a:solidFill>
                  <a:srgbClr val="000000"/>
                </a:solidFill>
                <a:latin typeface="Times New Roman"/>
              </a:rPr>
              <a:t> to obtain energy. (“Hetero” means others, “troph” means eat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s: deer, rabbits, cows, mice, lions, humans, hawks, snak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all the dead things go?</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y are eaten.  YUMMM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y decay. SMELLY!</a:t>
            </a:r>
            <a:endParaRPr b="0" lang="en-US" sz="14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difference?</a:t>
            </a:r>
            <a:br>
              <a:rPr sz="1200"/>
            </a:br>
            <a:r>
              <a:rPr b="0" lang="en-US" sz="900" spc="-1" strike="noStrike">
                <a:solidFill>
                  <a:srgbClr val="000000"/>
                </a:solidFill>
                <a:latin typeface="Times New Roman"/>
              </a:rPr>
              <a:t>Is it just a matter of taste?</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BIVOR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re herbivor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rbivores are consumers that eat plants.  (Mention that “vore” means eat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mary Consum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Cows, caterpillars, bunnie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re carnivor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nivores are consumers that eat other animal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ry Consum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tigers, wolves, snakes, hawk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6CE83-76F8-4D48-8038-C88317C08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995400" y="179028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9" name="PlaceHolder 3"/>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DBA52-E904-4E18-B8F1-CDD9BA614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2"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3"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4" name="PlaceHolder 5"/>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DF454-E39B-415E-A62E-A5132BE16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995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7" name="PlaceHolder 3"/>
          <p:cNvSpPr>
            <a:spLocks noGrp="1"/>
          </p:cNvSpPr>
          <p:nvPr>
            <p:ph/>
          </p:nvPr>
        </p:nvSpPr>
        <p:spPr>
          <a:xfrm>
            <a:off x="3623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8" name="PlaceHolder 4"/>
          <p:cNvSpPr>
            <a:spLocks noGrp="1"/>
          </p:cNvSpPr>
          <p:nvPr>
            <p:ph/>
          </p:nvPr>
        </p:nvSpPr>
        <p:spPr>
          <a:xfrm>
            <a:off x="625104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9" name="PlaceHolder 5"/>
          <p:cNvSpPr>
            <a:spLocks noGrp="1"/>
          </p:cNvSpPr>
          <p:nvPr>
            <p:ph/>
          </p:nvPr>
        </p:nvSpPr>
        <p:spPr>
          <a:xfrm>
            <a:off x="995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0" name="PlaceHolder 6"/>
          <p:cNvSpPr>
            <a:spLocks noGrp="1"/>
          </p:cNvSpPr>
          <p:nvPr>
            <p:ph/>
          </p:nvPr>
        </p:nvSpPr>
        <p:spPr>
          <a:xfrm>
            <a:off x="3623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1" name="PlaceHolder 7"/>
          <p:cNvSpPr>
            <a:spLocks noGrp="1"/>
          </p:cNvSpPr>
          <p:nvPr>
            <p:ph/>
          </p:nvPr>
        </p:nvSpPr>
        <p:spPr>
          <a:xfrm>
            <a:off x="625104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F2A6C-3C00-4A59-8D4A-CE3996B22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23034-023C-4E65-ACA0-D797D4367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995400" y="1790280"/>
            <a:ext cx="7772400" cy="4095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F8244-32D4-4D04-95ED-ADB3DBF92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995400" y="1790280"/>
            <a:ext cx="77724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BF75D-D613-4A15-9A76-FC6977070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4"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7512E-E53E-429E-866F-CECE8277C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74622-2BCB-4C06-AB91-CDAB641CD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33480" y="399960"/>
            <a:ext cx="7772400" cy="5388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FBDD4-D75E-47B4-BFE1-C02521CA8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9"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0"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6930F-EA14-4A10-9455-4478CE785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995400" y="1790280"/>
            <a:ext cx="7772400" cy="4095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27995-6442-4AA4-BBD5-475D7134F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3"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4" name="PlaceHolder 4"/>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AC1C7-B6AB-462F-9ED0-65E148C43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7"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8" name="PlaceHolder 4"/>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F5C15-896C-47C5-85C6-7672D60B5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995400" y="179028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1" name="PlaceHolder 3"/>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74BFE-9541-46C6-A74D-C155D9E31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4"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5"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6" name="PlaceHolder 5"/>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2D0F9-4735-46FA-893F-D77B67714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995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9" name="PlaceHolder 3"/>
          <p:cNvSpPr>
            <a:spLocks noGrp="1"/>
          </p:cNvSpPr>
          <p:nvPr>
            <p:ph/>
          </p:nvPr>
        </p:nvSpPr>
        <p:spPr>
          <a:xfrm>
            <a:off x="3623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0" name="PlaceHolder 4"/>
          <p:cNvSpPr>
            <a:spLocks noGrp="1"/>
          </p:cNvSpPr>
          <p:nvPr>
            <p:ph/>
          </p:nvPr>
        </p:nvSpPr>
        <p:spPr>
          <a:xfrm>
            <a:off x="625104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1" name="PlaceHolder 5"/>
          <p:cNvSpPr>
            <a:spLocks noGrp="1"/>
          </p:cNvSpPr>
          <p:nvPr>
            <p:ph/>
          </p:nvPr>
        </p:nvSpPr>
        <p:spPr>
          <a:xfrm>
            <a:off x="995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2" name="PlaceHolder 6"/>
          <p:cNvSpPr>
            <a:spLocks noGrp="1"/>
          </p:cNvSpPr>
          <p:nvPr>
            <p:ph/>
          </p:nvPr>
        </p:nvSpPr>
        <p:spPr>
          <a:xfrm>
            <a:off x="3623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3" name="PlaceHolder 7"/>
          <p:cNvSpPr>
            <a:spLocks noGrp="1"/>
          </p:cNvSpPr>
          <p:nvPr>
            <p:ph/>
          </p:nvPr>
        </p:nvSpPr>
        <p:spPr>
          <a:xfrm>
            <a:off x="625104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E2F16-49D2-4823-A236-D8A67A460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995400" y="1790280"/>
            <a:ext cx="77724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9196B-2672-4100-8868-17271749A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12"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4A4BF-E27D-41F0-9E30-E1DCA7F46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F83C0-5097-436B-9B50-822D6F182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33480" y="399960"/>
            <a:ext cx="7772400" cy="5388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0BA93-8CE3-408D-9DDF-C246D45E9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17"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18"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ABAAD-DD63-4EB0-AB8D-85EE4EF0E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1"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2" name="PlaceHolder 4"/>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34F27-8FAB-4B22-9995-AB23CEE22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5"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6" name="PlaceHolder 4"/>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E411A-3363-4A07-BFFC-37A9A29AA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1" name="PlaceHolder 2"/>
          <p:cNvSpPr>
            <a:spLocks noGrp="1"/>
          </p:cNvSpPr>
          <p:nvPr>
            <p:ph type="body"/>
          </p:nvPr>
        </p:nvSpPr>
        <p:spPr>
          <a:xfrm>
            <a:off x="995400" y="1790280"/>
            <a:ext cx="7772400" cy="4095720"/>
          </a:xfrm>
          <a:prstGeom prst="rect">
            <a:avLst/>
          </a:prstGeom>
          <a:noFill/>
          <a:ln w="0">
            <a:noFill/>
          </a:ln>
        </p:spPr>
        <p:txBody>
          <a:bodyPr lIns="92160" rIns="92160" tIns="46080" bIns="46080" anchor="t">
            <a:normAutofit fontScale="88000"/>
          </a:bodyPr>
          <a:p>
            <a:pPr marL="301680" indent="-3016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Click to edit the outline text format</a:t>
            </a:r>
            <a:endParaRPr b="0" lang="en-US" sz="3600" spc="-1" strike="noStrike">
              <a:solidFill>
                <a:srgbClr val="663300"/>
              </a:solidFill>
              <a:latin typeface="Arial"/>
            </a:endParaRPr>
          </a:p>
          <a:p>
            <a:pPr lvl="1" marL="653760" indent="-2512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cond Outline Level</a:t>
            </a:r>
            <a:endParaRPr b="0" lang="en-US" sz="3600" spc="-1" strike="noStrike">
              <a:solidFill>
                <a:srgbClr val="663300"/>
              </a:solidFill>
              <a:latin typeface="Arial"/>
            </a:endParaRPr>
          </a:p>
          <a:p>
            <a:pPr lvl="2" marL="1005840" indent="-200880">
              <a:spcBef>
                <a:spcPts val="9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Third Outline Level</a:t>
            </a:r>
            <a:endParaRPr b="0" lang="en-US" sz="3600" spc="-1" strike="noStrike">
              <a:solidFill>
                <a:srgbClr val="663300"/>
              </a:solidFill>
              <a:latin typeface="Arial"/>
            </a:endParaRPr>
          </a:p>
          <a:p>
            <a:pPr lvl="3" marL="140796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ourth Outline Level</a:t>
            </a:r>
            <a:endParaRPr b="0" lang="en-US" sz="3600" spc="-1" strike="noStrike">
              <a:solidFill>
                <a:srgbClr val="663300"/>
              </a:solidFill>
              <a:latin typeface="Arial"/>
            </a:endParaRPr>
          </a:p>
          <a:p>
            <a:pPr lvl="4"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ifth Outline Level</a:t>
            </a:r>
            <a:endParaRPr b="0" lang="en-US" sz="3600" spc="-1" strike="noStrike">
              <a:solidFill>
                <a:srgbClr val="663300"/>
              </a:solidFill>
              <a:latin typeface="Arial"/>
            </a:endParaRPr>
          </a:p>
          <a:p>
            <a:pPr lvl="5"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ixth Outline Level</a:t>
            </a:r>
            <a:endParaRPr b="0" lang="en-US" sz="3600" spc="-1" strike="noStrike">
              <a:solidFill>
                <a:srgbClr val="663300"/>
              </a:solidFill>
              <a:latin typeface="Arial"/>
            </a:endParaRPr>
          </a:p>
          <a:p>
            <a:pPr lvl="6"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venth Outline Level</a:t>
            </a:r>
            <a:endParaRPr b="0" lang="en-US" sz="3600" spc="-1" strike="noStrike">
              <a:solidFill>
                <a:srgbClr val="663300"/>
              </a:solidFill>
              <a:latin typeface="Arial"/>
            </a:endParaRPr>
          </a:p>
        </p:txBody>
      </p:sp>
      <p:sp>
        <p:nvSpPr>
          <p:cNvPr id="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CBE5-F2F5-47A4-AF2F-6DE86EA73A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143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EBDE-26A4-4048-A1C0-4EEB7A9EDF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1143000" cy="685800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87000"/>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Click to edit the outline text format</a:t>
            </a:r>
            <a:endParaRPr b="0" lang="en-US" sz="3600" spc="-1" strike="noStrike">
              <a:solidFill>
                <a:srgbClr val="663300"/>
              </a:solidFill>
              <a:latin typeface="Arial"/>
            </a:endParaRPr>
          </a:p>
          <a:p>
            <a:pPr lvl="1" marL="397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cond Outline Level</a:t>
            </a:r>
            <a:endParaRPr b="0" lang="en-US" sz="3600" spc="-1" strike="noStrike">
              <a:solidFill>
                <a:srgbClr val="663300"/>
              </a:solidFill>
              <a:latin typeface="Arial"/>
            </a:endParaRPr>
          </a:p>
          <a:p>
            <a:pPr lvl="2" marL="795240" algn="ctr">
              <a:spcBef>
                <a:spcPts val="901"/>
              </a:spcBef>
              <a:buClr>
                <a:srgbClr val="ff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Third Outline Level</a:t>
            </a:r>
            <a:endParaRPr b="0" lang="en-US" sz="3600" spc="-1" strike="noStrike">
              <a:solidFill>
                <a:srgbClr val="663300"/>
              </a:solidFill>
              <a:latin typeface="Arial"/>
            </a:endParaRPr>
          </a:p>
          <a:p>
            <a:pPr lvl="3" marL="1193040" algn="ctr">
              <a:spcBef>
                <a:spcPts val="9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ourth Outline Level</a:t>
            </a:r>
            <a:endParaRPr b="0" lang="en-US" sz="3600" spc="-1" strike="noStrike">
              <a:solidFill>
                <a:srgbClr val="663300"/>
              </a:solidFill>
              <a:latin typeface="Arial"/>
            </a:endParaRPr>
          </a:p>
          <a:p>
            <a:pPr lvl="4" marL="1590840" algn="ctr">
              <a:spcBef>
                <a:spcPts val="9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ifth Outline Level</a:t>
            </a:r>
            <a:endParaRPr b="0" lang="en-US" sz="3600" spc="-1" strike="noStrike">
              <a:solidFill>
                <a:srgbClr val="663300"/>
              </a:solidFill>
              <a:latin typeface="Arial"/>
            </a:endParaRPr>
          </a:p>
          <a:p>
            <a:pPr lvl="5" marL="1590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ixth Outline Level</a:t>
            </a:r>
            <a:endParaRPr b="0" lang="en-US" sz="3600" spc="-1" strike="noStrike">
              <a:solidFill>
                <a:srgbClr val="663300"/>
              </a:solidFill>
              <a:latin typeface="Arial"/>
            </a:endParaRPr>
          </a:p>
          <a:p>
            <a:pPr lvl="6" marL="1590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venth Outline Level</a:t>
            </a:r>
            <a:endParaRPr b="0" lang="en-US" sz="36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122120" y="1604520"/>
            <a:ext cx="7483320" cy="3148200"/>
          </a:xfrm>
          <a:prstGeom prst="rect">
            <a:avLst/>
          </a:prstGeom>
          <a:noFill/>
          <a:ln w="0">
            <a:noFill/>
          </a:ln>
        </p:spPr>
        <p:txBody>
          <a:bodyPr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63300"/>
                </a:solidFill>
                <a:latin typeface="Arial Black"/>
              </a:rPr>
              <a:t>FOOD CHAINS, WEBS &amp; PYRAMIDS</a:t>
            </a:r>
            <a:endParaRPr b="0" lang="en-US" sz="50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Black"/>
              </a:rPr>
              <a:t>OMNIVORES</a:t>
            </a:r>
            <a:endParaRPr b="0" lang="en-US" sz="5400" spc="-1" strike="noStrike">
              <a:solidFill>
                <a:srgbClr val="003300"/>
              </a:solidFill>
              <a:latin typeface="Arial Black"/>
            </a:endParaRPr>
          </a:p>
        </p:txBody>
      </p:sp>
      <p:sp>
        <p:nvSpPr>
          <p:cNvPr id="352" name="PlaceHolder 2"/>
          <p:cNvSpPr>
            <a:spLocks noGrp="1"/>
          </p:cNvSpPr>
          <p:nvPr>
            <p:ph/>
          </p:nvPr>
        </p:nvSpPr>
        <p:spPr>
          <a:xfrm>
            <a:off x="1360440" y="1865160"/>
            <a:ext cx="6918480" cy="7207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What are omnivores?</a:t>
            </a:r>
            <a:endParaRPr b="0" lang="en-US" sz="4000" spc="-1" strike="noStrike">
              <a:solidFill>
                <a:srgbClr val="663300"/>
              </a:solidFill>
              <a:latin typeface="Arial"/>
            </a:endParaRPr>
          </a:p>
        </p:txBody>
      </p:sp>
      <p:grpSp>
        <p:nvGrpSpPr>
          <p:cNvPr id="353" name=""/>
          <p:cNvGrpSpPr/>
          <p:nvPr/>
        </p:nvGrpSpPr>
        <p:grpSpPr>
          <a:xfrm>
            <a:off x="1665360" y="4430880"/>
            <a:ext cx="6691320" cy="1979280"/>
            <a:chOff x="1665360" y="4430880"/>
            <a:chExt cx="6691320" cy="1979280"/>
          </a:xfrm>
        </p:grpSpPr>
        <p:pic>
          <p:nvPicPr>
            <p:cNvPr id="354" name="" descr=""/>
            <p:cNvPicPr/>
            <p:nvPr/>
          </p:nvPicPr>
          <p:blipFill>
            <a:blip r:embed="rId1"/>
            <a:stretch/>
          </p:blipFill>
          <p:spPr>
            <a:xfrm>
              <a:off x="1665360" y="4438800"/>
              <a:ext cx="2970000" cy="1971360"/>
            </a:xfrm>
            <a:prstGeom prst="rect">
              <a:avLst/>
            </a:prstGeom>
            <a:ln w="0">
              <a:noFill/>
            </a:ln>
          </p:spPr>
        </p:pic>
        <p:pic>
          <p:nvPicPr>
            <p:cNvPr id="355" name="" descr=""/>
            <p:cNvPicPr/>
            <p:nvPr/>
          </p:nvPicPr>
          <p:blipFill>
            <a:blip r:embed="rId2"/>
            <a:stretch/>
          </p:blipFill>
          <p:spPr>
            <a:xfrm>
              <a:off x="5342040" y="4430880"/>
              <a:ext cx="3014640" cy="1971360"/>
            </a:xfrm>
            <a:prstGeom prst="rect">
              <a:avLst/>
            </a:prstGeom>
            <a:ln w="0">
              <a:noFill/>
            </a:ln>
          </p:spPr>
        </p:pic>
      </p:grpSp>
      <p:sp>
        <p:nvSpPr>
          <p:cNvPr id="356" name=""/>
          <p:cNvSpPr/>
          <p:nvPr/>
        </p:nvSpPr>
        <p:spPr>
          <a:xfrm>
            <a:off x="1330200" y="2660760"/>
            <a:ext cx="6118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Ex. bears and huma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21880" y="0"/>
            <a:ext cx="821052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Food Chains &amp; Food Webs</a:t>
            </a:r>
            <a:endParaRPr b="0" lang="en-US" sz="4400" spc="-1" strike="noStrike">
              <a:solidFill>
                <a:srgbClr val="003300"/>
              </a:solidFill>
              <a:latin typeface="Arial Black"/>
            </a:endParaRPr>
          </a:p>
        </p:txBody>
      </p:sp>
      <p:sp>
        <p:nvSpPr>
          <p:cNvPr id="358" name="PlaceHolder 2"/>
          <p:cNvSpPr>
            <a:spLocks noGrp="1"/>
          </p:cNvSpPr>
          <p:nvPr>
            <p:ph/>
          </p:nvPr>
        </p:nvSpPr>
        <p:spPr>
          <a:xfrm>
            <a:off x="1022040" y="1785960"/>
            <a:ext cx="7816680" cy="254304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Organisms in ecosystems transfer energy from organism to organism in feeding relationships called </a:t>
            </a:r>
            <a:r>
              <a:rPr b="0" lang="en-US" sz="3600" spc="-1" strike="noStrike" u="sng">
                <a:solidFill>
                  <a:srgbClr val="663300"/>
                </a:solidFill>
                <a:uFillTx/>
                <a:latin typeface="Arial"/>
              </a:rPr>
              <a:t>trophic levels</a:t>
            </a:r>
            <a:r>
              <a:rPr b="0" lang="en-US" sz="3600" spc="-1" strike="noStrike">
                <a:solidFill>
                  <a:srgbClr val="663300"/>
                </a:solidFill>
                <a:latin typeface="Arial"/>
              </a:rPr>
              <a:t>.</a:t>
            </a:r>
            <a:endParaRPr b="0" lang="en-US" sz="36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21880" y="0"/>
            <a:ext cx="821052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Food Chain Example:</a:t>
            </a:r>
            <a:endParaRPr b="0" lang="en-US" sz="4400" spc="-1" strike="noStrike">
              <a:solidFill>
                <a:srgbClr val="003300"/>
              </a:solidFill>
              <a:latin typeface="Arial Black"/>
            </a:endParaRPr>
          </a:p>
        </p:txBody>
      </p:sp>
      <p:grpSp>
        <p:nvGrpSpPr>
          <p:cNvPr id="360" name=""/>
          <p:cNvGrpSpPr/>
          <p:nvPr/>
        </p:nvGrpSpPr>
        <p:grpSpPr>
          <a:xfrm>
            <a:off x="609480" y="2209680"/>
            <a:ext cx="8534520" cy="2159280"/>
            <a:chOff x="609480" y="2209680"/>
            <a:chExt cx="8534520" cy="2159280"/>
          </a:xfrm>
        </p:grpSpPr>
        <p:sp>
          <p:nvSpPr>
            <p:cNvPr id="361" name=""/>
            <p:cNvSpPr/>
            <p:nvPr/>
          </p:nvSpPr>
          <p:spPr>
            <a:xfrm>
              <a:off x="609480" y="2209680"/>
              <a:ext cx="8534520" cy="21592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Algae          Krill          Cod          Leopard           Killer</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                                                        </a:t>
              </a:r>
              <a:r>
                <a:rPr b="0" lang="en-US" sz="3000" spc="-1" strike="noStrike">
                  <a:solidFill>
                    <a:srgbClr val="663300"/>
                  </a:solidFill>
                  <a:latin typeface="Times New Roman"/>
                </a:rPr>
                <a:t>Seal              Whale</a:t>
              </a:r>
              <a:endParaRPr b="0" lang="en-US" sz="3000" spc="-1" strike="noStrike">
                <a:solidFill>
                  <a:srgbClr val="ffffff"/>
                </a:solidFill>
                <a:latin typeface="Times New Roman"/>
              </a:endParaRPr>
            </a:p>
          </p:txBody>
        </p:sp>
        <p:sp>
          <p:nvSpPr>
            <p:cNvPr id="362" name=""/>
            <p:cNvSpPr/>
            <p:nvPr/>
          </p:nvSpPr>
          <p:spPr>
            <a:xfrm>
              <a:off x="1676160" y="2514600"/>
              <a:ext cx="8384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3429000" y="2514600"/>
              <a:ext cx="7617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5029200" y="2514600"/>
              <a:ext cx="7617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315200" y="2438280"/>
              <a:ext cx="7617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6" name=""/>
          <p:cNvSpPr/>
          <p:nvPr/>
        </p:nvSpPr>
        <p:spPr>
          <a:xfrm>
            <a:off x="685800" y="3817800"/>
            <a:ext cx="14479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producer</a:t>
            </a:r>
            <a:endParaRPr b="0" lang="en-US" sz="2500" spc="-1" strike="noStrike">
              <a:solidFill>
                <a:srgbClr val="ffffff"/>
              </a:solidFill>
              <a:latin typeface="Times New Roman"/>
            </a:endParaRPr>
          </a:p>
        </p:txBody>
      </p:sp>
      <p:sp>
        <p:nvSpPr>
          <p:cNvPr id="367" name=""/>
          <p:cNvSpPr/>
          <p:nvPr/>
        </p:nvSpPr>
        <p:spPr>
          <a:xfrm>
            <a:off x="2209680" y="3817800"/>
            <a:ext cx="144792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primary consumer</a:t>
            </a:r>
            <a:endParaRPr b="0" lang="en-US" sz="2500" spc="-1" strike="noStrike">
              <a:solidFill>
                <a:srgbClr val="ffffff"/>
              </a:solidFill>
              <a:latin typeface="Times New Roman"/>
            </a:endParaRPr>
          </a:p>
        </p:txBody>
      </p:sp>
      <p:sp>
        <p:nvSpPr>
          <p:cNvPr id="368" name=""/>
          <p:cNvSpPr/>
          <p:nvPr/>
        </p:nvSpPr>
        <p:spPr>
          <a:xfrm>
            <a:off x="7529400" y="3817800"/>
            <a:ext cx="161460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quaternary consumer</a:t>
            </a:r>
            <a:endParaRPr b="0" lang="en-US" sz="2500" spc="-1" strike="noStrike">
              <a:solidFill>
                <a:srgbClr val="ffffff"/>
              </a:solidFill>
              <a:latin typeface="Times New Roman"/>
            </a:endParaRPr>
          </a:p>
        </p:txBody>
      </p:sp>
      <p:sp>
        <p:nvSpPr>
          <p:cNvPr id="369" name=""/>
          <p:cNvSpPr/>
          <p:nvPr/>
        </p:nvSpPr>
        <p:spPr>
          <a:xfrm>
            <a:off x="5715000" y="3817800"/>
            <a:ext cx="144792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tertiary consumer</a:t>
            </a:r>
            <a:endParaRPr b="0" lang="en-US" sz="2500" spc="-1" strike="noStrike">
              <a:solidFill>
                <a:srgbClr val="ffffff"/>
              </a:solidFill>
              <a:latin typeface="Times New Roman"/>
            </a:endParaRPr>
          </a:p>
        </p:txBody>
      </p:sp>
      <p:sp>
        <p:nvSpPr>
          <p:cNvPr id="370" name=""/>
          <p:cNvSpPr/>
          <p:nvPr/>
        </p:nvSpPr>
        <p:spPr>
          <a:xfrm>
            <a:off x="3962520" y="3817800"/>
            <a:ext cx="154620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secondary consumer</a:t>
            </a:r>
            <a:endParaRPr b="0" lang="en-US" sz="2500" spc="-1" strike="noStrike">
              <a:solidFill>
                <a:srgbClr val="ffffff"/>
              </a:solidFill>
              <a:latin typeface="Times New Roman"/>
            </a:endParaRPr>
          </a:p>
        </p:txBody>
      </p:sp>
      <p:sp>
        <p:nvSpPr>
          <p:cNvPr id="371" name=""/>
          <p:cNvSpPr/>
          <p:nvPr/>
        </p:nvSpPr>
        <p:spPr>
          <a:xfrm>
            <a:off x="531720" y="53085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
        <p:nvSpPr>
          <p:cNvPr id="372" name=""/>
          <p:cNvSpPr/>
          <p:nvPr/>
        </p:nvSpPr>
        <p:spPr>
          <a:xfrm>
            <a:off x="1979640" y="5308560"/>
            <a:ext cx="14479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herbivore</a:t>
            </a:r>
            <a:endParaRPr b="0" lang="en-US" sz="2500" spc="-1" strike="noStrike">
              <a:solidFill>
                <a:srgbClr val="ffffff"/>
              </a:solidFill>
              <a:latin typeface="Times New Roman"/>
            </a:endParaRPr>
          </a:p>
        </p:txBody>
      </p:sp>
      <p:sp>
        <p:nvSpPr>
          <p:cNvPr id="373" name=""/>
          <p:cNvSpPr/>
          <p:nvPr/>
        </p:nvSpPr>
        <p:spPr>
          <a:xfrm>
            <a:off x="7466040" y="5384880"/>
            <a:ext cx="14479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carnivore</a:t>
            </a:r>
            <a:endParaRPr b="0" lang="en-US" sz="2500" spc="-1" strike="noStrike">
              <a:solidFill>
                <a:srgbClr val="ffffff"/>
              </a:solidFill>
              <a:latin typeface="Times New Roman"/>
            </a:endParaRPr>
          </a:p>
        </p:txBody>
      </p:sp>
      <p:sp>
        <p:nvSpPr>
          <p:cNvPr id="374" name=""/>
          <p:cNvSpPr/>
          <p:nvPr/>
        </p:nvSpPr>
        <p:spPr>
          <a:xfrm>
            <a:off x="5560920" y="5384880"/>
            <a:ext cx="14479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carnivore</a:t>
            </a:r>
            <a:endParaRPr b="0" lang="en-US" sz="2500" spc="-1" strike="noStrike">
              <a:solidFill>
                <a:srgbClr val="ffffff"/>
              </a:solidFill>
              <a:latin typeface="Times New Roman"/>
            </a:endParaRPr>
          </a:p>
        </p:txBody>
      </p:sp>
      <p:sp>
        <p:nvSpPr>
          <p:cNvPr id="375" name=""/>
          <p:cNvSpPr/>
          <p:nvPr/>
        </p:nvSpPr>
        <p:spPr>
          <a:xfrm>
            <a:off x="3732120" y="5384880"/>
            <a:ext cx="14479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carnivor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33120" y="0"/>
            <a:ext cx="821052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Food Chains &amp; Food Webs</a:t>
            </a:r>
            <a:endParaRPr b="0" lang="en-US" sz="4400" spc="-1" strike="noStrike">
              <a:solidFill>
                <a:srgbClr val="003300"/>
              </a:solidFill>
              <a:latin typeface="Arial Black"/>
            </a:endParaRPr>
          </a:p>
        </p:txBody>
      </p:sp>
      <p:sp>
        <p:nvSpPr>
          <p:cNvPr id="377" name="PlaceHolder 2"/>
          <p:cNvSpPr>
            <a:spLocks noGrp="1"/>
          </p:cNvSpPr>
          <p:nvPr>
            <p:ph/>
          </p:nvPr>
        </p:nvSpPr>
        <p:spPr>
          <a:xfrm>
            <a:off x="953640" y="1480680"/>
            <a:ext cx="8170920" cy="114300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would happen in this food chain if all the cod were to die?</a:t>
            </a:r>
            <a:endParaRPr b="0" lang="en-US" sz="3600" spc="-1" strike="noStrike">
              <a:solidFill>
                <a:srgbClr val="663300"/>
              </a:solidFill>
              <a:latin typeface="Arial"/>
            </a:endParaRPr>
          </a:p>
        </p:txBody>
      </p:sp>
      <p:sp>
        <p:nvSpPr>
          <p:cNvPr id="378" name=""/>
          <p:cNvSpPr/>
          <p:nvPr/>
        </p:nvSpPr>
        <p:spPr>
          <a:xfrm>
            <a:off x="954000" y="2921040"/>
            <a:ext cx="78994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would happen to krill if all algae were to die?</a:t>
            </a:r>
            <a:endParaRPr b="0" lang="en-US" sz="3600" spc="-1" strike="noStrike">
              <a:solidFill>
                <a:srgbClr val="ffffff"/>
              </a:solidFill>
              <a:latin typeface="Times New Roman"/>
            </a:endParaRPr>
          </a:p>
        </p:txBody>
      </p:sp>
      <p:sp>
        <p:nvSpPr>
          <p:cNvPr id="379" name=""/>
          <p:cNvSpPr/>
          <p:nvPr/>
        </p:nvSpPr>
        <p:spPr>
          <a:xfrm>
            <a:off x="954000" y="4416480"/>
            <a:ext cx="8015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ich is more stable, a food chain or a food web? Wh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378"/>
                                        </p:tgtEl>
                                        <p:attrNameLst>
                                          <p:attrName>style.visibility</p:attrName>
                                        </p:attrNameLst>
                                      </p:cBhvr>
                                      <p:to>
                                        <p:strVal val="visible"/>
                                      </p:to>
                                    </p:set>
                                    <p:animEffect filter="dissolve" transition="in">
                                      <p:cBhvr additive="repl">
                                        <p:cTn id="26" dur="500"/>
                                        <p:tgtEl>
                                          <p:spTgt spid="37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379"/>
                                        </p:tgtEl>
                                        <p:attrNameLst>
                                          <p:attrName>style.visibility</p:attrName>
                                        </p:attrNameLst>
                                      </p:cBhvr>
                                      <p:to>
                                        <p:strVal val="visible"/>
                                      </p:to>
                                    </p:set>
                                    <p:animEffect filter="dissolve" transition="in">
                                      <p:cBhvr additive="repl">
                                        <p:cTn id="31"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381" name="PlaceHolder 2"/>
          <p:cNvSpPr>
            <a:spLocks noGrp="1"/>
          </p:cNvSpPr>
          <p:nvPr>
            <p:ph/>
          </p:nvPr>
        </p:nvSpPr>
        <p:spPr>
          <a:xfrm>
            <a:off x="995400" y="1790640"/>
            <a:ext cx="3581280" cy="401976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Instead of representing trophic levels in a food web, an ecological pyramid can be used.</a:t>
            </a:r>
            <a:endParaRPr b="0" lang="en-US" sz="3600" spc="-1" strike="noStrike">
              <a:solidFill>
                <a:srgbClr val="663300"/>
              </a:solidFill>
              <a:latin typeface="Arial"/>
            </a:endParaRPr>
          </a:p>
        </p:txBody>
      </p:sp>
      <p:grpSp>
        <p:nvGrpSpPr>
          <p:cNvPr id="382" name=""/>
          <p:cNvGrpSpPr/>
          <p:nvPr/>
        </p:nvGrpSpPr>
        <p:grpSpPr>
          <a:xfrm>
            <a:off x="4221000" y="1612800"/>
            <a:ext cx="4621320" cy="4389480"/>
            <a:chOff x="4221000" y="1612800"/>
            <a:chExt cx="4621320" cy="4389480"/>
          </a:xfrm>
        </p:grpSpPr>
        <p:sp>
          <p:nvSpPr>
            <p:cNvPr id="383" name=""/>
            <p:cNvSpPr/>
            <p:nvPr/>
          </p:nvSpPr>
          <p:spPr>
            <a:xfrm>
              <a:off x="4221000" y="1612800"/>
              <a:ext cx="4621320" cy="4389480"/>
            </a:xfrm>
            <a:prstGeom prst="triangle">
              <a:avLst>
                <a:gd name="adj" fmla="val 50000"/>
              </a:avLst>
            </a:prstGeom>
            <a:no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4721400" y="5021280"/>
              <a:ext cx="360828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286240" y="3989520"/>
              <a:ext cx="251172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5753160" y="3075120"/>
              <a:ext cx="157788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6134040" y="2394000"/>
              <a:ext cx="86508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grpSp>
        <p:nvGrpSpPr>
          <p:cNvPr id="388" name=""/>
          <p:cNvGrpSpPr/>
          <p:nvPr/>
        </p:nvGrpSpPr>
        <p:grpSpPr>
          <a:xfrm>
            <a:off x="1100160" y="1158840"/>
            <a:ext cx="7315200" cy="5486400"/>
            <a:chOff x="1100160" y="1158840"/>
            <a:chExt cx="7315200" cy="5486400"/>
          </a:xfrm>
        </p:grpSpPr>
        <p:sp>
          <p:nvSpPr>
            <p:cNvPr id="389" name=""/>
            <p:cNvSpPr/>
            <p:nvPr/>
          </p:nvSpPr>
          <p:spPr>
            <a:xfrm>
              <a:off x="1100160" y="1158840"/>
              <a:ext cx="7315200" cy="548640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4065120" y="2194920"/>
              <a:ext cx="14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2133720" y="5098320"/>
              <a:ext cx="528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2894760" y="4016880"/>
              <a:ext cx="378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3479760" y="3085200"/>
              <a:ext cx="257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4" name=""/>
          <p:cNvSpPr/>
          <p:nvPr/>
        </p:nvSpPr>
        <p:spPr>
          <a:xfrm>
            <a:off x="3691080" y="5425920"/>
            <a:ext cx="175248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Algae</a:t>
            </a:r>
            <a:endParaRPr b="0" lang="en-US" sz="5000" spc="-1" strike="noStrike">
              <a:solidFill>
                <a:srgbClr val="ffffff"/>
              </a:solidFill>
              <a:latin typeface="Times New Roman"/>
            </a:endParaRPr>
          </a:p>
        </p:txBody>
      </p:sp>
      <p:sp>
        <p:nvSpPr>
          <p:cNvPr id="395" name=""/>
          <p:cNvSpPr/>
          <p:nvPr/>
        </p:nvSpPr>
        <p:spPr>
          <a:xfrm>
            <a:off x="3919680" y="4130640"/>
            <a:ext cx="16002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Krill</a:t>
            </a:r>
            <a:endParaRPr b="0" lang="en-US" sz="5000" spc="-1" strike="noStrike">
              <a:solidFill>
                <a:srgbClr val="ffffff"/>
              </a:solidFill>
              <a:latin typeface="Times New Roman"/>
            </a:endParaRPr>
          </a:p>
        </p:txBody>
      </p:sp>
      <p:sp>
        <p:nvSpPr>
          <p:cNvPr id="396" name=""/>
          <p:cNvSpPr/>
          <p:nvPr/>
        </p:nvSpPr>
        <p:spPr>
          <a:xfrm>
            <a:off x="4071960" y="3139920"/>
            <a:ext cx="18288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Cod</a:t>
            </a:r>
            <a:endParaRPr b="0" lang="en-US" sz="5000" spc="-1" strike="noStrike">
              <a:solidFill>
                <a:srgbClr val="ffffff"/>
              </a:solidFill>
              <a:latin typeface="Times New Roman"/>
            </a:endParaRPr>
          </a:p>
        </p:txBody>
      </p:sp>
      <p:sp>
        <p:nvSpPr>
          <p:cNvPr id="397" name=""/>
          <p:cNvSpPr/>
          <p:nvPr/>
        </p:nvSpPr>
        <p:spPr>
          <a:xfrm>
            <a:off x="3995640" y="2073240"/>
            <a:ext cx="152424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Leopard Seal</a:t>
            </a:r>
            <a:endParaRPr b="0" lang="en-US" sz="3000" spc="-1" strike="noStrike">
              <a:solidFill>
                <a:srgbClr val="ffffff"/>
              </a:solidFill>
              <a:latin typeface="Times New Roman"/>
            </a:endParaRPr>
          </a:p>
        </p:txBody>
      </p:sp>
      <p:sp>
        <p:nvSpPr>
          <p:cNvPr id="398" name=""/>
          <p:cNvSpPr/>
          <p:nvPr/>
        </p:nvSpPr>
        <p:spPr>
          <a:xfrm>
            <a:off x="4224240" y="1235160"/>
            <a:ext cx="16765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Killer Whale</a:t>
            </a:r>
            <a:endParaRPr b="0" lang="en-US" sz="3000" spc="-1" strike="noStrike">
              <a:solidFill>
                <a:srgbClr val="ffffff"/>
              </a:solidFill>
              <a:latin typeface="Times New Roman"/>
            </a:endParaRPr>
          </a:p>
        </p:txBody>
      </p:sp>
      <p:sp>
        <p:nvSpPr>
          <p:cNvPr id="399" name=""/>
          <p:cNvSpPr/>
          <p:nvPr/>
        </p:nvSpPr>
        <p:spPr>
          <a:xfrm>
            <a:off x="966960" y="0"/>
            <a:ext cx="7772400" cy="1162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6696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401" name=""/>
          <p:cNvSpPr/>
          <p:nvPr/>
        </p:nvSpPr>
        <p:spPr>
          <a:xfrm>
            <a:off x="630360" y="5308560"/>
            <a:ext cx="198108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1</a:t>
            </a:r>
            <a:r>
              <a:rPr b="0" lang="en-US" sz="3000" spc="-1" strike="noStrike" baseline="30000">
                <a:solidFill>
                  <a:srgbClr val="ff0000"/>
                </a:solidFill>
                <a:latin typeface="Times New Roman"/>
              </a:rPr>
              <a:t>st</a:t>
            </a:r>
            <a:r>
              <a:rPr b="0" lang="en-US" sz="3000" spc="-1" strike="noStrike">
                <a:solidFill>
                  <a:srgbClr val="ff0000"/>
                </a:solidFill>
                <a:latin typeface="Times New Roman"/>
              </a:rPr>
              <a:t> Trophic Level</a:t>
            </a:r>
            <a:endParaRPr b="0" lang="en-US" sz="3000" spc="-1" strike="noStrike">
              <a:solidFill>
                <a:srgbClr val="ffffff"/>
              </a:solidFill>
              <a:latin typeface="Times New Roman"/>
            </a:endParaRPr>
          </a:p>
        </p:txBody>
      </p:sp>
      <p:sp>
        <p:nvSpPr>
          <p:cNvPr id="402" name=""/>
          <p:cNvSpPr/>
          <p:nvPr/>
        </p:nvSpPr>
        <p:spPr>
          <a:xfrm>
            <a:off x="1127160" y="3843360"/>
            <a:ext cx="205740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2</a:t>
            </a:r>
            <a:r>
              <a:rPr b="0" lang="en-US" sz="3000" spc="-1" strike="noStrike" baseline="30000">
                <a:solidFill>
                  <a:srgbClr val="ff0000"/>
                </a:solidFill>
                <a:latin typeface="Times New Roman"/>
              </a:rPr>
              <a:t>nd</a:t>
            </a:r>
            <a:r>
              <a:rPr b="0" lang="en-US" sz="3000" spc="-1" strike="noStrike">
                <a:solidFill>
                  <a:srgbClr val="ff0000"/>
                </a:solidFill>
                <a:latin typeface="Times New Roman"/>
              </a:rPr>
              <a:t> Trophic Level</a:t>
            </a:r>
            <a:endParaRPr b="0" lang="en-US" sz="3000" spc="-1" strike="noStrike">
              <a:solidFill>
                <a:srgbClr val="ffffff"/>
              </a:solidFill>
              <a:latin typeface="Times New Roman"/>
            </a:endParaRPr>
          </a:p>
        </p:txBody>
      </p:sp>
      <p:sp>
        <p:nvSpPr>
          <p:cNvPr id="403" name=""/>
          <p:cNvSpPr/>
          <p:nvPr/>
        </p:nvSpPr>
        <p:spPr>
          <a:xfrm>
            <a:off x="2332080" y="286236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3</a:t>
            </a:r>
            <a:r>
              <a:rPr b="0" lang="en-US" sz="3000" spc="-1" strike="noStrike" baseline="30000">
                <a:solidFill>
                  <a:srgbClr val="ff0000"/>
                </a:solidFill>
                <a:latin typeface="Times New Roman"/>
              </a:rPr>
              <a:t>rd</a:t>
            </a:r>
            <a:r>
              <a:rPr b="0" lang="en-US" sz="3000" spc="-1" strike="noStrike">
                <a:solidFill>
                  <a:srgbClr val="ff0000"/>
                </a:solidFill>
                <a:latin typeface="Times New Roman"/>
              </a:rPr>
              <a:t> TL</a:t>
            </a:r>
            <a:endParaRPr b="0" lang="en-US" sz="3000" spc="-1" strike="noStrike">
              <a:solidFill>
                <a:srgbClr val="ffffff"/>
              </a:solidFill>
              <a:latin typeface="Times New Roman"/>
            </a:endParaRPr>
          </a:p>
        </p:txBody>
      </p:sp>
      <p:sp>
        <p:nvSpPr>
          <p:cNvPr id="404" name=""/>
          <p:cNvSpPr/>
          <p:nvPr/>
        </p:nvSpPr>
        <p:spPr>
          <a:xfrm>
            <a:off x="2833560" y="2057400"/>
            <a:ext cx="15242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4</a:t>
            </a:r>
            <a:r>
              <a:rPr b="0" lang="en-US" sz="3000" spc="-1" strike="noStrike" baseline="30000">
                <a:solidFill>
                  <a:srgbClr val="ff0000"/>
                </a:solidFill>
                <a:latin typeface="Times New Roman"/>
              </a:rPr>
              <a:t>th</a:t>
            </a:r>
            <a:r>
              <a:rPr b="0" lang="en-US" sz="3000" spc="-1" strike="noStrike">
                <a:solidFill>
                  <a:srgbClr val="ff0000"/>
                </a:solidFill>
                <a:latin typeface="Times New Roman"/>
              </a:rPr>
              <a:t> TL</a:t>
            </a:r>
            <a:endParaRPr b="0" lang="en-US" sz="3000" spc="-1" strike="noStrike">
              <a:solidFill>
                <a:srgbClr val="ffffff"/>
              </a:solidFill>
              <a:latin typeface="Times New Roman"/>
            </a:endParaRPr>
          </a:p>
        </p:txBody>
      </p:sp>
      <p:sp>
        <p:nvSpPr>
          <p:cNvPr id="405" name=""/>
          <p:cNvSpPr/>
          <p:nvPr/>
        </p:nvSpPr>
        <p:spPr>
          <a:xfrm>
            <a:off x="3321000" y="1109520"/>
            <a:ext cx="1295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5</a:t>
            </a:r>
            <a:r>
              <a:rPr b="0" lang="en-US" sz="3000" spc="-1" strike="noStrike" baseline="30000">
                <a:solidFill>
                  <a:srgbClr val="ff0000"/>
                </a:solidFill>
                <a:latin typeface="Times New Roman"/>
              </a:rPr>
              <a:t>th</a:t>
            </a:r>
            <a:r>
              <a:rPr b="0" lang="en-US" sz="3000" spc="-1" strike="noStrike">
                <a:solidFill>
                  <a:srgbClr val="ff0000"/>
                </a:solidFill>
                <a:latin typeface="Times New Roman"/>
              </a:rPr>
              <a:t> TL</a:t>
            </a:r>
            <a:endParaRPr b="0" lang="en-US" sz="3000" spc="-1" strike="noStrike">
              <a:solidFill>
                <a:srgbClr val="ffffff"/>
              </a:solidFill>
              <a:latin typeface="Times New Roman"/>
            </a:endParaRPr>
          </a:p>
        </p:txBody>
      </p:sp>
      <p:grpSp>
        <p:nvGrpSpPr>
          <p:cNvPr id="406" name=""/>
          <p:cNvGrpSpPr/>
          <p:nvPr/>
        </p:nvGrpSpPr>
        <p:grpSpPr>
          <a:xfrm>
            <a:off x="1828800" y="1141560"/>
            <a:ext cx="7315200" cy="5486400"/>
            <a:chOff x="1828800" y="1141560"/>
            <a:chExt cx="7315200" cy="5486400"/>
          </a:xfrm>
        </p:grpSpPr>
        <p:grpSp>
          <p:nvGrpSpPr>
            <p:cNvPr id="407" name=""/>
            <p:cNvGrpSpPr/>
            <p:nvPr/>
          </p:nvGrpSpPr>
          <p:grpSpPr>
            <a:xfrm>
              <a:off x="1828800" y="1141560"/>
              <a:ext cx="7315200" cy="5486400"/>
              <a:chOff x="1828800" y="1141560"/>
              <a:chExt cx="7315200" cy="5486400"/>
            </a:xfrm>
          </p:grpSpPr>
          <p:sp>
            <p:nvSpPr>
              <p:cNvPr id="408" name=""/>
              <p:cNvSpPr/>
              <p:nvPr/>
            </p:nvSpPr>
            <p:spPr>
              <a:xfrm>
                <a:off x="1828800" y="1141560"/>
                <a:ext cx="7315200" cy="548640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4793760" y="2177640"/>
                <a:ext cx="14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2862360" y="5081040"/>
                <a:ext cx="528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3623400" y="3999600"/>
                <a:ext cx="378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208400" y="3067920"/>
                <a:ext cx="257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4419720" y="5409000"/>
              <a:ext cx="175248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Algae</a:t>
              </a:r>
              <a:endParaRPr b="0" lang="en-US" sz="5000" spc="-1" strike="noStrike">
                <a:solidFill>
                  <a:srgbClr val="ffffff"/>
                </a:solidFill>
                <a:latin typeface="Times New Roman"/>
              </a:endParaRPr>
            </a:p>
          </p:txBody>
        </p:sp>
        <p:sp>
          <p:nvSpPr>
            <p:cNvPr id="414" name=""/>
            <p:cNvSpPr/>
            <p:nvPr/>
          </p:nvSpPr>
          <p:spPr>
            <a:xfrm>
              <a:off x="4648320" y="4113360"/>
              <a:ext cx="16002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Krill</a:t>
              </a:r>
              <a:endParaRPr b="0" lang="en-US" sz="5000" spc="-1" strike="noStrike">
                <a:solidFill>
                  <a:srgbClr val="ffffff"/>
                </a:solidFill>
                <a:latin typeface="Times New Roman"/>
              </a:endParaRPr>
            </a:p>
          </p:txBody>
        </p:sp>
        <p:sp>
          <p:nvSpPr>
            <p:cNvPr id="415" name=""/>
            <p:cNvSpPr/>
            <p:nvPr/>
          </p:nvSpPr>
          <p:spPr>
            <a:xfrm>
              <a:off x="4800600" y="3123000"/>
              <a:ext cx="18288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Cod</a:t>
              </a:r>
              <a:endParaRPr b="0" lang="en-US" sz="5000" spc="-1" strike="noStrike">
                <a:solidFill>
                  <a:srgbClr val="ffffff"/>
                </a:solidFill>
                <a:latin typeface="Times New Roman"/>
              </a:endParaRPr>
            </a:p>
          </p:txBody>
        </p:sp>
        <p:sp>
          <p:nvSpPr>
            <p:cNvPr id="416" name=""/>
            <p:cNvSpPr/>
            <p:nvPr/>
          </p:nvSpPr>
          <p:spPr>
            <a:xfrm>
              <a:off x="4724640" y="2055960"/>
              <a:ext cx="152388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Leopard Seal</a:t>
              </a:r>
              <a:endParaRPr b="0" lang="en-US" sz="3000" spc="-1" strike="noStrike">
                <a:solidFill>
                  <a:srgbClr val="ffffff"/>
                </a:solidFill>
                <a:latin typeface="Times New Roman"/>
              </a:endParaRPr>
            </a:p>
          </p:txBody>
        </p:sp>
        <p:sp>
          <p:nvSpPr>
            <p:cNvPr id="417" name=""/>
            <p:cNvSpPr/>
            <p:nvPr/>
          </p:nvSpPr>
          <p:spPr>
            <a:xfrm>
              <a:off x="4953240" y="1217880"/>
              <a:ext cx="16761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Killer Whale</a:t>
              </a:r>
              <a:endParaRPr b="0" lang="en-US" sz="3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6696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419" name=""/>
          <p:cNvSpPr/>
          <p:nvPr/>
        </p:nvSpPr>
        <p:spPr>
          <a:xfrm>
            <a:off x="7086600" y="5181480"/>
            <a:ext cx="1600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Producer</a:t>
            </a:r>
            <a:endParaRPr b="0" lang="en-US" sz="3000" spc="-1" strike="noStrike">
              <a:solidFill>
                <a:srgbClr val="ffffff"/>
              </a:solidFill>
              <a:latin typeface="Times New Roman"/>
            </a:endParaRPr>
          </a:p>
        </p:txBody>
      </p:sp>
      <p:sp>
        <p:nvSpPr>
          <p:cNvPr id="420" name=""/>
          <p:cNvSpPr/>
          <p:nvPr/>
        </p:nvSpPr>
        <p:spPr>
          <a:xfrm>
            <a:off x="6019920" y="3962520"/>
            <a:ext cx="3124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Primary Consumer</a:t>
            </a:r>
            <a:endParaRPr b="0" lang="en-US" sz="3000" spc="-1" strike="noStrike">
              <a:solidFill>
                <a:srgbClr val="ffffff"/>
              </a:solidFill>
              <a:latin typeface="Times New Roman"/>
            </a:endParaRPr>
          </a:p>
        </p:txBody>
      </p:sp>
      <p:sp>
        <p:nvSpPr>
          <p:cNvPr id="421" name=""/>
          <p:cNvSpPr/>
          <p:nvPr/>
        </p:nvSpPr>
        <p:spPr>
          <a:xfrm>
            <a:off x="5486400" y="2971800"/>
            <a:ext cx="3657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Secondary Consumer</a:t>
            </a:r>
            <a:endParaRPr b="0" lang="en-US" sz="3000" spc="-1" strike="noStrike">
              <a:solidFill>
                <a:srgbClr val="ffffff"/>
              </a:solidFill>
              <a:latin typeface="Times New Roman"/>
            </a:endParaRPr>
          </a:p>
        </p:txBody>
      </p:sp>
      <p:sp>
        <p:nvSpPr>
          <p:cNvPr id="422" name=""/>
          <p:cNvSpPr/>
          <p:nvPr/>
        </p:nvSpPr>
        <p:spPr>
          <a:xfrm>
            <a:off x="5029200" y="2057400"/>
            <a:ext cx="38098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Tertiary Consumer</a:t>
            </a:r>
            <a:endParaRPr b="0" lang="en-US" sz="3000" spc="-1" strike="noStrike">
              <a:solidFill>
                <a:srgbClr val="ffffff"/>
              </a:solidFill>
              <a:latin typeface="Times New Roman"/>
            </a:endParaRPr>
          </a:p>
        </p:txBody>
      </p:sp>
      <p:sp>
        <p:nvSpPr>
          <p:cNvPr id="423" name=""/>
          <p:cNvSpPr/>
          <p:nvPr/>
        </p:nvSpPr>
        <p:spPr>
          <a:xfrm>
            <a:off x="4419720" y="1143000"/>
            <a:ext cx="4724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Quaternary Consumer</a:t>
            </a:r>
            <a:endParaRPr b="0" lang="en-US" sz="3000" spc="-1" strike="noStrike">
              <a:solidFill>
                <a:srgbClr val="ffffff"/>
              </a:solidFill>
              <a:latin typeface="Times New Roman"/>
            </a:endParaRPr>
          </a:p>
        </p:txBody>
      </p:sp>
      <p:grpSp>
        <p:nvGrpSpPr>
          <p:cNvPr id="424" name=""/>
          <p:cNvGrpSpPr/>
          <p:nvPr/>
        </p:nvGrpSpPr>
        <p:grpSpPr>
          <a:xfrm>
            <a:off x="0" y="1006560"/>
            <a:ext cx="7315200" cy="5486400"/>
            <a:chOff x="0" y="1006560"/>
            <a:chExt cx="7315200" cy="5486400"/>
          </a:xfrm>
        </p:grpSpPr>
        <p:grpSp>
          <p:nvGrpSpPr>
            <p:cNvPr id="425" name=""/>
            <p:cNvGrpSpPr/>
            <p:nvPr/>
          </p:nvGrpSpPr>
          <p:grpSpPr>
            <a:xfrm>
              <a:off x="0" y="1006560"/>
              <a:ext cx="7315200" cy="5486400"/>
              <a:chOff x="0" y="1006560"/>
              <a:chExt cx="7315200" cy="5486400"/>
            </a:xfrm>
          </p:grpSpPr>
          <p:sp>
            <p:nvSpPr>
              <p:cNvPr id="426" name=""/>
              <p:cNvSpPr/>
              <p:nvPr/>
            </p:nvSpPr>
            <p:spPr>
              <a:xfrm>
                <a:off x="0" y="1006560"/>
                <a:ext cx="7315200" cy="548640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2964960" y="2042640"/>
                <a:ext cx="14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1033560" y="4946040"/>
                <a:ext cx="528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1794600" y="3864600"/>
                <a:ext cx="378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2379600" y="2932920"/>
                <a:ext cx="257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1" name=""/>
            <p:cNvSpPr/>
            <p:nvPr/>
          </p:nvSpPr>
          <p:spPr>
            <a:xfrm>
              <a:off x="2590920" y="5274000"/>
              <a:ext cx="175248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Algae</a:t>
              </a:r>
              <a:endParaRPr b="0" lang="en-US" sz="5000" spc="-1" strike="noStrike">
                <a:solidFill>
                  <a:srgbClr val="ffffff"/>
                </a:solidFill>
                <a:latin typeface="Times New Roman"/>
              </a:endParaRPr>
            </a:p>
          </p:txBody>
        </p:sp>
        <p:sp>
          <p:nvSpPr>
            <p:cNvPr id="432" name=""/>
            <p:cNvSpPr/>
            <p:nvPr/>
          </p:nvSpPr>
          <p:spPr>
            <a:xfrm>
              <a:off x="2819520" y="3978360"/>
              <a:ext cx="16002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Krill</a:t>
              </a:r>
              <a:endParaRPr b="0" lang="en-US" sz="5000" spc="-1" strike="noStrike">
                <a:solidFill>
                  <a:srgbClr val="ffffff"/>
                </a:solidFill>
                <a:latin typeface="Times New Roman"/>
              </a:endParaRPr>
            </a:p>
          </p:txBody>
        </p:sp>
        <p:sp>
          <p:nvSpPr>
            <p:cNvPr id="433" name=""/>
            <p:cNvSpPr/>
            <p:nvPr/>
          </p:nvSpPr>
          <p:spPr>
            <a:xfrm>
              <a:off x="2971800" y="2988000"/>
              <a:ext cx="18288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Cod</a:t>
              </a:r>
              <a:endParaRPr b="0" lang="en-US" sz="5000" spc="-1" strike="noStrike">
                <a:solidFill>
                  <a:srgbClr val="ffffff"/>
                </a:solidFill>
                <a:latin typeface="Times New Roman"/>
              </a:endParaRPr>
            </a:p>
          </p:txBody>
        </p:sp>
        <p:sp>
          <p:nvSpPr>
            <p:cNvPr id="434" name=""/>
            <p:cNvSpPr/>
            <p:nvPr/>
          </p:nvSpPr>
          <p:spPr>
            <a:xfrm>
              <a:off x="2895840" y="1920960"/>
              <a:ext cx="152388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Leopard Seal</a:t>
              </a:r>
              <a:endParaRPr b="0" lang="en-US" sz="3000" spc="-1" strike="noStrike">
                <a:solidFill>
                  <a:srgbClr val="ffffff"/>
                </a:solidFill>
                <a:latin typeface="Times New Roman"/>
              </a:endParaRPr>
            </a:p>
          </p:txBody>
        </p:sp>
        <p:sp>
          <p:nvSpPr>
            <p:cNvPr id="435" name=""/>
            <p:cNvSpPr/>
            <p:nvPr/>
          </p:nvSpPr>
          <p:spPr>
            <a:xfrm>
              <a:off x="3124440" y="1082880"/>
              <a:ext cx="16761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Killer Whale</a:t>
              </a:r>
              <a:endParaRPr b="0" lang="en-US" sz="3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5076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 of Energy</a:t>
            </a:r>
            <a:endParaRPr b="0" lang="en-US" sz="4400" spc="-1" strike="noStrike">
              <a:solidFill>
                <a:srgbClr val="003300"/>
              </a:solidFill>
              <a:latin typeface="Arial Black"/>
            </a:endParaRPr>
          </a:p>
        </p:txBody>
      </p:sp>
      <p:sp>
        <p:nvSpPr>
          <p:cNvPr id="437" name="PlaceHolder 2"/>
          <p:cNvSpPr>
            <a:spLocks noGrp="1"/>
          </p:cNvSpPr>
          <p:nvPr>
            <p:ph/>
          </p:nvPr>
        </p:nvSpPr>
        <p:spPr>
          <a:xfrm>
            <a:off x="779040" y="953640"/>
            <a:ext cx="7736040" cy="126540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happens to the energy as you go up?</a:t>
            </a:r>
            <a:endParaRPr b="0" lang="en-US" sz="3600" spc="-1" strike="noStrike">
              <a:solidFill>
                <a:srgbClr val="663300"/>
              </a:solidFill>
              <a:latin typeface="Arial"/>
            </a:endParaRPr>
          </a:p>
        </p:txBody>
      </p:sp>
      <p:sp>
        <p:nvSpPr>
          <p:cNvPr id="438" name=""/>
          <p:cNvSpPr/>
          <p:nvPr/>
        </p:nvSpPr>
        <p:spPr>
          <a:xfrm>
            <a:off x="779400" y="2408400"/>
            <a:ext cx="3921120" cy="1806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much energy is lost between levels?</a:t>
            </a:r>
            <a:endParaRPr b="0" lang="en-US" sz="3600" spc="-1" strike="noStrike">
              <a:solidFill>
                <a:srgbClr val="ffffff"/>
              </a:solidFill>
              <a:latin typeface="Times New Roman"/>
            </a:endParaRPr>
          </a:p>
        </p:txBody>
      </p:sp>
      <p:pic>
        <p:nvPicPr>
          <p:cNvPr id="439" name="" descr=""/>
          <p:cNvPicPr/>
          <p:nvPr/>
        </p:nvPicPr>
        <p:blipFill>
          <a:blip r:embed="rId1"/>
          <a:stretch/>
        </p:blipFill>
        <p:spPr>
          <a:xfrm>
            <a:off x="4567320" y="2133720"/>
            <a:ext cx="4389480" cy="4400280"/>
          </a:xfrm>
          <a:prstGeom prst="rect">
            <a:avLst/>
          </a:prstGeom>
          <a:ln w="0">
            <a:noFill/>
          </a:ln>
        </p:spPr>
      </p:pic>
      <p:sp>
        <p:nvSpPr>
          <p:cNvPr id="440" name=""/>
          <p:cNvSpPr/>
          <p:nvPr/>
        </p:nvSpPr>
        <p:spPr>
          <a:xfrm>
            <a:off x="779400" y="4143240"/>
            <a:ext cx="328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y?</a:t>
            </a:r>
            <a:endParaRPr b="0" lang="en-US" sz="3600" spc="-1" strike="noStrike">
              <a:solidFill>
                <a:srgbClr val="ffffff"/>
              </a:solidFill>
              <a:latin typeface="Times New Roman"/>
            </a:endParaRPr>
          </a:p>
        </p:txBody>
      </p:sp>
      <p:sp>
        <p:nvSpPr>
          <p:cNvPr id="441" name=""/>
          <p:cNvSpPr/>
          <p:nvPr/>
        </p:nvSpPr>
        <p:spPr>
          <a:xfrm>
            <a:off x="779400" y="4979880"/>
            <a:ext cx="35416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much energy is retained?</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 of Biomass</a:t>
            </a:r>
            <a:endParaRPr b="0" lang="en-US" sz="4400" spc="-1" strike="noStrike">
              <a:solidFill>
                <a:srgbClr val="003300"/>
              </a:solidFill>
              <a:latin typeface="Arial Black"/>
            </a:endParaRPr>
          </a:p>
        </p:txBody>
      </p:sp>
      <p:sp>
        <p:nvSpPr>
          <p:cNvPr id="443" name=""/>
          <p:cNvSpPr/>
          <p:nvPr/>
        </p:nvSpPr>
        <p:spPr>
          <a:xfrm>
            <a:off x="981000" y="3341520"/>
            <a:ext cx="289404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t>
            </a:r>
            <a:r>
              <a:rPr b="0" lang="en-US" sz="3600" spc="-1" strike="noStrike">
                <a:solidFill>
                  <a:srgbClr val="663300"/>
                </a:solidFill>
                <a:latin typeface="Arial"/>
              </a:rPr>
              <a:t> </a:t>
            </a:r>
            <a:r>
              <a:rPr b="0" lang="en-US" sz="3600" spc="-1" strike="noStrike">
                <a:solidFill>
                  <a:srgbClr val="663300"/>
                </a:solidFill>
                <a:latin typeface="Arial"/>
              </a:rPr>
              <a:t>What does this pyramid of biomass illustrat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444" name="" descr=""/>
          <p:cNvPicPr/>
          <p:nvPr/>
        </p:nvPicPr>
        <p:blipFill>
          <a:blip r:embed="rId1"/>
          <a:stretch/>
        </p:blipFill>
        <p:spPr>
          <a:xfrm>
            <a:off x="4457880" y="1890720"/>
            <a:ext cx="4389120" cy="4400640"/>
          </a:xfrm>
          <a:prstGeom prst="rect">
            <a:avLst/>
          </a:prstGeom>
          <a:ln w="0">
            <a:noFill/>
          </a:ln>
        </p:spPr>
      </p:pic>
      <p:sp>
        <p:nvSpPr>
          <p:cNvPr id="445" name=""/>
          <p:cNvSpPr/>
          <p:nvPr/>
        </p:nvSpPr>
        <p:spPr>
          <a:xfrm>
            <a:off x="1081080" y="1728720"/>
            <a:ext cx="282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t>
            </a:r>
            <a:r>
              <a:rPr b="0" lang="en-US" sz="3600" spc="-1" strike="noStrike">
                <a:solidFill>
                  <a:srgbClr val="ffff00"/>
                </a:solidFill>
                <a:latin typeface="Arial"/>
              </a:rPr>
              <a:t> </a:t>
            </a:r>
            <a:r>
              <a:rPr b="0" lang="en-US" sz="3600" spc="-1" strike="noStrike">
                <a:solidFill>
                  <a:srgbClr val="663300"/>
                </a:solidFill>
                <a:latin typeface="Arial"/>
              </a:rPr>
              <a:t>What is bioma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un eclipse with palm</a:t>
            </a:r>
            <a:endParaRPr b="0" lang="en-US" sz="4400" spc="-1" strike="noStrike">
              <a:solidFill>
                <a:srgbClr val="003300"/>
              </a:solidFill>
              <a:latin typeface="Arial Black"/>
            </a:endParaRPr>
          </a:p>
        </p:txBody>
      </p:sp>
      <p:pic>
        <p:nvPicPr>
          <p:cNvPr id="93" name="" descr=""/>
          <p:cNvPicPr/>
          <p:nvPr/>
        </p:nvPicPr>
        <p:blipFill>
          <a:blip r:embed="rId1"/>
          <a:stretch/>
        </p:blipFill>
        <p:spPr>
          <a:xfrm>
            <a:off x="0" y="-76320"/>
            <a:ext cx="9223200" cy="7378920"/>
          </a:xfrm>
          <a:prstGeom prst="rect">
            <a:avLst/>
          </a:prstGeom>
          <a:ln w="0">
            <a:noFill/>
          </a:ln>
        </p:spPr>
      </p:pic>
      <p:sp>
        <p:nvSpPr>
          <p:cNvPr id="94" name="PlaceHolder 2"/>
          <p:cNvSpPr>
            <a:spLocks noGrp="1"/>
          </p:cNvSpPr>
          <p:nvPr>
            <p:ph type="subTitle"/>
          </p:nvPr>
        </p:nvSpPr>
        <p:spPr>
          <a:xfrm>
            <a:off x="0" y="-360"/>
            <a:ext cx="9144000" cy="1219320"/>
          </a:xfrm>
          <a:prstGeom prst="rect">
            <a:avLst/>
          </a:prstGeom>
          <a:noFill/>
          <a:ln w="0">
            <a:noFill/>
          </a:ln>
        </p:spPr>
        <p:txBody>
          <a:bodyPr lIns="92160" rIns="92160" tIns="46080" bIns="46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Black"/>
              </a:rPr>
              <a:t>the ultimate energy source</a:t>
            </a:r>
            <a:endParaRPr b="0" lang="en-US" sz="36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 of Numbers</a:t>
            </a:r>
            <a:endParaRPr b="0" lang="en-US" sz="4400" spc="-1" strike="noStrike">
              <a:solidFill>
                <a:srgbClr val="003300"/>
              </a:solidFill>
              <a:latin typeface="Arial Black"/>
            </a:endParaRPr>
          </a:p>
        </p:txBody>
      </p:sp>
      <p:pic>
        <p:nvPicPr>
          <p:cNvPr id="447" name="" descr=""/>
          <p:cNvPicPr/>
          <p:nvPr/>
        </p:nvPicPr>
        <p:blipFill>
          <a:blip r:embed="rId1"/>
          <a:stretch/>
        </p:blipFill>
        <p:spPr>
          <a:xfrm>
            <a:off x="4438800" y="1906560"/>
            <a:ext cx="4389120" cy="4400640"/>
          </a:xfrm>
          <a:prstGeom prst="rect">
            <a:avLst/>
          </a:prstGeom>
          <a:ln w="0">
            <a:noFill/>
          </a:ln>
        </p:spPr>
      </p:pic>
      <p:sp>
        <p:nvSpPr>
          <p:cNvPr id="448" name=""/>
          <p:cNvSpPr/>
          <p:nvPr/>
        </p:nvSpPr>
        <p:spPr>
          <a:xfrm>
            <a:off x="1346040" y="2227320"/>
            <a:ext cx="2841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does this pyramid of numbers illustrat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8280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450" name="PlaceHolder 2"/>
          <p:cNvSpPr>
            <a:spLocks noGrp="1"/>
          </p:cNvSpPr>
          <p:nvPr>
            <p:ph/>
          </p:nvPr>
        </p:nvSpPr>
        <p:spPr>
          <a:xfrm>
            <a:off x="1042560" y="1542600"/>
            <a:ext cx="7666200" cy="267012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happens to the biomass, numbers,and energy from trophic level to trophic level?</a:t>
            </a:r>
            <a:endParaRPr b="0" lang="en-US" sz="3600" spc="-1" strike="noStrike">
              <a:solidFill>
                <a:srgbClr val="663300"/>
              </a:solidFill>
              <a:latin typeface="Arial"/>
            </a:endParaRPr>
          </a:p>
        </p:txBody>
      </p:sp>
      <p:grpSp>
        <p:nvGrpSpPr>
          <p:cNvPr id="451" name=""/>
          <p:cNvGrpSpPr/>
          <p:nvPr/>
        </p:nvGrpSpPr>
        <p:grpSpPr>
          <a:xfrm>
            <a:off x="2227320" y="4633920"/>
            <a:ext cx="5027400" cy="1885680"/>
            <a:chOff x="2227320" y="4633920"/>
            <a:chExt cx="5027400" cy="1885680"/>
          </a:xfrm>
        </p:grpSpPr>
        <p:sp>
          <p:nvSpPr>
            <p:cNvPr id="452" name=""/>
            <p:cNvSpPr/>
            <p:nvPr/>
          </p:nvSpPr>
          <p:spPr>
            <a:xfrm>
              <a:off x="2227320" y="6062400"/>
              <a:ext cx="502740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369960" y="5586480"/>
              <a:ext cx="2741400" cy="4572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282920" y="5110200"/>
              <a:ext cx="91404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4626000" y="4633920"/>
              <a:ext cx="228240" cy="4572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457" name="PlaceHolder 2"/>
          <p:cNvSpPr>
            <a:spLocks noGrp="1"/>
          </p:cNvSpPr>
          <p:nvPr>
            <p:ph/>
          </p:nvPr>
        </p:nvSpPr>
        <p:spPr>
          <a:xfrm>
            <a:off x="995040" y="1244160"/>
            <a:ext cx="7505640" cy="117468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is different about this pyramid?</a:t>
            </a:r>
            <a:endParaRPr b="0" lang="en-US" sz="3600" spc="-1" strike="noStrike">
              <a:solidFill>
                <a:srgbClr val="663300"/>
              </a:solidFill>
              <a:latin typeface="Arial"/>
            </a:endParaRPr>
          </a:p>
        </p:txBody>
      </p:sp>
      <p:grpSp>
        <p:nvGrpSpPr>
          <p:cNvPr id="458" name=""/>
          <p:cNvGrpSpPr/>
          <p:nvPr/>
        </p:nvGrpSpPr>
        <p:grpSpPr>
          <a:xfrm>
            <a:off x="2722680" y="3244680"/>
            <a:ext cx="2741400" cy="1885680"/>
            <a:chOff x="2722680" y="3244680"/>
            <a:chExt cx="2741400" cy="1885680"/>
          </a:xfrm>
        </p:grpSpPr>
        <p:sp>
          <p:nvSpPr>
            <p:cNvPr id="459" name=""/>
            <p:cNvSpPr/>
            <p:nvPr/>
          </p:nvSpPr>
          <p:spPr>
            <a:xfrm>
              <a:off x="4002120" y="4673160"/>
              <a:ext cx="1821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722680" y="4196880"/>
              <a:ext cx="2741400" cy="4572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635280" y="3720960"/>
              <a:ext cx="91404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978360" y="3244680"/>
              <a:ext cx="228240" cy="4572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33480" y="17784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s of Aquatic Ecosystems</a:t>
            </a:r>
            <a:endParaRPr b="0" lang="en-US" sz="4400" spc="-1" strike="noStrike">
              <a:solidFill>
                <a:srgbClr val="003300"/>
              </a:solidFill>
              <a:latin typeface="Arial Black"/>
            </a:endParaRPr>
          </a:p>
        </p:txBody>
      </p:sp>
      <p:sp>
        <p:nvSpPr>
          <p:cNvPr id="464" name="PlaceHolder 2"/>
          <p:cNvSpPr>
            <a:spLocks noGrp="1"/>
          </p:cNvSpPr>
          <p:nvPr>
            <p:ph/>
          </p:nvPr>
        </p:nvSpPr>
        <p:spPr>
          <a:xfrm>
            <a:off x="1579680" y="1574280"/>
            <a:ext cx="2730240" cy="469908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Number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Biomas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Energy</a:t>
            </a:r>
            <a:endParaRPr b="0" lang="en-US" sz="3600" spc="-1" strike="noStrike">
              <a:solidFill>
                <a:srgbClr val="663300"/>
              </a:solidFill>
              <a:latin typeface="Arial"/>
            </a:endParaRPr>
          </a:p>
        </p:txBody>
      </p:sp>
      <p:grpSp>
        <p:nvGrpSpPr>
          <p:cNvPr id="465" name=""/>
          <p:cNvGrpSpPr/>
          <p:nvPr/>
        </p:nvGrpSpPr>
        <p:grpSpPr>
          <a:xfrm>
            <a:off x="5475240" y="3149640"/>
            <a:ext cx="2065320" cy="1420920"/>
            <a:chOff x="5475240" y="3149640"/>
            <a:chExt cx="2065320" cy="1420920"/>
          </a:xfrm>
        </p:grpSpPr>
        <p:sp>
          <p:nvSpPr>
            <p:cNvPr id="466" name=""/>
            <p:cNvSpPr/>
            <p:nvPr/>
          </p:nvSpPr>
          <p:spPr>
            <a:xfrm>
              <a:off x="6439320" y="4226040"/>
              <a:ext cx="137160" cy="3445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5475240" y="3867120"/>
              <a:ext cx="2065320" cy="344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162840" y="3508200"/>
              <a:ext cx="688680" cy="344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421320" y="3149640"/>
              <a:ext cx="172080" cy="34452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70" name=""/>
          <p:cNvGrpSpPr/>
          <p:nvPr/>
        </p:nvGrpSpPr>
        <p:grpSpPr>
          <a:xfrm>
            <a:off x="4616280" y="1365120"/>
            <a:ext cx="3784680" cy="1419480"/>
            <a:chOff x="4616280" y="1365120"/>
            <a:chExt cx="3784680" cy="1419480"/>
          </a:xfrm>
        </p:grpSpPr>
        <p:sp>
          <p:nvSpPr>
            <p:cNvPr id="471" name=""/>
            <p:cNvSpPr/>
            <p:nvPr/>
          </p:nvSpPr>
          <p:spPr>
            <a:xfrm>
              <a:off x="4616280" y="2440440"/>
              <a:ext cx="3784680" cy="344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5476680" y="2081880"/>
              <a:ext cx="2063880" cy="344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6163920" y="1723320"/>
              <a:ext cx="688320" cy="344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422040" y="1365120"/>
              <a:ext cx="172080" cy="34416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75" name=""/>
          <p:cNvGrpSpPr/>
          <p:nvPr/>
        </p:nvGrpSpPr>
        <p:grpSpPr>
          <a:xfrm>
            <a:off x="4616280" y="4997520"/>
            <a:ext cx="3784680" cy="1418760"/>
            <a:chOff x="4616280" y="4997520"/>
            <a:chExt cx="3784680" cy="1418760"/>
          </a:xfrm>
        </p:grpSpPr>
        <p:sp>
          <p:nvSpPr>
            <p:cNvPr id="476" name=""/>
            <p:cNvSpPr/>
            <p:nvPr/>
          </p:nvSpPr>
          <p:spPr>
            <a:xfrm>
              <a:off x="4616280" y="6072480"/>
              <a:ext cx="3784680" cy="3438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476680" y="5714280"/>
              <a:ext cx="2063880" cy="3438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6163920" y="5355720"/>
              <a:ext cx="688320" cy="343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422040" y="4997520"/>
              <a:ext cx="172080" cy="3438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33480" y="17784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s of Temperate Forests</a:t>
            </a:r>
            <a:endParaRPr b="0" lang="en-US" sz="4400" spc="-1" strike="noStrike">
              <a:solidFill>
                <a:srgbClr val="003300"/>
              </a:solidFill>
              <a:latin typeface="Arial Black"/>
            </a:endParaRPr>
          </a:p>
        </p:txBody>
      </p:sp>
      <p:sp>
        <p:nvSpPr>
          <p:cNvPr id="481" name="PlaceHolder 2"/>
          <p:cNvSpPr>
            <a:spLocks noGrp="1"/>
          </p:cNvSpPr>
          <p:nvPr>
            <p:ph/>
          </p:nvPr>
        </p:nvSpPr>
        <p:spPr>
          <a:xfrm>
            <a:off x="1477800" y="1574280"/>
            <a:ext cx="2857680" cy="469908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Number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Biomas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Energy</a:t>
            </a:r>
            <a:endParaRPr b="0" lang="en-US" sz="3600" spc="-1" strike="noStrike">
              <a:solidFill>
                <a:srgbClr val="663300"/>
              </a:solidFill>
              <a:latin typeface="Arial"/>
            </a:endParaRPr>
          </a:p>
        </p:txBody>
      </p:sp>
      <p:grpSp>
        <p:nvGrpSpPr>
          <p:cNvPr id="482" name=""/>
          <p:cNvGrpSpPr/>
          <p:nvPr/>
        </p:nvGrpSpPr>
        <p:grpSpPr>
          <a:xfrm>
            <a:off x="5475240" y="1447920"/>
            <a:ext cx="2065320" cy="1420200"/>
            <a:chOff x="5475240" y="1447920"/>
            <a:chExt cx="2065320" cy="1420200"/>
          </a:xfrm>
        </p:grpSpPr>
        <p:sp>
          <p:nvSpPr>
            <p:cNvPr id="483" name=""/>
            <p:cNvSpPr/>
            <p:nvPr/>
          </p:nvSpPr>
          <p:spPr>
            <a:xfrm>
              <a:off x="6439320" y="2523960"/>
              <a:ext cx="137160" cy="344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475240" y="2165040"/>
              <a:ext cx="2065320" cy="344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162840" y="1806480"/>
              <a:ext cx="688680" cy="344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6421320" y="1447920"/>
              <a:ext cx="172080" cy="34416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87" name=""/>
          <p:cNvGrpSpPr/>
          <p:nvPr/>
        </p:nvGrpSpPr>
        <p:grpSpPr>
          <a:xfrm>
            <a:off x="4616280" y="3193920"/>
            <a:ext cx="3784680" cy="1419480"/>
            <a:chOff x="4616280" y="3193920"/>
            <a:chExt cx="3784680" cy="1419480"/>
          </a:xfrm>
        </p:grpSpPr>
        <p:sp>
          <p:nvSpPr>
            <p:cNvPr id="488" name=""/>
            <p:cNvSpPr/>
            <p:nvPr/>
          </p:nvSpPr>
          <p:spPr>
            <a:xfrm>
              <a:off x="4616280" y="4269240"/>
              <a:ext cx="3784680" cy="344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476680" y="3910680"/>
              <a:ext cx="2063880" cy="344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6163920" y="3552120"/>
              <a:ext cx="688320" cy="344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6422040" y="3193920"/>
              <a:ext cx="172080" cy="34416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92" name=""/>
          <p:cNvGrpSpPr/>
          <p:nvPr/>
        </p:nvGrpSpPr>
        <p:grpSpPr>
          <a:xfrm>
            <a:off x="4616280" y="4921200"/>
            <a:ext cx="3784680" cy="1418760"/>
            <a:chOff x="4616280" y="4921200"/>
            <a:chExt cx="3784680" cy="1418760"/>
          </a:xfrm>
        </p:grpSpPr>
        <p:sp>
          <p:nvSpPr>
            <p:cNvPr id="493" name=""/>
            <p:cNvSpPr/>
            <p:nvPr/>
          </p:nvSpPr>
          <p:spPr>
            <a:xfrm>
              <a:off x="4616280" y="5996160"/>
              <a:ext cx="3784680" cy="3438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476680" y="5637960"/>
              <a:ext cx="2063880" cy="3438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163920" y="5279400"/>
              <a:ext cx="688320" cy="343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422040" y="4921200"/>
              <a:ext cx="172080" cy="3438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33480" y="447480"/>
            <a:ext cx="7772400" cy="116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f you are what you eat, what are you?</a:t>
            </a:r>
            <a:endParaRPr b="0" lang="en-US" sz="4400" spc="-1" strike="noStrike">
              <a:solidFill>
                <a:srgbClr val="003300"/>
              </a:solidFill>
              <a:latin typeface="Arial Black"/>
            </a:endParaRPr>
          </a:p>
        </p:txBody>
      </p:sp>
      <p:sp>
        <p:nvSpPr>
          <p:cNvPr id="96" name=""/>
          <p:cNvSpPr/>
          <p:nvPr/>
        </p:nvSpPr>
        <p:spPr>
          <a:xfrm rot="19962000">
            <a:off x="1273320" y="2550600"/>
            <a:ext cx="22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Comic Sans MS"/>
              </a:rPr>
              <a:t>producer</a:t>
            </a:r>
            <a:endParaRPr b="0" lang="en-US" sz="3600" spc="-1" strike="noStrike">
              <a:solidFill>
                <a:srgbClr val="ffffff"/>
              </a:solidFill>
              <a:latin typeface="Times New Roman"/>
            </a:endParaRPr>
          </a:p>
        </p:txBody>
      </p:sp>
      <p:sp>
        <p:nvSpPr>
          <p:cNvPr id="97" name=""/>
          <p:cNvSpPr/>
          <p:nvPr/>
        </p:nvSpPr>
        <p:spPr>
          <a:xfrm rot="271200">
            <a:off x="3901680" y="3642840"/>
            <a:ext cx="264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Comic Sans MS"/>
              </a:rPr>
              <a:t>detritivore</a:t>
            </a:r>
            <a:endParaRPr b="0" lang="en-US" sz="3600" spc="-1" strike="noStrike">
              <a:solidFill>
                <a:srgbClr val="ffffff"/>
              </a:solidFill>
              <a:latin typeface="Times New Roman"/>
            </a:endParaRPr>
          </a:p>
        </p:txBody>
      </p:sp>
      <p:sp>
        <p:nvSpPr>
          <p:cNvPr id="98" name=""/>
          <p:cNvSpPr/>
          <p:nvPr/>
        </p:nvSpPr>
        <p:spPr>
          <a:xfrm>
            <a:off x="3802680" y="24051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omic Sans MS"/>
              </a:rPr>
              <a:t>omnivore</a:t>
            </a:r>
            <a:endParaRPr b="0" lang="en-US" sz="3600" spc="-1" strike="noStrike">
              <a:solidFill>
                <a:srgbClr val="ffffff"/>
              </a:solidFill>
              <a:latin typeface="Times New Roman"/>
            </a:endParaRPr>
          </a:p>
        </p:txBody>
      </p:sp>
      <p:sp>
        <p:nvSpPr>
          <p:cNvPr id="99" name=""/>
          <p:cNvSpPr/>
          <p:nvPr/>
        </p:nvSpPr>
        <p:spPr>
          <a:xfrm rot="1159800">
            <a:off x="2697840" y="5051160"/>
            <a:ext cx="236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Comic Sans MS"/>
              </a:rPr>
              <a:t>carnivore</a:t>
            </a:r>
            <a:endParaRPr b="0" lang="en-US" sz="3600" spc="-1" strike="noStrike">
              <a:solidFill>
                <a:srgbClr val="ffffff"/>
              </a:solidFill>
              <a:latin typeface="Times New Roman"/>
            </a:endParaRPr>
          </a:p>
        </p:txBody>
      </p:sp>
      <p:sp>
        <p:nvSpPr>
          <p:cNvPr id="100" name=""/>
          <p:cNvSpPr/>
          <p:nvPr/>
        </p:nvSpPr>
        <p:spPr>
          <a:xfrm rot="20741400">
            <a:off x="1380600" y="3825360"/>
            <a:ext cx="240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Comic Sans MS"/>
              </a:rPr>
              <a:t>herbivore</a:t>
            </a:r>
            <a:endParaRPr b="0" lang="en-US" sz="3600" spc="-1" strike="noStrike">
              <a:solidFill>
                <a:srgbClr val="ffffff"/>
              </a:solidFill>
              <a:latin typeface="Times New Roman"/>
            </a:endParaRPr>
          </a:p>
        </p:txBody>
      </p:sp>
      <p:sp>
        <p:nvSpPr>
          <p:cNvPr id="101" name=""/>
          <p:cNvSpPr/>
          <p:nvPr/>
        </p:nvSpPr>
        <p:spPr>
          <a:xfrm rot="1740000">
            <a:off x="5827320" y="2325600"/>
            <a:ext cx="245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9900"/>
                </a:solidFill>
                <a:latin typeface="Comic Sans MS"/>
              </a:rPr>
              <a:t>consumer</a:t>
            </a:r>
            <a:endParaRPr b="0" lang="en-US" sz="3600" spc="-1" strike="noStrike">
              <a:solidFill>
                <a:srgbClr val="ffffff"/>
              </a:solidFill>
              <a:latin typeface="Times New Roman"/>
            </a:endParaRPr>
          </a:p>
        </p:txBody>
      </p:sp>
      <p:sp>
        <p:nvSpPr>
          <p:cNvPr id="102" name=""/>
          <p:cNvSpPr/>
          <p:nvPr/>
        </p:nvSpPr>
        <p:spPr>
          <a:xfrm rot="20671800">
            <a:off x="5780520" y="4117680"/>
            <a:ext cx="2984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decomposer</a:t>
            </a:r>
            <a:endParaRPr b="0" lang="en-US" sz="3600" spc="-1" strike="noStrike">
              <a:solidFill>
                <a:srgbClr val="ffffff"/>
              </a:solidFill>
              <a:latin typeface="Times New Roman"/>
            </a:endParaRPr>
          </a:p>
        </p:txBody>
      </p:sp>
      <p:sp>
        <p:nvSpPr>
          <p:cNvPr id="103" name=""/>
          <p:cNvSpPr/>
          <p:nvPr/>
        </p:nvSpPr>
        <p:spPr>
          <a:xfrm rot="271200">
            <a:off x="874800" y="5741640"/>
            <a:ext cx="25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autotroph</a:t>
            </a:r>
            <a:endParaRPr b="0" lang="en-US" sz="3600" spc="-1" strike="noStrike">
              <a:solidFill>
                <a:srgbClr val="ffffff"/>
              </a:solidFill>
              <a:latin typeface="Times New Roman"/>
            </a:endParaRPr>
          </a:p>
        </p:txBody>
      </p:sp>
      <p:sp>
        <p:nvSpPr>
          <p:cNvPr id="104" name=""/>
          <p:cNvSpPr/>
          <p:nvPr/>
        </p:nvSpPr>
        <p:spPr>
          <a:xfrm rot="643800">
            <a:off x="5579640" y="5703840"/>
            <a:ext cx="298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Comic Sans MS"/>
              </a:rPr>
              <a:t>heterotrop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3120" y="399960"/>
            <a:ext cx="6629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Black"/>
              </a:rPr>
              <a:t>PRODUCERS</a:t>
            </a:r>
            <a:endParaRPr b="0" lang="en-US" sz="5400" spc="-1" strike="noStrike">
              <a:solidFill>
                <a:srgbClr val="003300"/>
              </a:solidFill>
              <a:latin typeface="Arial Black"/>
            </a:endParaRPr>
          </a:p>
        </p:txBody>
      </p:sp>
      <p:sp>
        <p:nvSpPr>
          <p:cNvPr id="106" name="PlaceHolder 2"/>
          <p:cNvSpPr>
            <a:spLocks noGrp="1"/>
          </p:cNvSpPr>
          <p:nvPr>
            <p:ph/>
          </p:nvPr>
        </p:nvSpPr>
        <p:spPr>
          <a:xfrm>
            <a:off x="1257120" y="1847520"/>
            <a:ext cx="6972120" cy="654120"/>
          </a:xfrm>
          <a:prstGeom prst="rect">
            <a:avLst/>
          </a:prstGeom>
          <a:noFill/>
          <a:ln w="0">
            <a:noFill/>
          </a:ln>
        </p:spPr>
        <p:txBody>
          <a:bodyPr lIns="92160" rIns="92160" tIns="46080" bIns="46080" anchor="t">
            <a:normAutofit/>
          </a:bodyPr>
          <a:p>
            <a:pPr marL="343080" indent="-343080">
              <a:lnSpc>
                <a:spcPct val="9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What are producers?</a:t>
            </a:r>
            <a:endParaRPr b="0" lang="en-US" sz="4000" spc="-1" strike="noStrike">
              <a:solidFill>
                <a:srgbClr val="663300"/>
              </a:solidFill>
              <a:latin typeface="Arial"/>
            </a:endParaRPr>
          </a:p>
        </p:txBody>
      </p:sp>
      <p:sp>
        <p:nvSpPr>
          <p:cNvPr id="107" name=""/>
          <p:cNvSpPr/>
          <p:nvPr/>
        </p:nvSpPr>
        <p:spPr>
          <a:xfrm>
            <a:off x="6496200" y="326880"/>
            <a:ext cx="1839600" cy="1476360"/>
          </a:xfrm>
          <a:custGeom>
            <a:avLst/>
            <a:gdLst/>
            <a:ahLst/>
            <a:rect l="l" t="t" r="r" b="b"/>
            <a:pathLst>
              <a:path w="689" h="614">
                <a:moveTo>
                  <a:pt x="256" y="606"/>
                </a:moveTo>
                <a:cubicBezTo>
                  <a:pt x="296" y="606"/>
                  <a:pt x="336" y="606"/>
                  <a:pt x="352" y="558"/>
                </a:cubicBezTo>
                <a:cubicBezTo>
                  <a:pt x="368" y="510"/>
                  <a:pt x="368" y="376"/>
                  <a:pt x="352" y="318"/>
                </a:cubicBezTo>
                <a:cubicBezTo>
                  <a:pt x="336" y="260"/>
                  <a:pt x="270" y="220"/>
                  <a:pt x="253" y="210"/>
                </a:cubicBezTo>
                <a:cubicBezTo>
                  <a:pt x="236" y="200"/>
                  <a:pt x="259" y="240"/>
                  <a:pt x="250" y="261"/>
                </a:cubicBezTo>
                <a:cubicBezTo>
                  <a:pt x="241" y="282"/>
                  <a:pt x="223" y="318"/>
                  <a:pt x="196" y="336"/>
                </a:cubicBezTo>
                <a:cubicBezTo>
                  <a:pt x="169" y="354"/>
                  <a:pt x="116" y="367"/>
                  <a:pt x="85" y="369"/>
                </a:cubicBezTo>
                <a:cubicBezTo>
                  <a:pt x="54" y="371"/>
                  <a:pt x="20" y="359"/>
                  <a:pt x="10" y="348"/>
                </a:cubicBezTo>
                <a:cubicBezTo>
                  <a:pt x="0" y="337"/>
                  <a:pt x="16" y="324"/>
                  <a:pt x="25" y="303"/>
                </a:cubicBezTo>
                <a:cubicBezTo>
                  <a:pt x="34" y="282"/>
                  <a:pt x="42" y="243"/>
                  <a:pt x="64" y="222"/>
                </a:cubicBezTo>
                <a:cubicBezTo>
                  <a:pt x="86" y="201"/>
                  <a:pt x="128" y="182"/>
                  <a:pt x="160" y="174"/>
                </a:cubicBezTo>
                <a:cubicBezTo>
                  <a:pt x="192" y="166"/>
                  <a:pt x="224" y="166"/>
                  <a:pt x="256" y="174"/>
                </a:cubicBezTo>
                <a:cubicBezTo>
                  <a:pt x="288" y="182"/>
                  <a:pt x="331" y="228"/>
                  <a:pt x="352" y="222"/>
                </a:cubicBezTo>
                <a:cubicBezTo>
                  <a:pt x="373" y="216"/>
                  <a:pt x="374" y="161"/>
                  <a:pt x="385" y="138"/>
                </a:cubicBezTo>
                <a:cubicBezTo>
                  <a:pt x="396" y="115"/>
                  <a:pt x="403" y="105"/>
                  <a:pt x="421" y="84"/>
                </a:cubicBezTo>
                <a:cubicBezTo>
                  <a:pt x="439" y="63"/>
                  <a:pt x="468" y="24"/>
                  <a:pt x="496" y="12"/>
                </a:cubicBezTo>
                <a:cubicBezTo>
                  <a:pt x="524" y="0"/>
                  <a:pt x="565" y="6"/>
                  <a:pt x="589" y="12"/>
                </a:cubicBezTo>
                <a:cubicBezTo>
                  <a:pt x="613" y="18"/>
                  <a:pt x="624" y="31"/>
                  <a:pt x="640" y="48"/>
                </a:cubicBezTo>
                <a:cubicBezTo>
                  <a:pt x="656" y="65"/>
                  <a:pt x="689" y="97"/>
                  <a:pt x="688" y="114"/>
                </a:cubicBezTo>
                <a:cubicBezTo>
                  <a:pt x="687" y="131"/>
                  <a:pt x="659" y="146"/>
                  <a:pt x="631" y="153"/>
                </a:cubicBezTo>
                <a:cubicBezTo>
                  <a:pt x="603" y="160"/>
                  <a:pt x="550" y="161"/>
                  <a:pt x="517" y="156"/>
                </a:cubicBezTo>
                <a:cubicBezTo>
                  <a:pt x="484" y="151"/>
                  <a:pt x="453" y="110"/>
                  <a:pt x="433" y="120"/>
                </a:cubicBezTo>
                <a:cubicBezTo>
                  <a:pt x="413" y="130"/>
                  <a:pt x="404" y="184"/>
                  <a:pt x="397" y="216"/>
                </a:cubicBezTo>
                <a:cubicBezTo>
                  <a:pt x="390" y="248"/>
                  <a:pt x="388" y="282"/>
                  <a:pt x="388" y="315"/>
                </a:cubicBezTo>
                <a:cubicBezTo>
                  <a:pt x="388" y="348"/>
                  <a:pt x="390" y="374"/>
                  <a:pt x="400" y="414"/>
                </a:cubicBezTo>
                <a:cubicBezTo>
                  <a:pt x="410" y="454"/>
                  <a:pt x="424" y="526"/>
                  <a:pt x="448" y="558"/>
                </a:cubicBezTo>
                <a:cubicBezTo>
                  <a:pt x="472" y="590"/>
                  <a:pt x="576" y="598"/>
                  <a:pt x="544" y="606"/>
                </a:cubicBezTo>
                <a:cubicBezTo>
                  <a:pt x="512" y="614"/>
                  <a:pt x="316" y="606"/>
                  <a:pt x="256" y="606"/>
                </a:cubicBezTo>
              </a:path>
            </a:pathLst>
          </a:custGeom>
          <a:solidFill>
            <a:srgbClr val="009900"/>
          </a:solidFill>
          <a:ln w="93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2666880" y="4971960"/>
            <a:ext cx="2152800" cy="1809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9" name=""/>
          <p:cNvGrpSpPr/>
          <p:nvPr/>
        </p:nvGrpSpPr>
        <p:grpSpPr>
          <a:xfrm>
            <a:off x="1217520" y="5013360"/>
            <a:ext cx="6969240" cy="1545480"/>
            <a:chOff x="1217520" y="5013360"/>
            <a:chExt cx="6969240" cy="1545480"/>
          </a:xfrm>
        </p:grpSpPr>
        <p:sp>
          <p:nvSpPr>
            <p:cNvPr id="110" name=""/>
            <p:cNvSpPr/>
            <p:nvPr/>
          </p:nvSpPr>
          <p:spPr>
            <a:xfrm>
              <a:off x="411480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111" name=""/>
            <p:cNvGrpSpPr/>
            <p:nvPr/>
          </p:nvGrpSpPr>
          <p:grpSpPr>
            <a:xfrm>
              <a:off x="1217520" y="5013360"/>
              <a:ext cx="1219320" cy="1545480"/>
              <a:chOff x="1217520" y="5013360"/>
              <a:chExt cx="1219320" cy="1545480"/>
            </a:xfrm>
          </p:grpSpPr>
          <p:sp>
            <p:nvSpPr>
              <p:cNvPr id="112" name=""/>
              <p:cNvSpPr/>
              <p:nvPr/>
            </p:nvSpPr>
            <p:spPr>
              <a:xfrm>
                <a:off x="1217520" y="5013360"/>
                <a:ext cx="1219320" cy="121932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1343520" y="622152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unlight</a:t>
                </a:r>
                <a:endParaRPr b="0" lang="en-US" sz="1600" spc="-1" strike="noStrike">
                  <a:solidFill>
                    <a:srgbClr val="ffffff"/>
                  </a:solidFill>
                  <a:latin typeface="Times New Roman"/>
                </a:endParaRPr>
              </a:p>
            </p:txBody>
          </p:sp>
        </p:grpSp>
        <p:grpSp>
          <p:nvGrpSpPr>
            <p:cNvPr id="114" name=""/>
            <p:cNvGrpSpPr/>
            <p:nvPr/>
          </p:nvGrpSpPr>
          <p:grpSpPr>
            <a:xfrm>
              <a:off x="3143160" y="5318280"/>
              <a:ext cx="1113480" cy="1240560"/>
              <a:chOff x="3143160" y="5318280"/>
              <a:chExt cx="1113480" cy="1240560"/>
            </a:xfrm>
          </p:grpSpPr>
          <p:sp>
            <p:nvSpPr>
              <p:cNvPr id="115" name=""/>
              <p:cNvSpPr/>
              <p:nvPr/>
            </p:nvSpPr>
            <p:spPr>
              <a:xfrm>
                <a:off x="3143160" y="5318280"/>
                <a:ext cx="1094040" cy="914400"/>
              </a:xfrm>
              <a:custGeom>
                <a:avLst/>
                <a:gdLst/>
                <a:ahLst/>
                <a:rect l="l" t="t" r="r" b="b"/>
                <a:pathLst>
                  <a:path w="689" h="614">
                    <a:moveTo>
                      <a:pt x="256" y="606"/>
                    </a:moveTo>
                    <a:cubicBezTo>
                      <a:pt x="296" y="606"/>
                      <a:pt x="336" y="606"/>
                      <a:pt x="352" y="558"/>
                    </a:cubicBezTo>
                    <a:cubicBezTo>
                      <a:pt x="368" y="510"/>
                      <a:pt x="368" y="376"/>
                      <a:pt x="352" y="318"/>
                    </a:cubicBezTo>
                    <a:cubicBezTo>
                      <a:pt x="336" y="260"/>
                      <a:pt x="270" y="220"/>
                      <a:pt x="253" y="210"/>
                    </a:cubicBezTo>
                    <a:cubicBezTo>
                      <a:pt x="236" y="200"/>
                      <a:pt x="259" y="240"/>
                      <a:pt x="250" y="261"/>
                    </a:cubicBezTo>
                    <a:cubicBezTo>
                      <a:pt x="241" y="282"/>
                      <a:pt x="223" y="318"/>
                      <a:pt x="196" y="336"/>
                    </a:cubicBezTo>
                    <a:cubicBezTo>
                      <a:pt x="169" y="354"/>
                      <a:pt x="116" y="367"/>
                      <a:pt x="85" y="369"/>
                    </a:cubicBezTo>
                    <a:cubicBezTo>
                      <a:pt x="54" y="371"/>
                      <a:pt x="20" y="359"/>
                      <a:pt x="10" y="348"/>
                    </a:cubicBezTo>
                    <a:cubicBezTo>
                      <a:pt x="0" y="337"/>
                      <a:pt x="16" y="324"/>
                      <a:pt x="25" y="303"/>
                    </a:cubicBezTo>
                    <a:cubicBezTo>
                      <a:pt x="34" y="282"/>
                      <a:pt x="42" y="243"/>
                      <a:pt x="64" y="222"/>
                    </a:cubicBezTo>
                    <a:cubicBezTo>
                      <a:pt x="86" y="201"/>
                      <a:pt x="128" y="182"/>
                      <a:pt x="160" y="174"/>
                    </a:cubicBezTo>
                    <a:cubicBezTo>
                      <a:pt x="192" y="166"/>
                      <a:pt x="224" y="166"/>
                      <a:pt x="256" y="174"/>
                    </a:cubicBezTo>
                    <a:cubicBezTo>
                      <a:pt x="288" y="182"/>
                      <a:pt x="331" y="228"/>
                      <a:pt x="352" y="222"/>
                    </a:cubicBezTo>
                    <a:cubicBezTo>
                      <a:pt x="373" y="216"/>
                      <a:pt x="374" y="161"/>
                      <a:pt x="385" y="138"/>
                    </a:cubicBezTo>
                    <a:cubicBezTo>
                      <a:pt x="396" y="115"/>
                      <a:pt x="403" y="105"/>
                      <a:pt x="421" y="84"/>
                    </a:cubicBezTo>
                    <a:cubicBezTo>
                      <a:pt x="439" y="63"/>
                      <a:pt x="468" y="24"/>
                      <a:pt x="496" y="12"/>
                    </a:cubicBezTo>
                    <a:cubicBezTo>
                      <a:pt x="524" y="0"/>
                      <a:pt x="565" y="6"/>
                      <a:pt x="589" y="12"/>
                    </a:cubicBezTo>
                    <a:cubicBezTo>
                      <a:pt x="613" y="18"/>
                      <a:pt x="624" y="31"/>
                      <a:pt x="640" y="48"/>
                    </a:cubicBezTo>
                    <a:cubicBezTo>
                      <a:pt x="656" y="65"/>
                      <a:pt x="689" y="97"/>
                      <a:pt x="688" y="114"/>
                    </a:cubicBezTo>
                    <a:cubicBezTo>
                      <a:pt x="687" y="131"/>
                      <a:pt x="659" y="146"/>
                      <a:pt x="631" y="153"/>
                    </a:cubicBezTo>
                    <a:cubicBezTo>
                      <a:pt x="603" y="160"/>
                      <a:pt x="550" y="161"/>
                      <a:pt x="517" y="156"/>
                    </a:cubicBezTo>
                    <a:cubicBezTo>
                      <a:pt x="484" y="151"/>
                      <a:pt x="453" y="110"/>
                      <a:pt x="433" y="120"/>
                    </a:cubicBezTo>
                    <a:cubicBezTo>
                      <a:pt x="413" y="130"/>
                      <a:pt x="404" y="184"/>
                      <a:pt x="397" y="216"/>
                    </a:cubicBezTo>
                    <a:cubicBezTo>
                      <a:pt x="390" y="248"/>
                      <a:pt x="388" y="282"/>
                      <a:pt x="388" y="315"/>
                    </a:cubicBezTo>
                    <a:cubicBezTo>
                      <a:pt x="388" y="348"/>
                      <a:pt x="390" y="374"/>
                      <a:pt x="400" y="414"/>
                    </a:cubicBezTo>
                    <a:cubicBezTo>
                      <a:pt x="410" y="454"/>
                      <a:pt x="424" y="526"/>
                      <a:pt x="448" y="558"/>
                    </a:cubicBezTo>
                    <a:cubicBezTo>
                      <a:pt x="472" y="590"/>
                      <a:pt x="576" y="598"/>
                      <a:pt x="544" y="606"/>
                    </a:cubicBezTo>
                    <a:cubicBezTo>
                      <a:pt x="512" y="614"/>
                      <a:pt x="316" y="606"/>
                      <a:pt x="256" y="606"/>
                    </a:cubicBezTo>
                  </a:path>
                </a:pathLst>
              </a:custGeom>
              <a:solidFill>
                <a:srgbClr val="009900"/>
              </a:solidFill>
              <a:ln w="93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3198240" y="622152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producer</a:t>
                </a:r>
                <a:endParaRPr b="0" lang="en-US" sz="1600" spc="-1" strike="noStrike">
                  <a:solidFill>
                    <a:srgbClr val="ffffff"/>
                  </a:solidFill>
                  <a:latin typeface="Times New Roman"/>
                </a:endParaRPr>
              </a:p>
            </p:txBody>
          </p:sp>
        </p:grpSp>
        <p:sp>
          <p:nvSpPr>
            <p:cNvPr id="117" name=""/>
            <p:cNvSpPr/>
            <p:nvPr/>
          </p:nvSpPr>
          <p:spPr>
            <a:xfrm>
              <a:off x="5981760" y="5607000"/>
              <a:ext cx="552240" cy="144360"/>
            </a:xfrm>
            <a:prstGeom prst="rightArrow">
              <a:avLst>
                <a:gd name="adj1" fmla="val 50000"/>
                <a:gd name="adj2" fmla="val 95636"/>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18" name=""/>
            <p:cNvSpPr/>
            <p:nvPr/>
          </p:nvSpPr>
          <p:spPr>
            <a:xfrm>
              <a:off x="253368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119" name=""/>
            <p:cNvGrpSpPr/>
            <p:nvPr/>
          </p:nvGrpSpPr>
          <p:grpSpPr>
            <a:xfrm>
              <a:off x="4689360" y="5016600"/>
              <a:ext cx="1417320" cy="1239480"/>
              <a:chOff x="4689360" y="5016600"/>
              <a:chExt cx="1417320" cy="1239480"/>
            </a:xfrm>
          </p:grpSpPr>
          <p:grpSp>
            <p:nvGrpSpPr>
              <p:cNvPr id="120" name=""/>
              <p:cNvGrpSpPr/>
              <p:nvPr/>
            </p:nvGrpSpPr>
            <p:grpSpPr>
              <a:xfrm>
                <a:off x="4689360" y="5016600"/>
                <a:ext cx="1417320" cy="1239480"/>
                <a:chOff x="4689360" y="5016600"/>
                <a:chExt cx="1417320" cy="1239480"/>
              </a:xfrm>
            </p:grpSpPr>
            <p:sp>
              <p:nvSpPr>
                <p:cNvPr id="121" name=""/>
                <p:cNvSpPr/>
                <p:nvPr/>
              </p:nvSpPr>
              <p:spPr>
                <a:xfrm>
                  <a:off x="4689360" y="5016600"/>
                  <a:ext cx="986400" cy="1195200"/>
                </a:xfrm>
                <a:custGeom>
                  <a:avLst/>
                  <a:gdLst/>
                  <a:ahLst/>
                  <a:rect l="l" t="t" r="r" b="b"/>
                  <a:pathLst>
                    <a:path w="691" h="838">
                      <a:moveTo>
                        <a:pt x="318" y="177"/>
                      </a:moveTo>
                      <a:cubicBezTo>
                        <a:pt x="324" y="168"/>
                        <a:pt x="397" y="115"/>
                        <a:pt x="408" y="89"/>
                      </a:cubicBezTo>
                      <a:cubicBezTo>
                        <a:pt x="419" y="63"/>
                        <a:pt x="395" y="34"/>
                        <a:pt x="382" y="19"/>
                      </a:cubicBezTo>
                      <a:cubicBezTo>
                        <a:pt x="369" y="4"/>
                        <a:pt x="347" y="2"/>
                        <a:pt x="330" y="1"/>
                      </a:cubicBezTo>
                      <a:cubicBezTo>
                        <a:pt x="313" y="0"/>
                        <a:pt x="297" y="5"/>
                        <a:pt x="282" y="15"/>
                      </a:cubicBezTo>
                      <a:cubicBezTo>
                        <a:pt x="267" y="25"/>
                        <a:pt x="250" y="39"/>
                        <a:pt x="242" y="59"/>
                      </a:cubicBezTo>
                      <a:cubicBezTo>
                        <a:pt x="234" y="79"/>
                        <a:pt x="234" y="117"/>
                        <a:pt x="232" y="137"/>
                      </a:cubicBezTo>
                      <a:cubicBezTo>
                        <a:pt x="230" y="157"/>
                        <a:pt x="238" y="169"/>
                        <a:pt x="232" y="180"/>
                      </a:cubicBezTo>
                      <a:cubicBezTo>
                        <a:pt x="226" y="191"/>
                        <a:pt x="216" y="198"/>
                        <a:pt x="194" y="204"/>
                      </a:cubicBezTo>
                      <a:cubicBezTo>
                        <a:pt x="172" y="210"/>
                        <a:pt x="129" y="206"/>
                        <a:pt x="98" y="214"/>
                      </a:cubicBezTo>
                      <a:cubicBezTo>
                        <a:pt x="67" y="222"/>
                        <a:pt x="12" y="241"/>
                        <a:pt x="6" y="252"/>
                      </a:cubicBezTo>
                      <a:cubicBezTo>
                        <a:pt x="0" y="263"/>
                        <a:pt x="45" y="270"/>
                        <a:pt x="64" y="283"/>
                      </a:cubicBezTo>
                      <a:cubicBezTo>
                        <a:pt x="83" y="296"/>
                        <a:pt x="101" y="314"/>
                        <a:pt x="120" y="333"/>
                      </a:cubicBezTo>
                      <a:cubicBezTo>
                        <a:pt x="139" y="352"/>
                        <a:pt x="167" y="379"/>
                        <a:pt x="180" y="399"/>
                      </a:cubicBezTo>
                      <a:cubicBezTo>
                        <a:pt x="193" y="419"/>
                        <a:pt x="203" y="441"/>
                        <a:pt x="196" y="453"/>
                      </a:cubicBezTo>
                      <a:cubicBezTo>
                        <a:pt x="189" y="465"/>
                        <a:pt x="154" y="456"/>
                        <a:pt x="138" y="469"/>
                      </a:cubicBezTo>
                      <a:cubicBezTo>
                        <a:pt x="122" y="482"/>
                        <a:pt x="96" y="526"/>
                        <a:pt x="102" y="531"/>
                      </a:cubicBezTo>
                      <a:cubicBezTo>
                        <a:pt x="108" y="536"/>
                        <a:pt x="155" y="504"/>
                        <a:pt x="174" y="502"/>
                      </a:cubicBezTo>
                      <a:cubicBezTo>
                        <a:pt x="193" y="500"/>
                        <a:pt x="210" y="508"/>
                        <a:pt x="218" y="521"/>
                      </a:cubicBezTo>
                      <a:cubicBezTo>
                        <a:pt x="226" y="534"/>
                        <a:pt x="220" y="559"/>
                        <a:pt x="224" y="581"/>
                      </a:cubicBezTo>
                      <a:cubicBezTo>
                        <a:pt x="228" y="603"/>
                        <a:pt x="230" y="629"/>
                        <a:pt x="242" y="655"/>
                      </a:cubicBezTo>
                      <a:cubicBezTo>
                        <a:pt x="254" y="681"/>
                        <a:pt x="281" y="717"/>
                        <a:pt x="298" y="735"/>
                      </a:cubicBezTo>
                      <a:cubicBezTo>
                        <a:pt x="315" y="753"/>
                        <a:pt x="336" y="757"/>
                        <a:pt x="347" y="766"/>
                      </a:cubicBezTo>
                      <a:cubicBezTo>
                        <a:pt x="358" y="775"/>
                        <a:pt x="377" y="789"/>
                        <a:pt x="362" y="790"/>
                      </a:cubicBezTo>
                      <a:cubicBezTo>
                        <a:pt x="347" y="791"/>
                        <a:pt x="280" y="777"/>
                        <a:pt x="256" y="775"/>
                      </a:cubicBezTo>
                      <a:cubicBezTo>
                        <a:pt x="232" y="773"/>
                        <a:pt x="230" y="767"/>
                        <a:pt x="218" y="775"/>
                      </a:cubicBezTo>
                      <a:cubicBezTo>
                        <a:pt x="206" y="783"/>
                        <a:pt x="180" y="813"/>
                        <a:pt x="184" y="823"/>
                      </a:cubicBezTo>
                      <a:cubicBezTo>
                        <a:pt x="188" y="833"/>
                        <a:pt x="218" y="836"/>
                        <a:pt x="244" y="837"/>
                      </a:cubicBezTo>
                      <a:cubicBezTo>
                        <a:pt x="270" y="838"/>
                        <a:pt x="318" y="829"/>
                        <a:pt x="342" y="828"/>
                      </a:cubicBezTo>
                      <a:cubicBezTo>
                        <a:pt x="366" y="827"/>
                        <a:pt x="369" y="829"/>
                        <a:pt x="388" y="829"/>
                      </a:cubicBezTo>
                      <a:cubicBezTo>
                        <a:pt x="407" y="829"/>
                        <a:pt x="435" y="832"/>
                        <a:pt x="456" y="831"/>
                      </a:cubicBezTo>
                      <a:cubicBezTo>
                        <a:pt x="477" y="830"/>
                        <a:pt x="493" y="828"/>
                        <a:pt x="512" y="823"/>
                      </a:cubicBezTo>
                      <a:cubicBezTo>
                        <a:pt x="531" y="818"/>
                        <a:pt x="546" y="814"/>
                        <a:pt x="568" y="799"/>
                      </a:cubicBezTo>
                      <a:cubicBezTo>
                        <a:pt x="590" y="784"/>
                        <a:pt x="625" y="762"/>
                        <a:pt x="645" y="732"/>
                      </a:cubicBezTo>
                      <a:cubicBezTo>
                        <a:pt x="665" y="702"/>
                        <a:pt x="691" y="661"/>
                        <a:pt x="688" y="617"/>
                      </a:cubicBezTo>
                      <a:cubicBezTo>
                        <a:pt x="685" y="573"/>
                        <a:pt x="646" y="505"/>
                        <a:pt x="628" y="467"/>
                      </a:cubicBezTo>
                      <a:cubicBezTo>
                        <a:pt x="610" y="429"/>
                        <a:pt x="598" y="411"/>
                        <a:pt x="578" y="389"/>
                      </a:cubicBezTo>
                      <a:cubicBezTo>
                        <a:pt x="558" y="367"/>
                        <a:pt x="531" y="354"/>
                        <a:pt x="506" y="335"/>
                      </a:cubicBezTo>
                      <a:cubicBezTo>
                        <a:pt x="481" y="316"/>
                        <a:pt x="455" y="290"/>
                        <a:pt x="428" y="273"/>
                      </a:cubicBezTo>
                      <a:cubicBezTo>
                        <a:pt x="401" y="256"/>
                        <a:pt x="349" y="237"/>
                        <a:pt x="346" y="235"/>
                      </a:cubicBezTo>
                      <a:cubicBezTo>
                        <a:pt x="343" y="233"/>
                        <a:pt x="386" y="256"/>
                        <a:pt x="410" y="259"/>
                      </a:cubicBezTo>
                      <a:cubicBezTo>
                        <a:pt x="434" y="262"/>
                        <a:pt x="467" y="256"/>
                        <a:pt x="488" y="251"/>
                      </a:cubicBezTo>
                      <a:cubicBezTo>
                        <a:pt x="509" y="246"/>
                        <a:pt x="522" y="238"/>
                        <a:pt x="534" y="227"/>
                      </a:cubicBezTo>
                      <a:cubicBezTo>
                        <a:pt x="546" y="216"/>
                        <a:pt x="557" y="200"/>
                        <a:pt x="562" y="187"/>
                      </a:cubicBezTo>
                      <a:cubicBezTo>
                        <a:pt x="567" y="174"/>
                        <a:pt x="564" y="162"/>
                        <a:pt x="562" y="149"/>
                      </a:cubicBezTo>
                      <a:cubicBezTo>
                        <a:pt x="560" y="136"/>
                        <a:pt x="557" y="123"/>
                        <a:pt x="550" y="111"/>
                      </a:cubicBezTo>
                      <a:cubicBezTo>
                        <a:pt x="543" y="99"/>
                        <a:pt x="533" y="83"/>
                        <a:pt x="518" y="75"/>
                      </a:cubicBezTo>
                      <a:cubicBezTo>
                        <a:pt x="503" y="67"/>
                        <a:pt x="479" y="59"/>
                        <a:pt x="462" y="61"/>
                      </a:cubicBezTo>
                      <a:cubicBezTo>
                        <a:pt x="445" y="63"/>
                        <a:pt x="429" y="75"/>
                        <a:pt x="414" y="89"/>
                      </a:cubicBezTo>
                      <a:cubicBezTo>
                        <a:pt x="399" y="103"/>
                        <a:pt x="387" y="127"/>
                        <a:pt x="371" y="142"/>
                      </a:cubicBezTo>
                      <a:cubicBezTo>
                        <a:pt x="355" y="157"/>
                        <a:pt x="322" y="182"/>
                        <a:pt x="318" y="177"/>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321880" y="5211720"/>
                  <a:ext cx="784800" cy="1044360"/>
                </a:xfrm>
                <a:custGeom>
                  <a:avLst/>
                  <a:gdLst/>
                  <a:ahLst/>
                  <a:rect l="l" t="t" r="r" b="b"/>
                  <a:pathLst>
                    <a:path w="550" h="732">
                      <a:moveTo>
                        <a:pt x="82" y="684"/>
                      </a:moveTo>
                      <a:cubicBezTo>
                        <a:pt x="105" y="681"/>
                        <a:pt x="121" y="690"/>
                        <a:pt x="149" y="684"/>
                      </a:cubicBezTo>
                      <a:cubicBezTo>
                        <a:pt x="177" y="678"/>
                        <a:pt x="221" y="666"/>
                        <a:pt x="250" y="648"/>
                      </a:cubicBezTo>
                      <a:cubicBezTo>
                        <a:pt x="279" y="630"/>
                        <a:pt x="307" y="604"/>
                        <a:pt x="322" y="578"/>
                      </a:cubicBezTo>
                      <a:cubicBezTo>
                        <a:pt x="337" y="552"/>
                        <a:pt x="339" y="529"/>
                        <a:pt x="341" y="494"/>
                      </a:cubicBezTo>
                      <a:cubicBezTo>
                        <a:pt x="343" y="459"/>
                        <a:pt x="335" y="404"/>
                        <a:pt x="331" y="370"/>
                      </a:cubicBezTo>
                      <a:cubicBezTo>
                        <a:pt x="327" y="336"/>
                        <a:pt x="324" y="320"/>
                        <a:pt x="319" y="290"/>
                      </a:cubicBezTo>
                      <a:cubicBezTo>
                        <a:pt x="314" y="260"/>
                        <a:pt x="297" y="225"/>
                        <a:pt x="303" y="190"/>
                      </a:cubicBezTo>
                      <a:cubicBezTo>
                        <a:pt x="309" y="155"/>
                        <a:pt x="335" y="110"/>
                        <a:pt x="357" y="82"/>
                      </a:cubicBezTo>
                      <a:cubicBezTo>
                        <a:pt x="379" y="54"/>
                        <a:pt x="405" y="35"/>
                        <a:pt x="437" y="22"/>
                      </a:cubicBezTo>
                      <a:cubicBezTo>
                        <a:pt x="469" y="9"/>
                        <a:pt x="550" y="0"/>
                        <a:pt x="550" y="2"/>
                      </a:cubicBezTo>
                      <a:cubicBezTo>
                        <a:pt x="550" y="4"/>
                        <a:pt x="469" y="14"/>
                        <a:pt x="437" y="34"/>
                      </a:cubicBezTo>
                      <a:cubicBezTo>
                        <a:pt x="405" y="54"/>
                        <a:pt x="372" y="90"/>
                        <a:pt x="357" y="122"/>
                      </a:cubicBezTo>
                      <a:cubicBezTo>
                        <a:pt x="342" y="154"/>
                        <a:pt x="343" y="190"/>
                        <a:pt x="346" y="228"/>
                      </a:cubicBezTo>
                      <a:cubicBezTo>
                        <a:pt x="349" y="266"/>
                        <a:pt x="371" y="306"/>
                        <a:pt x="377" y="350"/>
                      </a:cubicBezTo>
                      <a:cubicBezTo>
                        <a:pt x="383" y="394"/>
                        <a:pt x="392" y="443"/>
                        <a:pt x="385" y="490"/>
                      </a:cubicBezTo>
                      <a:cubicBezTo>
                        <a:pt x="378" y="537"/>
                        <a:pt x="357" y="594"/>
                        <a:pt x="334" y="631"/>
                      </a:cubicBezTo>
                      <a:cubicBezTo>
                        <a:pt x="311" y="668"/>
                        <a:pt x="281" y="693"/>
                        <a:pt x="247" y="710"/>
                      </a:cubicBezTo>
                      <a:cubicBezTo>
                        <a:pt x="213" y="727"/>
                        <a:pt x="164" y="732"/>
                        <a:pt x="129" y="732"/>
                      </a:cubicBezTo>
                      <a:cubicBezTo>
                        <a:pt x="94" y="732"/>
                        <a:pt x="54" y="718"/>
                        <a:pt x="34" y="713"/>
                      </a:cubicBezTo>
                      <a:cubicBezTo>
                        <a:pt x="14" y="708"/>
                        <a:pt x="0" y="706"/>
                        <a:pt x="10" y="701"/>
                      </a:cubicBezTo>
                      <a:cubicBezTo>
                        <a:pt x="20" y="696"/>
                        <a:pt x="59" y="687"/>
                        <a:pt x="82" y="684"/>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4743720" y="5259960"/>
                  <a:ext cx="11160" cy="85320"/>
                </a:xfrm>
                <a:prstGeom prst="line">
                  <a:avLst/>
                </a:prstGeom>
                <a:ln w="1260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4" name=""/>
                <p:cNvSpPr/>
                <p:nvPr/>
              </p:nvSpPr>
              <p:spPr>
                <a:xfrm flipV="1">
                  <a:off x="4749120" y="5194440"/>
                  <a:ext cx="105840" cy="156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a:off x="4734720" y="5405760"/>
                  <a:ext cx="5760" cy="85680"/>
                </a:xfrm>
                <a:prstGeom prst="line">
                  <a:avLst/>
                </a:prstGeom>
                <a:ln w="1260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6" name=""/>
                <p:cNvSpPr/>
                <p:nvPr/>
              </p:nvSpPr>
              <p:spPr>
                <a:xfrm>
                  <a:off x="4754880" y="5408640"/>
                  <a:ext cx="73800" cy="125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 name=""/>
              <p:cNvSpPr/>
              <p:nvPr/>
            </p:nvSpPr>
            <p:spPr>
              <a:xfrm>
                <a:off x="4951440" y="5354640"/>
                <a:ext cx="57240" cy="63360"/>
              </a:xfrm>
              <a:prstGeom prst="ellipse">
                <a:avLst/>
              </a:prstGeom>
              <a:solidFill>
                <a:srgbClr val="5f5f5f"/>
              </a:solidFill>
              <a:ln w="9360">
                <a:solidFill>
                  <a:srgbClr val="5f5f5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128" name=""/>
            <p:cNvGrpSpPr/>
            <p:nvPr/>
          </p:nvGrpSpPr>
          <p:grpSpPr>
            <a:xfrm>
              <a:off x="6653160" y="5079960"/>
              <a:ext cx="1533600" cy="1206360"/>
              <a:chOff x="6653160" y="5079960"/>
              <a:chExt cx="1533600" cy="1206360"/>
            </a:xfrm>
          </p:grpSpPr>
          <p:grpSp>
            <p:nvGrpSpPr>
              <p:cNvPr id="129" name=""/>
              <p:cNvGrpSpPr/>
              <p:nvPr/>
            </p:nvGrpSpPr>
            <p:grpSpPr>
              <a:xfrm>
                <a:off x="6653160" y="5079960"/>
                <a:ext cx="1533600" cy="1206360"/>
                <a:chOff x="6653160" y="5079960"/>
                <a:chExt cx="1533600" cy="1206360"/>
              </a:xfrm>
            </p:grpSpPr>
            <p:sp>
              <p:nvSpPr>
                <p:cNvPr id="130" name=""/>
                <p:cNvSpPr/>
                <p:nvPr/>
              </p:nvSpPr>
              <p:spPr>
                <a:xfrm>
                  <a:off x="6653160" y="5079960"/>
                  <a:ext cx="1533600" cy="1206360"/>
                </a:xfrm>
                <a:custGeom>
                  <a:avLst/>
                  <a:gdLst/>
                  <a:ahLst/>
                  <a:rect l="l" t="t" r="r" b="b"/>
                  <a:pathLst>
                    <a:path w="966" h="760">
                      <a:moveTo>
                        <a:pt x="671" y="248"/>
                      </a:moveTo>
                      <a:cubicBezTo>
                        <a:pt x="657" y="250"/>
                        <a:pt x="605" y="277"/>
                        <a:pt x="576" y="293"/>
                      </a:cubicBezTo>
                      <a:cubicBezTo>
                        <a:pt x="547" y="309"/>
                        <a:pt x="518" y="328"/>
                        <a:pt x="498" y="346"/>
                      </a:cubicBezTo>
                      <a:cubicBezTo>
                        <a:pt x="478" y="364"/>
                        <a:pt x="466" y="378"/>
                        <a:pt x="456" y="403"/>
                      </a:cubicBezTo>
                      <a:cubicBezTo>
                        <a:pt x="446" y="428"/>
                        <a:pt x="436" y="463"/>
                        <a:pt x="435" y="499"/>
                      </a:cubicBezTo>
                      <a:cubicBezTo>
                        <a:pt x="434" y="535"/>
                        <a:pt x="436" y="585"/>
                        <a:pt x="450" y="620"/>
                      </a:cubicBezTo>
                      <a:cubicBezTo>
                        <a:pt x="464" y="655"/>
                        <a:pt x="484" y="687"/>
                        <a:pt x="519" y="709"/>
                      </a:cubicBezTo>
                      <a:cubicBezTo>
                        <a:pt x="554" y="731"/>
                        <a:pt x="616" y="748"/>
                        <a:pt x="660" y="754"/>
                      </a:cubicBezTo>
                      <a:cubicBezTo>
                        <a:pt x="704" y="760"/>
                        <a:pt x="751" y="754"/>
                        <a:pt x="785" y="743"/>
                      </a:cubicBezTo>
                      <a:cubicBezTo>
                        <a:pt x="819" y="732"/>
                        <a:pt x="846" y="705"/>
                        <a:pt x="867" y="686"/>
                      </a:cubicBezTo>
                      <a:cubicBezTo>
                        <a:pt x="888" y="667"/>
                        <a:pt x="896" y="658"/>
                        <a:pt x="908" y="632"/>
                      </a:cubicBezTo>
                      <a:cubicBezTo>
                        <a:pt x="920" y="606"/>
                        <a:pt x="933" y="567"/>
                        <a:pt x="941" y="532"/>
                      </a:cubicBezTo>
                      <a:cubicBezTo>
                        <a:pt x="949" y="497"/>
                        <a:pt x="953" y="457"/>
                        <a:pt x="957" y="424"/>
                      </a:cubicBezTo>
                      <a:cubicBezTo>
                        <a:pt x="961" y="391"/>
                        <a:pt x="966" y="364"/>
                        <a:pt x="965" y="332"/>
                      </a:cubicBezTo>
                      <a:cubicBezTo>
                        <a:pt x="964" y="300"/>
                        <a:pt x="963" y="267"/>
                        <a:pt x="951" y="230"/>
                      </a:cubicBezTo>
                      <a:cubicBezTo>
                        <a:pt x="939" y="193"/>
                        <a:pt x="913" y="139"/>
                        <a:pt x="891" y="110"/>
                      </a:cubicBezTo>
                      <a:cubicBezTo>
                        <a:pt x="869" y="81"/>
                        <a:pt x="847" y="69"/>
                        <a:pt x="818" y="53"/>
                      </a:cubicBezTo>
                      <a:cubicBezTo>
                        <a:pt x="789" y="37"/>
                        <a:pt x="759" y="24"/>
                        <a:pt x="719" y="16"/>
                      </a:cubicBezTo>
                      <a:cubicBezTo>
                        <a:pt x="679" y="8"/>
                        <a:pt x="619" y="0"/>
                        <a:pt x="576" y="2"/>
                      </a:cubicBezTo>
                      <a:cubicBezTo>
                        <a:pt x="533" y="4"/>
                        <a:pt x="491" y="16"/>
                        <a:pt x="459" y="28"/>
                      </a:cubicBezTo>
                      <a:cubicBezTo>
                        <a:pt x="427" y="40"/>
                        <a:pt x="405" y="55"/>
                        <a:pt x="384" y="73"/>
                      </a:cubicBezTo>
                      <a:cubicBezTo>
                        <a:pt x="363" y="91"/>
                        <a:pt x="346" y="105"/>
                        <a:pt x="330" y="134"/>
                      </a:cubicBezTo>
                      <a:cubicBezTo>
                        <a:pt x="314" y="163"/>
                        <a:pt x="301" y="207"/>
                        <a:pt x="291" y="248"/>
                      </a:cubicBezTo>
                      <a:cubicBezTo>
                        <a:pt x="281" y="289"/>
                        <a:pt x="278" y="350"/>
                        <a:pt x="269" y="383"/>
                      </a:cubicBezTo>
                      <a:cubicBezTo>
                        <a:pt x="260" y="416"/>
                        <a:pt x="255" y="433"/>
                        <a:pt x="240" y="446"/>
                      </a:cubicBezTo>
                      <a:cubicBezTo>
                        <a:pt x="225" y="459"/>
                        <a:pt x="202" y="469"/>
                        <a:pt x="182" y="463"/>
                      </a:cubicBezTo>
                      <a:cubicBezTo>
                        <a:pt x="162" y="457"/>
                        <a:pt x="119" y="431"/>
                        <a:pt x="119" y="407"/>
                      </a:cubicBezTo>
                      <a:cubicBezTo>
                        <a:pt x="119" y="383"/>
                        <a:pt x="162" y="341"/>
                        <a:pt x="182" y="320"/>
                      </a:cubicBezTo>
                      <a:cubicBezTo>
                        <a:pt x="202" y="299"/>
                        <a:pt x="224" y="292"/>
                        <a:pt x="236" y="280"/>
                      </a:cubicBezTo>
                      <a:cubicBezTo>
                        <a:pt x="248" y="268"/>
                        <a:pt x="254" y="257"/>
                        <a:pt x="255" y="245"/>
                      </a:cubicBezTo>
                      <a:cubicBezTo>
                        <a:pt x="256" y="233"/>
                        <a:pt x="252" y="215"/>
                        <a:pt x="245" y="205"/>
                      </a:cubicBezTo>
                      <a:cubicBezTo>
                        <a:pt x="238" y="195"/>
                        <a:pt x="217" y="196"/>
                        <a:pt x="210" y="185"/>
                      </a:cubicBezTo>
                      <a:cubicBezTo>
                        <a:pt x="203" y="174"/>
                        <a:pt x="218" y="148"/>
                        <a:pt x="203" y="137"/>
                      </a:cubicBezTo>
                      <a:cubicBezTo>
                        <a:pt x="188" y="126"/>
                        <a:pt x="146" y="115"/>
                        <a:pt x="120" y="116"/>
                      </a:cubicBezTo>
                      <a:cubicBezTo>
                        <a:pt x="94" y="117"/>
                        <a:pt x="67" y="133"/>
                        <a:pt x="48" y="143"/>
                      </a:cubicBezTo>
                      <a:cubicBezTo>
                        <a:pt x="29" y="153"/>
                        <a:pt x="0" y="164"/>
                        <a:pt x="3" y="179"/>
                      </a:cubicBezTo>
                      <a:cubicBezTo>
                        <a:pt x="6" y="194"/>
                        <a:pt x="44" y="224"/>
                        <a:pt x="66" y="233"/>
                      </a:cubicBezTo>
                      <a:cubicBezTo>
                        <a:pt x="88" y="242"/>
                        <a:pt x="120" y="232"/>
                        <a:pt x="135" y="233"/>
                      </a:cubicBezTo>
                      <a:cubicBezTo>
                        <a:pt x="150" y="234"/>
                        <a:pt x="171" y="225"/>
                        <a:pt x="156" y="239"/>
                      </a:cubicBezTo>
                      <a:cubicBezTo>
                        <a:pt x="141" y="253"/>
                        <a:pt x="69" y="294"/>
                        <a:pt x="45" y="317"/>
                      </a:cubicBezTo>
                      <a:cubicBezTo>
                        <a:pt x="21" y="340"/>
                        <a:pt x="15" y="356"/>
                        <a:pt x="9" y="379"/>
                      </a:cubicBezTo>
                      <a:cubicBezTo>
                        <a:pt x="3" y="402"/>
                        <a:pt x="4" y="427"/>
                        <a:pt x="12" y="455"/>
                      </a:cubicBezTo>
                      <a:cubicBezTo>
                        <a:pt x="20" y="483"/>
                        <a:pt x="29" y="522"/>
                        <a:pt x="60" y="545"/>
                      </a:cubicBezTo>
                      <a:cubicBezTo>
                        <a:pt x="91" y="568"/>
                        <a:pt x="151" y="596"/>
                        <a:pt x="195" y="596"/>
                      </a:cubicBezTo>
                      <a:cubicBezTo>
                        <a:pt x="239" y="596"/>
                        <a:pt x="297" y="569"/>
                        <a:pt x="327" y="548"/>
                      </a:cubicBezTo>
                      <a:cubicBezTo>
                        <a:pt x="357" y="527"/>
                        <a:pt x="367" y="498"/>
                        <a:pt x="378" y="470"/>
                      </a:cubicBezTo>
                      <a:cubicBezTo>
                        <a:pt x="389" y="442"/>
                        <a:pt x="392" y="413"/>
                        <a:pt x="396" y="383"/>
                      </a:cubicBezTo>
                      <a:cubicBezTo>
                        <a:pt x="400" y="353"/>
                        <a:pt x="394" y="318"/>
                        <a:pt x="401" y="287"/>
                      </a:cubicBezTo>
                      <a:cubicBezTo>
                        <a:pt x="408" y="256"/>
                        <a:pt x="409" y="222"/>
                        <a:pt x="437" y="199"/>
                      </a:cubicBezTo>
                      <a:cubicBezTo>
                        <a:pt x="465" y="176"/>
                        <a:pt x="519" y="157"/>
                        <a:pt x="566" y="151"/>
                      </a:cubicBezTo>
                      <a:cubicBezTo>
                        <a:pt x="613" y="145"/>
                        <a:pt x="672" y="148"/>
                        <a:pt x="717" y="163"/>
                      </a:cubicBezTo>
                      <a:cubicBezTo>
                        <a:pt x="762" y="178"/>
                        <a:pt x="812" y="208"/>
                        <a:pt x="834" y="242"/>
                      </a:cubicBezTo>
                      <a:cubicBezTo>
                        <a:pt x="856" y="276"/>
                        <a:pt x="850" y="337"/>
                        <a:pt x="852" y="370"/>
                      </a:cubicBezTo>
                      <a:cubicBezTo>
                        <a:pt x="854" y="403"/>
                        <a:pt x="849" y="416"/>
                        <a:pt x="846" y="440"/>
                      </a:cubicBezTo>
                      <a:cubicBezTo>
                        <a:pt x="843" y="464"/>
                        <a:pt x="837" y="492"/>
                        <a:pt x="831" y="514"/>
                      </a:cubicBezTo>
                      <a:cubicBezTo>
                        <a:pt x="825" y="536"/>
                        <a:pt x="818" y="554"/>
                        <a:pt x="810" y="572"/>
                      </a:cubicBezTo>
                      <a:cubicBezTo>
                        <a:pt x="802" y="590"/>
                        <a:pt x="795" y="610"/>
                        <a:pt x="780" y="625"/>
                      </a:cubicBezTo>
                      <a:cubicBezTo>
                        <a:pt x="765" y="640"/>
                        <a:pt x="744" y="659"/>
                        <a:pt x="717" y="665"/>
                      </a:cubicBezTo>
                      <a:cubicBezTo>
                        <a:pt x="690" y="671"/>
                        <a:pt x="645" y="668"/>
                        <a:pt x="618" y="659"/>
                      </a:cubicBezTo>
                      <a:cubicBezTo>
                        <a:pt x="591" y="650"/>
                        <a:pt x="568" y="633"/>
                        <a:pt x="552" y="611"/>
                      </a:cubicBezTo>
                      <a:cubicBezTo>
                        <a:pt x="536" y="589"/>
                        <a:pt x="524" y="560"/>
                        <a:pt x="522" y="527"/>
                      </a:cubicBezTo>
                      <a:cubicBezTo>
                        <a:pt x="520" y="494"/>
                        <a:pt x="526" y="444"/>
                        <a:pt x="537" y="410"/>
                      </a:cubicBezTo>
                      <a:cubicBezTo>
                        <a:pt x="548" y="376"/>
                        <a:pt x="567" y="350"/>
                        <a:pt x="587" y="325"/>
                      </a:cubicBezTo>
                      <a:cubicBezTo>
                        <a:pt x="607" y="300"/>
                        <a:pt x="640" y="276"/>
                        <a:pt x="654" y="263"/>
                      </a:cubicBezTo>
                      <a:cubicBezTo>
                        <a:pt x="668" y="250"/>
                        <a:pt x="667" y="251"/>
                        <a:pt x="671" y="248"/>
                      </a:cubicBez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1" name=""/>
                <p:cNvGrpSpPr/>
                <p:nvPr/>
              </p:nvGrpSpPr>
              <p:grpSpPr>
                <a:xfrm>
                  <a:off x="7482960" y="5410800"/>
                  <a:ext cx="297360" cy="257040"/>
                  <a:chOff x="7482960" y="5410800"/>
                  <a:chExt cx="297360" cy="257040"/>
                </a:xfrm>
              </p:grpSpPr>
              <p:sp>
                <p:nvSpPr>
                  <p:cNvPr id="132" name=""/>
                  <p:cNvSpPr/>
                  <p:nvPr/>
                </p:nvSpPr>
                <p:spPr>
                  <a:xfrm flipH="1" rot="19132200">
                    <a:off x="7509240" y="5536080"/>
                    <a:ext cx="91440" cy="11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133" name=""/>
                  <p:cNvSpPr/>
                  <p:nvPr/>
                </p:nvSpPr>
                <p:spPr>
                  <a:xfrm flipH="1" rot="19132200">
                    <a:off x="7569000" y="5502240"/>
                    <a:ext cx="79200" cy="9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Times New Roman"/>
                    </a:endParaRPr>
                  </a:p>
                </p:txBody>
              </p:sp>
              <p:sp>
                <p:nvSpPr>
                  <p:cNvPr id="134" name=""/>
                  <p:cNvSpPr/>
                  <p:nvPr/>
                </p:nvSpPr>
                <p:spPr>
                  <a:xfrm flipH="1" rot="19132200">
                    <a:off x="7622280" y="5469120"/>
                    <a:ext cx="702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135" name=""/>
                  <p:cNvSpPr/>
                  <p:nvPr/>
                </p:nvSpPr>
                <p:spPr>
                  <a:xfrm flipH="1" rot="19132200">
                    <a:off x="7674120" y="5439600"/>
                    <a:ext cx="5796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136" name=""/>
                  <p:cNvSpPr/>
                  <p:nvPr/>
                </p:nvSpPr>
                <p:spPr>
                  <a:xfrm flipH="1" rot="19132200">
                    <a:off x="7716600" y="5417280"/>
                    <a:ext cx="46080" cy="6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grpSp>
          </p:grpSp>
          <p:sp>
            <p:nvSpPr>
              <p:cNvPr id="137" name=""/>
              <p:cNvSpPr/>
              <p:nvPr/>
            </p:nvSpPr>
            <p:spPr>
              <a:xfrm>
                <a:off x="6804000" y="5324400"/>
                <a:ext cx="36720" cy="63360"/>
              </a:xfrm>
              <a:prstGeom prst="ellipse">
                <a:avLst/>
              </a:prstGeom>
              <a:solidFill>
                <a:srgbClr val="ffff66"/>
              </a:solidFill>
              <a:ln w="9360">
                <a:solidFill>
                  <a:srgbClr val="ffff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sp>
        <p:nvSpPr>
          <p:cNvPr id="138" name=""/>
          <p:cNvSpPr/>
          <p:nvPr/>
        </p:nvSpPr>
        <p:spPr>
          <a:xfrm>
            <a:off x="1363680" y="2709720"/>
            <a:ext cx="69660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Ex. Plants, algae and some bacteria</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6800" y="280800"/>
            <a:ext cx="7772400" cy="116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Black"/>
              </a:rPr>
              <a:t>CONSUMERS</a:t>
            </a:r>
            <a:endParaRPr b="0" lang="en-US" sz="5400" spc="-1" strike="noStrike">
              <a:solidFill>
                <a:srgbClr val="003300"/>
              </a:solidFill>
              <a:latin typeface="Arial Black"/>
            </a:endParaRPr>
          </a:p>
        </p:txBody>
      </p:sp>
      <p:sp>
        <p:nvSpPr>
          <p:cNvPr id="140" name="PlaceHolder 2"/>
          <p:cNvSpPr>
            <a:spLocks noGrp="1"/>
          </p:cNvSpPr>
          <p:nvPr>
            <p:ph/>
          </p:nvPr>
        </p:nvSpPr>
        <p:spPr>
          <a:xfrm>
            <a:off x="1322280" y="1898280"/>
            <a:ext cx="6485040" cy="73044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What are consumers?</a:t>
            </a:r>
            <a:endParaRPr b="0" lang="en-US" sz="4000" spc="-1" strike="noStrike">
              <a:solidFill>
                <a:srgbClr val="663300"/>
              </a:solidFill>
              <a:latin typeface="Arial"/>
            </a:endParaRPr>
          </a:p>
        </p:txBody>
      </p:sp>
      <p:sp>
        <p:nvSpPr>
          <p:cNvPr id="141" name=""/>
          <p:cNvSpPr/>
          <p:nvPr/>
        </p:nvSpPr>
        <p:spPr>
          <a:xfrm>
            <a:off x="4433760" y="4748040"/>
            <a:ext cx="4057920" cy="1832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1217520" y="5013360"/>
            <a:ext cx="6969240" cy="1545480"/>
            <a:chOff x="1217520" y="5013360"/>
            <a:chExt cx="6969240" cy="1545480"/>
          </a:xfrm>
        </p:grpSpPr>
        <p:sp>
          <p:nvSpPr>
            <p:cNvPr id="143" name=""/>
            <p:cNvSpPr/>
            <p:nvPr/>
          </p:nvSpPr>
          <p:spPr>
            <a:xfrm>
              <a:off x="411480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144" name=""/>
            <p:cNvGrpSpPr/>
            <p:nvPr/>
          </p:nvGrpSpPr>
          <p:grpSpPr>
            <a:xfrm>
              <a:off x="1217520" y="5013360"/>
              <a:ext cx="1219320" cy="1545480"/>
              <a:chOff x="1217520" y="5013360"/>
              <a:chExt cx="1219320" cy="1545480"/>
            </a:xfrm>
          </p:grpSpPr>
          <p:sp>
            <p:nvSpPr>
              <p:cNvPr id="145" name=""/>
              <p:cNvSpPr/>
              <p:nvPr/>
            </p:nvSpPr>
            <p:spPr>
              <a:xfrm>
                <a:off x="1217520" y="5013360"/>
                <a:ext cx="1219320" cy="121932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343520" y="622152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unlight</a:t>
                </a:r>
                <a:endParaRPr b="0" lang="en-US" sz="1600" spc="-1" strike="noStrike">
                  <a:solidFill>
                    <a:srgbClr val="ffffff"/>
                  </a:solidFill>
                  <a:latin typeface="Times New Roman"/>
                </a:endParaRPr>
              </a:p>
            </p:txBody>
          </p:sp>
        </p:grpSp>
        <p:grpSp>
          <p:nvGrpSpPr>
            <p:cNvPr id="147" name=""/>
            <p:cNvGrpSpPr/>
            <p:nvPr/>
          </p:nvGrpSpPr>
          <p:grpSpPr>
            <a:xfrm>
              <a:off x="3143160" y="5318280"/>
              <a:ext cx="1113480" cy="1240560"/>
              <a:chOff x="3143160" y="5318280"/>
              <a:chExt cx="1113480" cy="1240560"/>
            </a:xfrm>
          </p:grpSpPr>
          <p:sp>
            <p:nvSpPr>
              <p:cNvPr id="148" name=""/>
              <p:cNvSpPr/>
              <p:nvPr/>
            </p:nvSpPr>
            <p:spPr>
              <a:xfrm>
                <a:off x="3143160" y="5318280"/>
                <a:ext cx="1094040" cy="914400"/>
              </a:xfrm>
              <a:custGeom>
                <a:avLst/>
                <a:gdLst/>
                <a:ahLst/>
                <a:rect l="l" t="t" r="r" b="b"/>
                <a:pathLst>
                  <a:path w="689" h="614">
                    <a:moveTo>
                      <a:pt x="256" y="606"/>
                    </a:moveTo>
                    <a:cubicBezTo>
                      <a:pt x="296" y="606"/>
                      <a:pt x="336" y="606"/>
                      <a:pt x="352" y="558"/>
                    </a:cubicBezTo>
                    <a:cubicBezTo>
                      <a:pt x="368" y="510"/>
                      <a:pt x="368" y="376"/>
                      <a:pt x="352" y="318"/>
                    </a:cubicBezTo>
                    <a:cubicBezTo>
                      <a:pt x="336" y="260"/>
                      <a:pt x="270" y="220"/>
                      <a:pt x="253" y="210"/>
                    </a:cubicBezTo>
                    <a:cubicBezTo>
                      <a:pt x="236" y="200"/>
                      <a:pt x="259" y="240"/>
                      <a:pt x="250" y="261"/>
                    </a:cubicBezTo>
                    <a:cubicBezTo>
                      <a:pt x="241" y="282"/>
                      <a:pt x="223" y="318"/>
                      <a:pt x="196" y="336"/>
                    </a:cubicBezTo>
                    <a:cubicBezTo>
                      <a:pt x="169" y="354"/>
                      <a:pt x="116" y="367"/>
                      <a:pt x="85" y="369"/>
                    </a:cubicBezTo>
                    <a:cubicBezTo>
                      <a:pt x="54" y="371"/>
                      <a:pt x="20" y="359"/>
                      <a:pt x="10" y="348"/>
                    </a:cubicBezTo>
                    <a:cubicBezTo>
                      <a:pt x="0" y="337"/>
                      <a:pt x="16" y="324"/>
                      <a:pt x="25" y="303"/>
                    </a:cubicBezTo>
                    <a:cubicBezTo>
                      <a:pt x="34" y="282"/>
                      <a:pt x="42" y="243"/>
                      <a:pt x="64" y="222"/>
                    </a:cubicBezTo>
                    <a:cubicBezTo>
                      <a:pt x="86" y="201"/>
                      <a:pt x="128" y="182"/>
                      <a:pt x="160" y="174"/>
                    </a:cubicBezTo>
                    <a:cubicBezTo>
                      <a:pt x="192" y="166"/>
                      <a:pt x="224" y="166"/>
                      <a:pt x="256" y="174"/>
                    </a:cubicBezTo>
                    <a:cubicBezTo>
                      <a:pt x="288" y="182"/>
                      <a:pt x="331" y="228"/>
                      <a:pt x="352" y="222"/>
                    </a:cubicBezTo>
                    <a:cubicBezTo>
                      <a:pt x="373" y="216"/>
                      <a:pt x="374" y="161"/>
                      <a:pt x="385" y="138"/>
                    </a:cubicBezTo>
                    <a:cubicBezTo>
                      <a:pt x="396" y="115"/>
                      <a:pt x="403" y="105"/>
                      <a:pt x="421" y="84"/>
                    </a:cubicBezTo>
                    <a:cubicBezTo>
                      <a:pt x="439" y="63"/>
                      <a:pt x="468" y="24"/>
                      <a:pt x="496" y="12"/>
                    </a:cubicBezTo>
                    <a:cubicBezTo>
                      <a:pt x="524" y="0"/>
                      <a:pt x="565" y="6"/>
                      <a:pt x="589" y="12"/>
                    </a:cubicBezTo>
                    <a:cubicBezTo>
                      <a:pt x="613" y="18"/>
                      <a:pt x="624" y="31"/>
                      <a:pt x="640" y="48"/>
                    </a:cubicBezTo>
                    <a:cubicBezTo>
                      <a:pt x="656" y="65"/>
                      <a:pt x="689" y="97"/>
                      <a:pt x="688" y="114"/>
                    </a:cubicBezTo>
                    <a:cubicBezTo>
                      <a:pt x="687" y="131"/>
                      <a:pt x="659" y="146"/>
                      <a:pt x="631" y="153"/>
                    </a:cubicBezTo>
                    <a:cubicBezTo>
                      <a:pt x="603" y="160"/>
                      <a:pt x="550" y="161"/>
                      <a:pt x="517" y="156"/>
                    </a:cubicBezTo>
                    <a:cubicBezTo>
                      <a:pt x="484" y="151"/>
                      <a:pt x="453" y="110"/>
                      <a:pt x="433" y="120"/>
                    </a:cubicBezTo>
                    <a:cubicBezTo>
                      <a:pt x="413" y="130"/>
                      <a:pt x="404" y="184"/>
                      <a:pt x="397" y="216"/>
                    </a:cubicBezTo>
                    <a:cubicBezTo>
                      <a:pt x="390" y="248"/>
                      <a:pt x="388" y="282"/>
                      <a:pt x="388" y="315"/>
                    </a:cubicBezTo>
                    <a:cubicBezTo>
                      <a:pt x="388" y="348"/>
                      <a:pt x="390" y="374"/>
                      <a:pt x="400" y="414"/>
                    </a:cubicBezTo>
                    <a:cubicBezTo>
                      <a:pt x="410" y="454"/>
                      <a:pt x="424" y="526"/>
                      <a:pt x="448" y="558"/>
                    </a:cubicBezTo>
                    <a:cubicBezTo>
                      <a:pt x="472" y="590"/>
                      <a:pt x="576" y="598"/>
                      <a:pt x="544" y="606"/>
                    </a:cubicBezTo>
                    <a:cubicBezTo>
                      <a:pt x="512" y="614"/>
                      <a:pt x="316" y="606"/>
                      <a:pt x="256" y="606"/>
                    </a:cubicBezTo>
                  </a:path>
                </a:pathLst>
              </a:custGeom>
              <a:solidFill>
                <a:srgbClr val="009900"/>
              </a:solidFill>
              <a:ln w="93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198240" y="622152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producer</a:t>
                </a:r>
                <a:endParaRPr b="0" lang="en-US" sz="1600" spc="-1" strike="noStrike">
                  <a:solidFill>
                    <a:srgbClr val="ffffff"/>
                  </a:solidFill>
                  <a:latin typeface="Times New Roman"/>
                </a:endParaRPr>
              </a:p>
            </p:txBody>
          </p:sp>
        </p:grpSp>
        <p:sp>
          <p:nvSpPr>
            <p:cNvPr id="150" name=""/>
            <p:cNvSpPr/>
            <p:nvPr/>
          </p:nvSpPr>
          <p:spPr>
            <a:xfrm>
              <a:off x="5981760" y="5607000"/>
              <a:ext cx="552240" cy="144360"/>
            </a:xfrm>
            <a:prstGeom prst="rightArrow">
              <a:avLst>
                <a:gd name="adj1" fmla="val 50000"/>
                <a:gd name="adj2" fmla="val 95636"/>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51" name=""/>
            <p:cNvSpPr/>
            <p:nvPr/>
          </p:nvSpPr>
          <p:spPr>
            <a:xfrm>
              <a:off x="253368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152" name=""/>
            <p:cNvGrpSpPr/>
            <p:nvPr/>
          </p:nvGrpSpPr>
          <p:grpSpPr>
            <a:xfrm>
              <a:off x="4689360" y="5016600"/>
              <a:ext cx="1417320" cy="1542240"/>
              <a:chOff x="4689360" y="5016600"/>
              <a:chExt cx="1417320" cy="1542240"/>
            </a:xfrm>
          </p:grpSpPr>
          <p:sp>
            <p:nvSpPr>
              <p:cNvPr id="153" name=""/>
              <p:cNvSpPr/>
              <p:nvPr/>
            </p:nvSpPr>
            <p:spPr>
              <a:xfrm>
                <a:off x="4716360" y="62215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1</a:t>
                </a:r>
                <a:endParaRPr b="0" lang="en-US" sz="1600" spc="-1" strike="noStrike">
                  <a:solidFill>
                    <a:srgbClr val="ffffff"/>
                  </a:solidFill>
                  <a:latin typeface="Times New Roman"/>
                </a:endParaRPr>
              </a:p>
            </p:txBody>
          </p:sp>
          <p:grpSp>
            <p:nvGrpSpPr>
              <p:cNvPr id="154" name=""/>
              <p:cNvGrpSpPr/>
              <p:nvPr/>
            </p:nvGrpSpPr>
            <p:grpSpPr>
              <a:xfrm>
                <a:off x="4689360" y="5016600"/>
                <a:ext cx="1417320" cy="1239480"/>
                <a:chOff x="4689360" y="5016600"/>
                <a:chExt cx="1417320" cy="1239480"/>
              </a:xfrm>
            </p:grpSpPr>
            <p:grpSp>
              <p:nvGrpSpPr>
                <p:cNvPr id="155" name=""/>
                <p:cNvGrpSpPr/>
                <p:nvPr/>
              </p:nvGrpSpPr>
              <p:grpSpPr>
                <a:xfrm>
                  <a:off x="4689360" y="5016600"/>
                  <a:ext cx="1417320" cy="1239480"/>
                  <a:chOff x="4689360" y="5016600"/>
                  <a:chExt cx="1417320" cy="1239480"/>
                </a:xfrm>
              </p:grpSpPr>
              <p:sp>
                <p:nvSpPr>
                  <p:cNvPr id="156" name=""/>
                  <p:cNvSpPr/>
                  <p:nvPr/>
                </p:nvSpPr>
                <p:spPr>
                  <a:xfrm>
                    <a:off x="4689360" y="5016600"/>
                    <a:ext cx="986400" cy="1195200"/>
                  </a:xfrm>
                  <a:custGeom>
                    <a:avLst/>
                    <a:gdLst/>
                    <a:ahLst/>
                    <a:rect l="l" t="t" r="r" b="b"/>
                    <a:pathLst>
                      <a:path w="691" h="838">
                        <a:moveTo>
                          <a:pt x="318" y="177"/>
                        </a:moveTo>
                        <a:cubicBezTo>
                          <a:pt x="324" y="168"/>
                          <a:pt x="397" y="115"/>
                          <a:pt x="408" y="89"/>
                        </a:cubicBezTo>
                        <a:cubicBezTo>
                          <a:pt x="419" y="63"/>
                          <a:pt x="395" y="34"/>
                          <a:pt x="382" y="19"/>
                        </a:cubicBezTo>
                        <a:cubicBezTo>
                          <a:pt x="369" y="4"/>
                          <a:pt x="347" y="2"/>
                          <a:pt x="330" y="1"/>
                        </a:cubicBezTo>
                        <a:cubicBezTo>
                          <a:pt x="313" y="0"/>
                          <a:pt x="297" y="5"/>
                          <a:pt x="282" y="15"/>
                        </a:cubicBezTo>
                        <a:cubicBezTo>
                          <a:pt x="267" y="25"/>
                          <a:pt x="250" y="39"/>
                          <a:pt x="242" y="59"/>
                        </a:cubicBezTo>
                        <a:cubicBezTo>
                          <a:pt x="234" y="79"/>
                          <a:pt x="234" y="117"/>
                          <a:pt x="232" y="137"/>
                        </a:cubicBezTo>
                        <a:cubicBezTo>
                          <a:pt x="230" y="157"/>
                          <a:pt x="238" y="169"/>
                          <a:pt x="232" y="180"/>
                        </a:cubicBezTo>
                        <a:cubicBezTo>
                          <a:pt x="226" y="191"/>
                          <a:pt x="216" y="198"/>
                          <a:pt x="194" y="204"/>
                        </a:cubicBezTo>
                        <a:cubicBezTo>
                          <a:pt x="172" y="210"/>
                          <a:pt x="129" y="206"/>
                          <a:pt x="98" y="214"/>
                        </a:cubicBezTo>
                        <a:cubicBezTo>
                          <a:pt x="67" y="222"/>
                          <a:pt x="12" y="241"/>
                          <a:pt x="6" y="252"/>
                        </a:cubicBezTo>
                        <a:cubicBezTo>
                          <a:pt x="0" y="263"/>
                          <a:pt x="45" y="270"/>
                          <a:pt x="64" y="283"/>
                        </a:cubicBezTo>
                        <a:cubicBezTo>
                          <a:pt x="83" y="296"/>
                          <a:pt x="101" y="314"/>
                          <a:pt x="120" y="333"/>
                        </a:cubicBezTo>
                        <a:cubicBezTo>
                          <a:pt x="139" y="352"/>
                          <a:pt x="167" y="379"/>
                          <a:pt x="180" y="399"/>
                        </a:cubicBezTo>
                        <a:cubicBezTo>
                          <a:pt x="193" y="419"/>
                          <a:pt x="203" y="441"/>
                          <a:pt x="196" y="453"/>
                        </a:cubicBezTo>
                        <a:cubicBezTo>
                          <a:pt x="189" y="465"/>
                          <a:pt x="154" y="456"/>
                          <a:pt x="138" y="469"/>
                        </a:cubicBezTo>
                        <a:cubicBezTo>
                          <a:pt x="122" y="482"/>
                          <a:pt x="96" y="526"/>
                          <a:pt x="102" y="531"/>
                        </a:cubicBezTo>
                        <a:cubicBezTo>
                          <a:pt x="108" y="536"/>
                          <a:pt x="155" y="504"/>
                          <a:pt x="174" y="502"/>
                        </a:cubicBezTo>
                        <a:cubicBezTo>
                          <a:pt x="193" y="500"/>
                          <a:pt x="210" y="508"/>
                          <a:pt x="218" y="521"/>
                        </a:cubicBezTo>
                        <a:cubicBezTo>
                          <a:pt x="226" y="534"/>
                          <a:pt x="220" y="559"/>
                          <a:pt x="224" y="581"/>
                        </a:cubicBezTo>
                        <a:cubicBezTo>
                          <a:pt x="228" y="603"/>
                          <a:pt x="230" y="629"/>
                          <a:pt x="242" y="655"/>
                        </a:cubicBezTo>
                        <a:cubicBezTo>
                          <a:pt x="254" y="681"/>
                          <a:pt x="281" y="717"/>
                          <a:pt x="298" y="735"/>
                        </a:cubicBezTo>
                        <a:cubicBezTo>
                          <a:pt x="315" y="753"/>
                          <a:pt x="336" y="757"/>
                          <a:pt x="347" y="766"/>
                        </a:cubicBezTo>
                        <a:cubicBezTo>
                          <a:pt x="358" y="775"/>
                          <a:pt x="377" y="789"/>
                          <a:pt x="362" y="790"/>
                        </a:cubicBezTo>
                        <a:cubicBezTo>
                          <a:pt x="347" y="791"/>
                          <a:pt x="280" y="777"/>
                          <a:pt x="256" y="775"/>
                        </a:cubicBezTo>
                        <a:cubicBezTo>
                          <a:pt x="232" y="773"/>
                          <a:pt x="230" y="767"/>
                          <a:pt x="218" y="775"/>
                        </a:cubicBezTo>
                        <a:cubicBezTo>
                          <a:pt x="206" y="783"/>
                          <a:pt x="180" y="813"/>
                          <a:pt x="184" y="823"/>
                        </a:cubicBezTo>
                        <a:cubicBezTo>
                          <a:pt x="188" y="833"/>
                          <a:pt x="218" y="836"/>
                          <a:pt x="244" y="837"/>
                        </a:cubicBezTo>
                        <a:cubicBezTo>
                          <a:pt x="270" y="838"/>
                          <a:pt x="318" y="829"/>
                          <a:pt x="342" y="828"/>
                        </a:cubicBezTo>
                        <a:cubicBezTo>
                          <a:pt x="366" y="827"/>
                          <a:pt x="369" y="829"/>
                          <a:pt x="388" y="829"/>
                        </a:cubicBezTo>
                        <a:cubicBezTo>
                          <a:pt x="407" y="829"/>
                          <a:pt x="435" y="832"/>
                          <a:pt x="456" y="831"/>
                        </a:cubicBezTo>
                        <a:cubicBezTo>
                          <a:pt x="477" y="830"/>
                          <a:pt x="493" y="828"/>
                          <a:pt x="512" y="823"/>
                        </a:cubicBezTo>
                        <a:cubicBezTo>
                          <a:pt x="531" y="818"/>
                          <a:pt x="546" y="814"/>
                          <a:pt x="568" y="799"/>
                        </a:cubicBezTo>
                        <a:cubicBezTo>
                          <a:pt x="590" y="784"/>
                          <a:pt x="625" y="762"/>
                          <a:pt x="645" y="732"/>
                        </a:cubicBezTo>
                        <a:cubicBezTo>
                          <a:pt x="665" y="702"/>
                          <a:pt x="691" y="661"/>
                          <a:pt x="688" y="617"/>
                        </a:cubicBezTo>
                        <a:cubicBezTo>
                          <a:pt x="685" y="573"/>
                          <a:pt x="646" y="505"/>
                          <a:pt x="628" y="467"/>
                        </a:cubicBezTo>
                        <a:cubicBezTo>
                          <a:pt x="610" y="429"/>
                          <a:pt x="598" y="411"/>
                          <a:pt x="578" y="389"/>
                        </a:cubicBezTo>
                        <a:cubicBezTo>
                          <a:pt x="558" y="367"/>
                          <a:pt x="531" y="354"/>
                          <a:pt x="506" y="335"/>
                        </a:cubicBezTo>
                        <a:cubicBezTo>
                          <a:pt x="481" y="316"/>
                          <a:pt x="455" y="290"/>
                          <a:pt x="428" y="273"/>
                        </a:cubicBezTo>
                        <a:cubicBezTo>
                          <a:pt x="401" y="256"/>
                          <a:pt x="349" y="237"/>
                          <a:pt x="346" y="235"/>
                        </a:cubicBezTo>
                        <a:cubicBezTo>
                          <a:pt x="343" y="233"/>
                          <a:pt x="386" y="256"/>
                          <a:pt x="410" y="259"/>
                        </a:cubicBezTo>
                        <a:cubicBezTo>
                          <a:pt x="434" y="262"/>
                          <a:pt x="467" y="256"/>
                          <a:pt x="488" y="251"/>
                        </a:cubicBezTo>
                        <a:cubicBezTo>
                          <a:pt x="509" y="246"/>
                          <a:pt x="522" y="238"/>
                          <a:pt x="534" y="227"/>
                        </a:cubicBezTo>
                        <a:cubicBezTo>
                          <a:pt x="546" y="216"/>
                          <a:pt x="557" y="200"/>
                          <a:pt x="562" y="187"/>
                        </a:cubicBezTo>
                        <a:cubicBezTo>
                          <a:pt x="567" y="174"/>
                          <a:pt x="564" y="162"/>
                          <a:pt x="562" y="149"/>
                        </a:cubicBezTo>
                        <a:cubicBezTo>
                          <a:pt x="560" y="136"/>
                          <a:pt x="557" y="123"/>
                          <a:pt x="550" y="111"/>
                        </a:cubicBezTo>
                        <a:cubicBezTo>
                          <a:pt x="543" y="99"/>
                          <a:pt x="533" y="83"/>
                          <a:pt x="518" y="75"/>
                        </a:cubicBezTo>
                        <a:cubicBezTo>
                          <a:pt x="503" y="67"/>
                          <a:pt x="479" y="59"/>
                          <a:pt x="462" y="61"/>
                        </a:cubicBezTo>
                        <a:cubicBezTo>
                          <a:pt x="445" y="63"/>
                          <a:pt x="429" y="75"/>
                          <a:pt x="414" y="89"/>
                        </a:cubicBezTo>
                        <a:cubicBezTo>
                          <a:pt x="399" y="103"/>
                          <a:pt x="387" y="127"/>
                          <a:pt x="371" y="142"/>
                        </a:cubicBezTo>
                        <a:cubicBezTo>
                          <a:pt x="355" y="157"/>
                          <a:pt x="322" y="182"/>
                          <a:pt x="318" y="177"/>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5321880" y="5211720"/>
                    <a:ext cx="784800" cy="1044360"/>
                  </a:xfrm>
                  <a:custGeom>
                    <a:avLst/>
                    <a:gdLst/>
                    <a:ahLst/>
                    <a:rect l="l" t="t" r="r" b="b"/>
                    <a:pathLst>
                      <a:path w="550" h="732">
                        <a:moveTo>
                          <a:pt x="82" y="684"/>
                        </a:moveTo>
                        <a:cubicBezTo>
                          <a:pt x="105" y="681"/>
                          <a:pt x="121" y="690"/>
                          <a:pt x="149" y="684"/>
                        </a:cubicBezTo>
                        <a:cubicBezTo>
                          <a:pt x="177" y="678"/>
                          <a:pt x="221" y="666"/>
                          <a:pt x="250" y="648"/>
                        </a:cubicBezTo>
                        <a:cubicBezTo>
                          <a:pt x="279" y="630"/>
                          <a:pt x="307" y="604"/>
                          <a:pt x="322" y="578"/>
                        </a:cubicBezTo>
                        <a:cubicBezTo>
                          <a:pt x="337" y="552"/>
                          <a:pt x="339" y="529"/>
                          <a:pt x="341" y="494"/>
                        </a:cubicBezTo>
                        <a:cubicBezTo>
                          <a:pt x="343" y="459"/>
                          <a:pt x="335" y="404"/>
                          <a:pt x="331" y="370"/>
                        </a:cubicBezTo>
                        <a:cubicBezTo>
                          <a:pt x="327" y="336"/>
                          <a:pt x="324" y="320"/>
                          <a:pt x="319" y="290"/>
                        </a:cubicBezTo>
                        <a:cubicBezTo>
                          <a:pt x="314" y="260"/>
                          <a:pt x="297" y="225"/>
                          <a:pt x="303" y="190"/>
                        </a:cubicBezTo>
                        <a:cubicBezTo>
                          <a:pt x="309" y="155"/>
                          <a:pt x="335" y="110"/>
                          <a:pt x="357" y="82"/>
                        </a:cubicBezTo>
                        <a:cubicBezTo>
                          <a:pt x="379" y="54"/>
                          <a:pt x="405" y="35"/>
                          <a:pt x="437" y="22"/>
                        </a:cubicBezTo>
                        <a:cubicBezTo>
                          <a:pt x="469" y="9"/>
                          <a:pt x="550" y="0"/>
                          <a:pt x="550" y="2"/>
                        </a:cubicBezTo>
                        <a:cubicBezTo>
                          <a:pt x="550" y="4"/>
                          <a:pt x="469" y="14"/>
                          <a:pt x="437" y="34"/>
                        </a:cubicBezTo>
                        <a:cubicBezTo>
                          <a:pt x="405" y="54"/>
                          <a:pt x="372" y="90"/>
                          <a:pt x="357" y="122"/>
                        </a:cubicBezTo>
                        <a:cubicBezTo>
                          <a:pt x="342" y="154"/>
                          <a:pt x="343" y="190"/>
                          <a:pt x="346" y="228"/>
                        </a:cubicBezTo>
                        <a:cubicBezTo>
                          <a:pt x="349" y="266"/>
                          <a:pt x="371" y="306"/>
                          <a:pt x="377" y="350"/>
                        </a:cubicBezTo>
                        <a:cubicBezTo>
                          <a:pt x="383" y="394"/>
                          <a:pt x="392" y="443"/>
                          <a:pt x="385" y="490"/>
                        </a:cubicBezTo>
                        <a:cubicBezTo>
                          <a:pt x="378" y="537"/>
                          <a:pt x="357" y="594"/>
                          <a:pt x="334" y="631"/>
                        </a:cubicBezTo>
                        <a:cubicBezTo>
                          <a:pt x="311" y="668"/>
                          <a:pt x="281" y="693"/>
                          <a:pt x="247" y="710"/>
                        </a:cubicBezTo>
                        <a:cubicBezTo>
                          <a:pt x="213" y="727"/>
                          <a:pt x="164" y="732"/>
                          <a:pt x="129" y="732"/>
                        </a:cubicBezTo>
                        <a:cubicBezTo>
                          <a:pt x="94" y="732"/>
                          <a:pt x="54" y="718"/>
                          <a:pt x="34" y="713"/>
                        </a:cubicBezTo>
                        <a:cubicBezTo>
                          <a:pt x="14" y="708"/>
                          <a:pt x="0" y="706"/>
                          <a:pt x="10" y="701"/>
                        </a:cubicBezTo>
                        <a:cubicBezTo>
                          <a:pt x="20" y="696"/>
                          <a:pt x="59" y="687"/>
                          <a:pt x="82" y="684"/>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V="1">
                    <a:off x="4743720" y="5259960"/>
                    <a:ext cx="11160" cy="85320"/>
                  </a:xfrm>
                  <a:prstGeom prst="line">
                    <a:avLst/>
                  </a:prstGeom>
                  <a:ln w="1260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9" name=""/>
                  <p:cNvSpPr/>
                  <p:nvPr/>
                </p:nvSpPr>
                <p:spPr>
                  <a:xfrm flipV="1">
                    <a:off x="4749120" y="5194440"/>
                    <a:ext cx="105840" cy="156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H="1">
                    <a:off x="4734720" y="5405760"/>
                    <a:ext cx="5760" cy="85680"/>
                  </a:xfrm>
                  <a:prstGeom prst="line">
                    <a:avLst/>
                  </a:prstGeom>
                  <a:ln w="1260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 name=""/>
                  <p:cNvSpPr/>
                  <p:nvPr/>
                </p:nvSpPr>
                <p:spPr>
                  <a:xfrm>
                    <a:off x="4754880" y="5408640"/>
                    <a:ext cx="73800" cy="125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2" name=""/>
                <p:cNvSpPr/>
                <p:nvPr/>
              </p:nvSpPr>
              <p:spPr>
                <a:xfrm>
                  <a:off x="4951440" y="5354640"/>
                  <a:ext cx="57240" cy="63360"/>
                </a:xfrm>
                <a:prstGeom prst="ellipse">
                  <a:avLst/>
                </a:prstGeom>
                <a:solidFill>
                  <a:srgbClr val="5f5f5f"/>
                </a:solidFill>
                <a:ln w="9360">
                  <a:solidFill>
                    <a:srgbClr val="5f5f5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nvGrpSpPr>
            <p:cNvPr id="163" name=""/>
            <p:cNvGrpSpPr/>
            <p:nvPr/>
          </p:nvGrpSpPr>
          <p:grpSpPr>
            <a:xfrm>
              <a:off x="6653160" y="5079960"/>
              <a:ext cx="1533600" cy="1478880"/>
              <a:chOff x="6653160" y="5079960"/>
              <a:chExt cx="1533600" cy="1478880"/>
            </a:xfrm>
          </p:grpSpPr>
          <p:sp>
            <p:nvSpPr>
              <p:cNvPr id="164" name=""/>
              <p:cNvSpPr/>
              <p:nvPr/>
            </p:nvSpPr>
            <p:spPr>
              <a:xfrm>
                <a:off x="6715080" y="62215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2</a:t>
                </a:r>
                <a:endParaRPr b="0" lang="en-US" sz="1600" spc="-1" strike="noStrike">
                  <a:solidFill>
                    <a:srgbClr val="ffffff"/>
                  </a:solidFill>
                  <a:latin typeface="Times New Roman"/>
                </a:endParaRPr>
              </a:p>
            </p:txBody>
          </p:sp>
          <p:grpSp>
            <p:nvGrpSpPr>
              <p:cNvPr id="165" name=""/>
              <p:cNvGrpSpPr/>
              <p:nvPr/>
            </p:nvGrpSpPr>
            <p:grpSpPr>
              <a:xfrm>
                <a:off x="6653160" y="5079960"/>
                <a:ext cx="1533600" cy="1206360"/>
                <a:chOff x="6653160" y="5079960"/>
                <a:chExt cx="1533600" cy="1206360"/>
              </a:xfrm>
            </p:grpSpPr>
            <p:grpSp>
              <p:nvGrpSpPr>
                <p:cNvPr id="166" name=""/>
                <p:cNvGrpSpPr/>
                <p:nvPr/>
              </p:nvGrpSpPr>
              <p:grpSpPr>
                <a:xfrm>
                  <a:off x="6653160" y="5079960"/>
                  <a:ext cx="1533600" cy="1206360"/>
                  <a:chOff x="6653160" y="5079960"/>
                  <a:chExt cx="1533600" cy="1206360"/>
                </a:xfrm>
              </p:grpSpPr>
              <p:sp>
                <p:nvSpPr>
                  <p:cNvPr id="167" name=""/>
                  <p:cNvSpPr/>
                  <p:nvPr/>
                </p:nvSpPr>
                <p:spPr>
                  <a:xfrm>
                    <a:off x="6653160" y="5079960"/>
                    <a:ext cx="1533600" cy="1206360"/>
                  </a:xfrm>
                  <a:custGeom>
                    <a:avLst/>
                    <a:gdLst/>
                    <a:ahLst/>
                    <a:rect l="l" t="t" r="r" b="b"/>
                    <a:pathLst>
                      <a:path w="966" h="760">
                        <a:moveTo>
                          <a:pt x="671" y="248"/>
                        </a:moveTo>
                        <a:cubicBezTo>
                          <a:pt x="657" y="250"/>
                          <a:pt x="605" y="277"/>
                          <a:pt x="576" y="293"/>
                        </a:cubicBezTo>
                        <a:cubicBezTo>
                          <a:pt x="547" y="309"/>
                          <a:pt x="518" y="328"/>
                          <a:pt x="498" y="346"/>
                        </a:cubicBezTo>
                        <a:cubicBezTo>
                          <a:pt x="478" y="364"/>
                          <a:pt x="466" y="378"/>
                          <a:pt x="456" y="403"/>
                        </a:cubicBezTo>
                        <a:cubicBezTo>
                          <a:pt x="446" y="428"/>
                          <a:pt x="436" y="463"/>
                          <a:pt x="435" y="499"/>
                        </a:cubicBezTo>
                        <a:cubicBezTo>
                          <a:pt x="434" y="535"/>
                          <a:pt x="436" y="585"/>
                          <a:pt x="450" y="620"/>
                        </a:cubicBezTo>
                        <a:cubicBezTo>
                          <a:pt x="464" y="655"/>
                          <a:pt x="484" y="687"/>
                          <a:pt x="519" y="709"/>
                        </a:cubicBezTo>
                        <a:cubicBezTo>
                          <a:pt x="554" y="731"/>
                          <a:pt x="616" y="748"/>
                          <a:pt x="660" y="754"/>
                        </a:cubicBezTo>
                        <a:cubicBezTo>
                          <a:pt x="704" y="760"/>
                          <a:pt x="751" y="754"/>
                          <a:pt x="785" y="743"/>
                        </a:cubicBezTo>
                        <a:cubicBezTo>
                          <a:pt x="819" y="732"/>
                          <a:pt x="846" y="705"/>
                          <a:pt x="867" y="686"/>
                        </a:cubicBezTo>
                        <a:cubicBezTo>
                          <a:pt x="888" y="667"/>
                          <a:pt x="896" y="658"/>
                          <a:pt x="908" y="632"/>
                        </a:cubicBezTo>
                        <a:cubicBezTo>
                          <a:pt x="920" y="606"/>
                          <a:pt x="933" y="567"/>
                          <a:pt x="941" y="532"/>
                        </a:cubicBezTo>
                        <a:cubicBezTo>
                          <a:pt x="949" y="497"/>
                          <a:pt x="953" y="457"/>
                          <a:pt x="957" y="424"/>
                        </a:cubicBezTo>
                        <a:cubicBezTo>
                          <a:pt x="961" y="391"/>
                          <a:pt x="966" y="364"/>
                          <a:pt x="965" y="332"/>
                        </a:cubicBezTo>
                        <a:cubicBezTo>
                          <a:pt x="964" y="300"/>
                          <a:pt x="963" y="267"/>
                          <a:pt x="951" y="230"/>
                        </a:cubicBezTo>
                        <a:cubicBezTo>
                          <a:pt x="939" y="193"/>
                          <a:pt x="913" y="139"/>
                          <a:pt x="891" y="110"/>
                        </a:cubicBezTo>
                        <a:cubicBezTo>
                          <a:pt x="869" y="81"/>
                          <a:pt x="847" y="69"/>
                          <a:pt x="818" y="53"/>
                        </a:cubicBezTo>
                        <a:cubicBezTo>
                          <a:pt x="789" y="37"/>
                          <a:pt x="759" y="24"/>
                          <a:pt x="719" y="16"/>
                        </a:cubicBezTo>
                        <a:cubicBezTo>
                          <a:pt x="679" y="8"/>
                          <a:pt x="619" y="0"/>
                          <a:pt x="576" y="2"/>
                        </a:cubicBezTo>
                        <a:cubicBezTo>
                          <a:pt x="533" y="4"/>
                          <a:pt x="491" y="16"/>
                          <a:pt x="459" y="28"/>
                        </a:cubicBezTo>
                        <a:cubicBezTo>
                          <a:pt x="427" y="40"/>
                          <a:pt x="405" y="55"/>
                          <a:pt x="384" y="73"/>
                        </a:cubicBezTo>
                        <a:cubicBezTo>
                          <a:pt x="363" y="91"/>
                          <a:pt x="346" y="105"/>
                          <a:pt x="330" y="134"/>
                        </a:cubicBezTo>
                        <a:cubicBezTo>
                          <a:pt x="314" y="163"/>
                          <a:pt x="301" y="207"/>
                          <a:pt x="291" y="248"/>
                        </a:cubicBezTo>
                        <a:cubicBezTo>
                          <a:pt x="281" y="289"/>
                          <a:pt x="278" y="350"/>
                          <a:pt x="269" y="383"/>
                        </a:cubicBezTo>
                        <a:cubicBezTo>
                          <a:pt x="260" y="416"/>
                          <a:pt x="255" y="433"/>
                          <a:pt x="240" y="446"/>
                        </a:cubicBezTo>
                        <a:cubicBezTo>
                          <a:pt x="225" y="459"/>
                          <a:pt x="202" y="469"/>
                          <a:pt x="182" y="463"/>
                        </a:cubicBezTo>
                        <a:cubicBezTo>
                          <a:pt x="162" y="457"/>
                          <a:pt x="119" y="431"/>
                          <a:pt x="119" y="407"/>
                        </a:cubicBezTo>
                        <a:cubicBezTo>
                          <a:pt x="119" y="383"/>
                          <a:pt x="162" y="341"/>
                          <a:pt x="182" y="320"/>
                        </a:cubicBezTo>
                        <a:cubicBezTo>
                          <a:pt x="202" y="299"/>
                          <a:pt x="224" y="292"/>
                          <a:pt x="236" y="280"/>
                        </a:cubicBezTo>
                        <a:cubicBezTo>
                          <a:pt x="248" y="268"/>
                          <a:pt x="254" y="257"/>
                          <a:pt x="255" y="245"/>
                        </a:cubicBezTo>
                        <a:cubicBezTo>
                          <a:pt x="256" y="233"/>
                          <a:pt x="252" y="215"/>
                          <a:pt x="245" y="205"/>
                        </a:cubicBezTo>
                        <a:cubicBezTo>
                          <a:pt x="238" y="195"/>
                          <a:pt x="217" y="196"/>
                          <a:pt x="210" y="185"/>
                        </a:cubicBezTo>
                        <a:cubicBezTo>
                          <a:pt x="203" y="174"/>
                          <a:pt x="218" y="148"/>
                          <a:pt x="203" y="137"/>
                        </a:cubicBezTo>
                        <a:cubicBezTo>
                          <a:pt x="188" y="126"/>
                          <a:pt x="146" y="115"/>
                          <a:pt x="120" y="116"/>
                        </a:cubicBezTo>
                        <a:cubicBezTo>
                          <a:pt x="94" y="117"/>
                          <a:pt x="67" y="133"/>
                          <a:pt x="48" y="143"/>
                        </a:cubicBezTo>
                        <a:cubicBezTo>
                          <a:pt x="29" y="153"/>
                          <a:pt x="0" y="164"/>
                          <a:pt x="3" y="179"/>
                        </a:cubicBezTo>
                        <a:cubicBezTo>
                          <a:pt x="6" y="194"/>
                          <a:pt x="44" y="224"/>
                          <a:pt x="66" y="233"/>
                        </a:cubicBezTo>
                        <a:cubicBezTo>
                          <a:pt x="88" y="242"/>
                          <a:pt x="120" y="232"/>
                          <a:pt x="135" y="233"/>
                        </a:cubicBezTo>
                        <a:cubicBezTo>
                          <a:pt x="150" y="234"/>
                          <a:pt x="171" y="225"/>
                          <a:pt x="156" y="239"/>
                        </a:cubicBezTo>
                        <a:cubicBezTo>
                          <a:pt x="141" y="253"/>
                          <a:pt x="69" y="294"/>
                          <a:pt x="45" y="317"/>
                        </a:cubicBezTo>
                        <a:cubicBezTo>
                          <a:pt x="21" y="340"/>
                          <a:pt x="15" y="356"/>
                          <a:pt x="9" y="379"/>
                        </a:cubicBezTo>
                        <a:cubicBezTo>
                          <a:pt x="3" y="402"/>
                          <a:pt x="4" y="427"/>
                          <a:pt x="12" y="455"/>
                        </a:cubicBezTo>
                        <a:cubicBezTo>
                          <a:pt x="20" y="483"/>
                          <a:pt x="29" y="522"/>
                          <a:pt x="60" y="545"/>
                        </a:cubicBezTo>
                        <a:cubicBezTo>
                          <a:pt x="91" y="568"/>
                          <a:pt x="151" y="596"/>
                          <a:pt x="195" y="596"/>
                        </a:cubicBezTo>
                        <a:cubicBezTo>
                          <a:pt x="239" y="596"/>
                          <a:pt x="297" y="569"/>
                          <a:pt x="327" y="548"/>
                        </a:cubicBezTo>
                        <a:cubicBezTo>
                          <a:pt x="357" y="527"/>
                          <a:pt x="367" y="498"/>
                          <a:pt x="378" y="470"/>
                        </a:cubicBezTo>
                        <a:cubicBezTo>
                          <a:pt x="389" y="442"/>
                          <a:pt x="392" y="413"/>
                          <a:pt x="396" y="383"/>
                        </a:cubicBezTo>
                        <a:cubicBezTo>
                          <a:pt x="400" y="353"/>
                          <a:pt x="394" y="318"/>
                          <a:pt x="401" y="287"/>
                        </a:cubicBezTo>
                        <a:cubicBezTo>
                          <a:pt x="408" y="256"/>
                          <a:pt x="409" y="222"/>
                          <a:pt x="437" y="199"/>
                        </a:cubicBezTo>
                        <a:cubicBezTo>
                          <a:pt x="465" y="176"/>
                          <a:pt x="519" y="157"/>
                          <a:pt x="566" y="151"/>
                        </a:cubicBezTo>
                        <a:cubicBezTo>
                          <a:pt x="613" y="145"/>
                          <a:pt x="672" y="148"/>
                          <a:pt x="717" y="163"/>
                        </a:cubicBezTo>
                        <a:cubicBezTo>
                          <a:pt x="762" y="178"/>
                          <a:pt x="812" y="208"/>
                          <a:pt x="834" y="242"/>
                        </a:cubicBezTo>
                        <a:cubicBezTo>
                          <a:pt x="856" y="276"/>
                          <a:pt x="850" y="337"/>
                          <a:pt x="852" y="370"/>
                        </a:cubicBezTo>
                        <a:cubicBezTo>
                          <a:pt x="854" y="403"/>
                          <a:pt x="849" y="416"/>
                          <a:pt x="846" y="440"/>
                        </a:cubicBezTo>
                        <a:cubicBezTo>
                          <a:pt x="843" y="464"/>
                          <a:pt x="837" y="492"/>
                          <a:pt x="831" y="514"/>
                        </a:cubicBezTo>
                        <a:cubicBezTo>
                          <a:pt x="825" y="536"/>
                          <a:pt x="818" y="554"/>
                          <a:pt x="810" y="572"/>
                        </a:cubicBezTo>
                        <a:cubicBezTo>
                          <a:pt x="802" y="590"/>
                          <a:pt x="795" y="610"/>
                          <a:pt x="780" y="625"/>
                        </a:cubicBezTo>
                        <a:cubicBezTo>
                          <a:pt x="765" y="640"/>
                          <a:pt x="744" y="659"/>
                          <a:pt x="717" y="665"/>
                        </a:cubicBezTo>
                        <a:cubicBezTo>
                          <a:pt x="690" y="671"/>
                          <a:pt x="645" y="668"/>
                          <a:pt x="618" y="659"/>
                        </a:cubicBezTo>
                        <a:cubicBezTo>
                          <a:pt x="591" y="650"/>
                          <a:pt x="568" y="633"/>
                          <a:pt x="552" y="611"/>
                        </a:cubicBezTo>
                        <a:cubicBezTo>
                          <a:pt x="536" y="589"/>
                          <a:pt x="524" y="560"/>
                          <a:pt x="522" y="527"/>
                        </a:cubicBezTo>
                        <a:cubicBezTo>
                          <a:pt x="520" y="494"/>
                          <a:pt x="526" y="444"/>
                          <a:pt x="537" y="410"/>
                        </a:cubicBezTo>
                        <a:cubicBezTo>
                          <a:pt x="548" y="376"/>
                          <a:pt x="567" y="350"/>
                          <a:pt x="587" y="325"/>
                        </a:cubicBezTo>
                        <a:cubicBezTo>
                          <a:pt x="607" y="300"/>
                          <a:pt x="640" y="276"/>
                          <a:pt x="654" y="263"/>
                        </a:cubicBezTo>
                        <a:cubicBezTo>
                          <a:pt x="668" y="250"/>
                          <a:pt x="667" y="251"/>
                          <a:pt x="671" y="248"/>
                        </a:cubicBez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8" name=""/>
                  <p:cNvGrpSpPr/>
                  <p:nvPr/>
                </p:nvGrpSpPr>
                <p:grpSpPr>
                  <a:xfrm>
                    <a:off x="7482960" y="5410800"/>
                    <a:ext cx="297360" cy="257040"/>
                    <a:chOff x="7482960" y="5410800"/>
                    <a:chExt cx="297360" cy="257040"/>
                  </a:xfrm>
                </p:grpSpPr>
                <p:sp>
                  <p:nvSpPr>
                    <p:cNvPr id="169" name=""/>
                    <p:cNvSpPr/>
                    <p:nvPr/>
                  </p:nvSpPr>
                  <p:spPr>
                    <a:xfrm flipH="1" rot="19132200">
                      <a:off x="7509240" y="5536080"/>
                      <a:ext cx="91440" cy="11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170" name=""/>
                    <p:cNvSpPr/>
                    <p:nvPr/>
                  </p:nvSpPr>
                  <p:spPr>
                    <a:xfrm flipH="1" rot="19132200">
                      <a:off x="7569000" y="5502240"/>
                      <a:ext cx="79200" cy="9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Times New Roman"/>
                      </a:endParaRPr>
                    </a:p>
                  </p:txBody>
                </p:sp>
                <p:sp>
                  <p:nvSpPr>
                    <p:cNvPr id="171" name=""/>
                    <p:cNvSpPr/>
                    <p:nvPr/>
                  </p:nvSpPr>
                  <p:spPr>
                    <a:xfrm flipH="1" rot="19132200">
                      <a:off x="7622280" y="5469120"/>
                      <a:ext cx="702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172" name=""/>
                    <p:cNvSpPr/>
                    <p:nvPr/>
                  </p:nvSpPr>
                  <p:spPr>
                    <a:xfrm flipH="1" rot="19132200">
                      <a:off x="7674120" y="5439600"/>
                      <a:ext cx="5796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173" name=""/>
                    <p:cNvSpPr/>
                    <p:nvPr/>
                  </p:nvSpPr>
                  <p:spPr>
                    <a:xfrm flipH="1" rot="19132200">
                      <a:off x="7716600" y="5417280"/>
                      <a:ext cx="46080" cy="6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grpSp>
            </p:grpSp>
            <p:sp>
              <p:nvSpPr>
                <p:cNvPr id="174" name=""/>
                <p:cNvSpPr/>
                <p:nvPr/>
              </p:nvSpPr>
              <p:spPr>
                <a:xfrm>
                  <a:off x="6804000" y="5324400"/>
                  <a:ext cx="36720" cy="63360"/>
                </a:xfrm>
                <a:prstGeom prst="ellipse">
                  <a:avLst/>
                </a:prstGeom>
                <a:solidFill>
                  <a:srgbClr val="ffff66"/>
                </a:solidFill>
                <a:ln w="9360">
                  <a:solidFill>
                    <a:srgbClr val="ffff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grpSp>
        <p:nvGrpSpPr>
          <p:cNvPr id="175" name=""/>
          <p:cNvGrpSpPr/>
          <p:nvPr/>
        </p:nvGrpSpPr>
        <p:grpSpPr>
          <a:xfrm>
            <a:off x="684360" y="186480"/>
            <a:ext cx="8436960" cy="2481120"/>
            <a:chOff x="684360" y="186480"/>
            <a:chExt cx="8436960" cy="2481120"/>
          </a:xfrm>
        </p:grpSpPr>
        <p:grpSp>
          <p:nvGrpSpPr>
            <p:cNvPr id="176" name=""/>
            <p:cNvGrpSpPr/>
            <p:nvPr/>
          </p:nvGrpSpPr>
          <p:grpSpPr>
            <a:xfrm>
              <a:off x="684360" y="254160"/>
              <a:ext cx="1416960" cy="1239480"/>
              <a:chOff x="684360" y="254160"/>
              <a:chExt cx="1416960" cy="1239480"/>
            </a:xfrm>
          </p:grpSpPr>
          <p:grpSp>
            <p:nvGrpSpPr>
              <p:cNvPr id="177" name=""/>
              <p:cNvGrpSpPr/>
              <p:nvPr/>
            </p:nvGrpSpPr>
            <p:grpSpPr>
              <a:xfrm>
                <a:off x="684360" y="254160"/>
                <a:ext cx="1416960" cy="1239480"/>
                <a:chOff x="684360" y="254160"/>
                <a:chExt cx="1416960" cy="1239480"/>
              </a:xfrm>
            </p:grpSpPr>
            <p:sp>
              <p:nvSpPr>
                <p:cNvPr id="178" name=""/>
                <p:cNvSpPr/>
                <p:nvPr/>
              </p:nvSpPr>
              <p:spPr>
                <a:xfrm flipH="1">
                  <a:off x="1114920" y="254160"/>
                  <a:ext cx="986040" cy="1195200"/>
                </a:xfrm>
                <a:custGeom>
                  <a:avLst/>
                  <a:gdLst/>
                  <a:ahLst/>
                  <a:rect l="l" t="t" r="r" b="b"/>
                  <a:pathLst>
                    <a:path w="691" h="838">
                      <a:moveTo>
                        <a:pt x="318" y="177"/>
                      </a:moveTo>
                      <a:cubicBezTo>
                        <a:pt x="324" y="168"/>
                        <a:pt x="397" y="115"/>
                        <a:pt x="408" y="89"/>
                      </a:cubicBezTo>
                      <a:cubicBezTo>
                        <a:pt x="419" y="63"/>
                        <a:pt x="395" y="34"/>
                        <a:pt x="382" y="19"/>
                      </a:cubicBezTo>
                      <a:cubicBezTo>
                        <a:pt x="369" y="4"/>
                        <a:pt x="347" y="2"/>
                        <a:pt x="330" y="1"/>
                      </a:cubicBezTo>
                      <a:cubicBezTo>
                        <a:pt x="313" y="0"/>
                        <a:pt x="297" y="5"/>
                        <a:pt x="282" y="15"/>
                      </a:cubicBezTo>
                      <a:cubicBezTo>
                        <a:pt x="267" y="25"/>
                        <a:pt x="250" y="39"/>
                        <a:pt x="242" y="59"/>
                      </a:cubicBezTo>
                      <a:cubicBezTo>
                        <a:pt x="234" y="79"/>
                        <a:pt x="234" y="117"/>
                        <a:pt x="232" y="137"/>
                      </a:cubicBezTo>
                      <a:cubicBezTo>
                        <a:pt x="230" y="157"/>
                        <a:pt x="238" y="169"/>
                        <a:pt x="232" y="180"/>
                      </a:cubicBezTo>
                      <a:cubicBezTo>
                        <a:pt x="226" y="191"/>
                        <a:pt x="216" y="198"/>
                        <a:pt x="194" y="204"/>
                      </a:cubicBezTo>
                      <a:cubicBezTo>
                        <a:pt x="172" y="210"/>
                        <a:pt x="129" y="206"/>
                        <a:pt x="98" y="214"/>
                      </a:cubicBezTo>
                      <a:cubicBezTo>
                        <a:pt x="67" y="222"/>
                        <a:pt x="12" y="241"/>
                        <a:pt x="6" y="252"/>
                      </a:cubicBezTo>
                      <a:cubicBezTo>
                        <a:pt x="0" y="263"/>
                        <a:pt x="45" y="270"/>
                        <a:pt x="64" y="283"/>
                      </a:cubicBezTo>
                      <a:cubicBezTo>
                        <a:pt x="83" y="296"/>
                        <a:pt x="101" y="314"/>
                        <a:pt x="120" y="333"/>
                      </a:cubicBezTo>
                      <a:cubicBezTo>
                        <a:pt x="139" y="352"/>
                        <a:pt x="167" y="379"/>
                        <a:pt x="180" y="399"/>
                      </a:cubicBezTo>
                      <a:cubicBezTo>
                        <a:pt x="193" y="419"/>
                        <a:pt x="203" y="441"/>
                        <a:pt x="196" y="453"/>
                      </a:cubicBezTo>
                      <a:cubicBezTo>
                        <a:pt x="189" y="465"/>
                        <a:pt x="154" y="456"/>
                        <a:pt x="138" y="469"/>
                      </a:cubicBezTo>
                      <a:cubicBezTo>
                        <a:pt x="122" y="482"/>
                        <a:pt x="96" y="526"/>
                        <a:pt x="102" y="531"/>
                      </a:cubicBezTo>
                      <a:cubicBezTo>
                        <a:pt x="108" y="536"/>
                        <a:pt x="155" y="504"/>
                        <a:pt x="174" y="502"/>
                      </a:cubicBezTo>
                      <a:cubicBezTo>
                        <a:pt x="193" y="500"/>
                        <a:pt x="210" y="508"/>
                        <a:pt x="218" y="521"/>
                      </a:cubicBezTo>
                      <a:cubicBezTo>
                        <a:pt x="226" y="534"/>
                        <a:pt x="220" y="559"/>
                        <a:pt x="224" y="581"/>
                      </a:cubicBezTo>
                      <a:cubicBezTo>
                        <a:pt x="228" y="603"/>
                        <a:pt x="230" y="629"/>
                        <a:pt x="242" y="655"/>
                      </a:cubicBezTo>
                      <a:cubicBezTo>
                        <a:pt x="254" y="681"/>
                        <a:pt x="281" y="717"/>
                        <a:pt x="298" y="735"/>
                      </a:cubicBezTo>
                      <a:cubicBezTo>
                        <a:pt x="315" y="753"/>
                        <a:pt x="336" y="757"/>
                        <a:pt x="347" y="766"/>
                      </a:cubicBezTo>
                      <a:cubicBezTo>
                        <a:pt x="358" y="775"/>
                        <a:pt x="377" y="789"/>
                        <a:pt x="362" y="790"/>
                      </a:cubicBezTo>
                      <a:cubicBezTo>
                        <a:pt x="347" y="791"/>
                        <a:pt x="280" y="777"/>
                        <a:pt x="256" y="775"/>
                      </a:cubicBezTo>
                      <a:cubicBezTo>
                        <a:pt x="232" y="773"/>
                        <a:pt x="230" y="767"/>
                        <a:pt x="218" y="775"/>
                      </a:cubicBezTo>
                      <a:cubicBezTo>
                        <a:pt x="206" y="783"/>
                        <a:pt x="180" y="813"/>
                        <a:pt x="184" y="823"/>
                      </a:cubicBezTo>
                      <a:cubicBezTo>
                        <a:pt x="188" y="833"/>
                        <a:pt x="218" y="836"/>
                        <a:pt x="244" y="837"/>
                      </a:cubicBezTo>
                      <a:cubicBezTo>
                        <a:pt x="270" y="838"/>
                        <a:pt x="318" y="829"/>
                        <a:pt x="342" y="828"/>
                      </a:cubicBezTo>
                      <a:cubicBezTo>
                        <a:pt x="366" y="827"/>
                        <a:pt x="369" y="829"/>
                        <a:pt x="388" y="829"/>
                      </a:cubicBezTo>
                      <a:cubicBezTo>
                        <a:pt x="407" y="829"/>
                        <a:pt x="435" y="832"/>
                        <a:pt x="456" y="831"/>
                      </a:cubicBezTo>
                      <a:cubicBezTo>
                        <a:pt x="477" y="830"/>
                        <a:pt x="493" y="828"/>
                        <a:pt x="512" y="823"/>
                      </a:cubicBezTo>
                      <a:cubicBezTo>
                        <a:pt x="531" y="818"/>
                        <a:pt x="546" y="814"/>
                        <a:pt x="568" y="799"/>
                      </a:cubicBezTo>
                      <a:cubicBezTo>
                        <a:pt x="590" y="784"/>
                        <a:pt x="625" y="762"/>
                        <a:pt x="645" y="732"/>
                      </a:cubicBezTo>
                      <a:cubicBezTo>
                        <a:pt x="665" y="702"/>
                        <a:pt x="691" y="661"/>
                        <a:pt x="688" y="617"/>
                      </a:cubicBezTo>
                      <a:cubicBezTo>
                        <a:pt x="685" y="573"/>
                        <a:pt x="646" y="505"/>
                        <a:pt x="628" y="467"/>
                      </a:cubicBezTo>
                      <a:cubicBezTo>
                        <a:pt x="610" y="429"/>
                        <a:pt x="598" y="411"/>
                        <a:pt x="578" y="389"/>
                      </a:cubicBezTo>
                      <a:cubicBezTo>
                        <a:pt x="558" y="367"/>
                        <a:pt x="531" y="354"/>
                        <a:pt x="506" y="335"/>
                      </a:cubicBezTo>
                      <a:cubicBezTo>
                        <a:pt x="481" y="316"/>
                        <a:pt x="455" y="290"/>
                        <a:pt x="428" y="273"/>
                      </a:cubicBezTo>
                      <a:cubicBezTo>
                        <a:pt x="401" y="256"/>
                        <a:pt x="349" y="237"/>
                        <a:pt x="346" y="235"/>
                      </a:cubicBezTo>
                      <a:cubicBezTo>
                        <a:pt x="343" y="233"/>
                        <a:pt x="386" y="256"/>
                        <a:pt x="410" y="259"/>
                      </a:cubicBezTo>
                      <a:cubicBezTo>
                        <a:pt x="434" y="262"/>
                        <a:pt x="467" y="256"/>
                        <a:pt x="488" y="251"/>
                      </a:cubicBezTo>
                      <a:cubicBezTo>
                        <a:pt x="509" y="246"/>
                        <a:pt x="522" y="238"/>
                        <a:pt x="534" y="227"/>
                      </a:cubicBezTo>
                      <a:cubicBezTo>
                        <a:pt x="546" y="216"/>
                        <a:pt x="557" y="200"/>
                        <a:pt x="562" y="187"/>
                      </a:cubicBezTo>
                      <a:cubicBezTo>
                        <a:pt x="567" y="174"/>
                        <a:pt x="564" y="162"/>
                        <a:pt x="562" y="149"/>
                      </a:cubicBezTo>
                      <a:cubicBezTo>
                        <a:pt x="560" y="136"/>
                        <a:pt x="557" y="123"/>
                        <a:pt x="550" y="111"/>
                      </a:cubicBezTo>
                      <a:cubicBezTo>
                        <a:pt x="543" y="99"/>
                        <a:pt x="533" y="83"/>
                        <a:pt x="518" y="75"/>
                      </a:cubicBezTo>
                      <a:cubicBezTo>
                        <a:pt x="503" y="67"/>
                        <a:pt x="479" y="59"/>
                        <a:pt x="462" y="61"/>
                      </a:cubicBezTo>
                      <a:cubicBezTo>
                        <a:pt x="445" y="63"/>
                        <a:pt x="429" y="75"/>
                        <a:pt x="414" y="89"/>
                      </a:cubicBezTo>
                      <a:cubicBezTo>
                        <a:pt x="399" y="103"/>
                        <a:pt x="387" y="127"/>
                        <a:pt x="371" y="142"/>
                      </a:cubicBezTo>
                      <a:cubicBezTo>
                        <a:pt x="355" y="157"/>
                        <a:pt x="322" y="182"/>
                        <a:pt x="318" y="177"/>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684360" y="449280"/>
                  <a:ext cx="784800" cy="1044360"/>
                </a:xfrm>
                <a:custGeom>
                  <a:avLst/>
                  <a:gdLst/>
                  <a:ahLst/>
                  <a:rect l="l" t="t" r="r" b="b"/>
                  <a:pathLst>
                    <a:path w="550" h="732">
                      <a:moveTo>
                        <a:pt x="82" y="684"/>
                      </a:moveTo>
                      <a:cubicBezTo>
                        <a:pt x="105" y="681"/>
                        <a:pt x="121" y="690"/>
                        <a:pt x="149" y="684"/>
                      </a:cubicBezTo>
                      <a:cubicBezTo>
                        <a:pt x="177" y="678"/>
                        <a:pt x="221" y="666"/>
                        <a:pt x="250" y="648"/>
                      </a:cubicBezTo>
                      <a:cubicBezTo>
                        <a:pt x="279" y="630"/>
                        <a:pt x="307" y="604"/>
                        <a:pt x="322" y="578"/>
                      </a:cubicBezTo>
                      <a:cubicBezTo>
                        <a:pt x="337" y="552"/>
                        <a:pt x="339" y="529"/>
                        <a:pt x="341" y="494"/>
                      </a:cubicBezTo>
                      <a:cubicBezTo>
                        <a:pt x="343" y="459"/>
                        <a:pt x="335" y="404"/>
                        <a:pt x="331" y="370"/>
                      </a:cubicBezTo>
                      <a:cubicBezTo>
                        <a:pt x="327" y="336"/>
                        <a:pt x="324" y="320"/>
                        <a:pt x="319" y="290"/>
                      </a:cubicBezTo>
                      <a:cubicBezTo>
                        <a:pt x="314" y="260"/>
                        <a:pt x="297" y="225"/>
                        <a:pt x="303" y="190"/>
                      </a:cubicBezTo>
                      <a:cubicBezTo>
                        <a:pt x="309" y="155"/>
                        <a:pt x="335" y="110"/>
                        <a:pt x="357" y="82"/>
                      </a:cubicBezTo>
                      <a:cubicBezTo>
                        <a:pt x="379" y="54"/>
                        <a:pt x="405" y="35"/>
                        <a:pt x="437" y="22"/>
                      </a:cubicBezTo>
                      <a:cubicBezTo>
                        <a:pt x="469" y="9"/>
                        <a:pt x="550" y="0"/>
                        <a:pt x="550" y="2"/>
                      </a:cubicBezTo>
                      <a:cubicBezTo>
                        <a:pt x="550" y="4"/>
                        <a:pt x="469" y="14"/>
                        <a:pt x="437" y="34"/>
                      </a:cubicBezTo>
                      <a:cubicBezTo>
                        <a:pt x="405" y="54"/>
                        <a:pt x="372" y="90"/>
                        <a:pt x="357" y="122"/>
                      </a:cubicBezTo>
                      <a:cubicBezTo>
                        <a:pt x="342" y="154"/>
                        <a:pt x="343" y="190"/>
                        <a:pt x="346" y="228"/>
                      </a:cubicBezTo>
                      <a:cubicBezTo>
                        <a:pt x="349" y="266"/>
                        <a:pt x="371" y="306"/>
                        <a:pt x="377" y="350"/>
                      </a:cubicBezTo>
                      <a:cubicBezTo>
                        <a:pt x="383" y="394"/>
                        <a:pt x="392" y="443"/>
                        <a:pt x="385" y="490"/>
                      </a:cubicBezTo>
                      <a:cubicBezTo>
                        <a:pt x="378" y="537"/>
                        <a:pt x="357" y="594"/>
                        <a:pt x="334" y="631"/>
                      </a:cubicBezTo>
                      <a:cubicBezTo>
                        <a:pt x="311" y="668"/>
                        <a:pt x="281" y="693"/>
                        <a:pt x="247" y="710"/>
                      </a:cubicBezTo>
                      <a:cubicBezTo>
                        <a:pt x="213" y="727"/>
                        <a:pt x="164" y="732"/>
                        <a:pt x="129" y="732"/>
                      </a:cubicBezTo>
                      <a:cubicBezTo>
                        <a:pt x="94" y="732"/>
                        <a:pt x="54" y="718"/>
                        <a:pt x="34" y="713"/>
                      </a:cubicBezTo>
                      <a:cubicBezTo>
                        <a:pt x="14" y="708"/>
                        <a:pt x="0" y="706"/>
                        <a:pt x="10" y="701"/>
                      </a:cubicBezTo>
                      <a:cubicBezTo>
                        <a:pt x="20" y="696"/>
                        <a:pt x="59" y="687"/>
                        <a:pt x="82" y="684"/>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flipH="1" flipV="1">
                  <a:off x="2035800" y="497520"/>
                  <a:ext cx="11160" cy="85320"/>
                </a:xfrm>
                <a:prstGeom prst="line">
                  <a:avLst/>
                </a:prstGeom>
                <a:ln w="1260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1" name=""/>
                <p:cNvSpPr/>
                <p:nvPr/>
              </p:nvSpPr>
              <p:spPr>
                <a:xfrm flipH="1" flipV="1">
                  <a:off x="1935720" y="432000"/>
                  <a:ext cx="105840" cy="156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050200" y="643320"/>
                  <a:ext cx="5760" cy="85680"/>
                </a:xfrm>
                <a:prstGeom prst="line">
                  <a:avLst/>
                </a:prstGeom>
                <a:ln w="1260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3" name=""/>
                <p:cNvSpPr/>
                <p:nvPr/>
              </p:nvSpPr>
              <p:spPr>
                <a:xfrm flipH="1">
                  <a:off x="1962000" y="646200"/>
                  <a:ext cx="73800" cy="125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4" name=""/>
              <p:cNvSpPr/>
              <p:nvPr/>
            </p:nvSpPr>
            <p:spPr>
              <a:xfrm flipH="1">
                <a:off x="1782720" y="592200"/>
                <a:ext cx="56880" cy="63360"/>
              </a:xfrm>
              <a:prstGeom prst="ellipse">
                <a:avLst/>
              </a:prstGeom>
              <a:solidFill>
                <a:srgbClr val="5f5f5f"/>
              </a:solidFill>
              <a:ln w="9360">
                <a:solidFill>
                  <a:srgbClr val="5f5f5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185" name=""/>
            <p:cNvGrpSpPr/>
            <p:nvPr/>
          </p:nvGrpSpPr>
          <p:grpSpPr>
            <a:xfrm>
              <a:off x="6437160" y="186480"/>
              <a:ext cx="2684160" cy="2481120"/>
              <a:chOff x="6437160" y="186480"/>
              <a:chExt cx="2684160" cy="2481120"/>
            </a:xfrm>
          </p:grpSpPr>
          <p:grpSp>
            <p:nvGrpSpPr>
              <p:cNvPr id="186" name=""/>
              <p:cNvGrpSpPr/>
              <p:nvPr/>
            </p:nvGrpSpPr>
            <p:grpSpPr>
              <a:xfrm>
                <a:off x="6437160" y="186480"/>
                <a:ext cx="2684160" cy="2481120"/>
                <a:chOff x="6437160" y="186480"/>
                <a:chExt cx="2684160" cy="2481120"/>
              </a:xfrm>
            </p:grpSpPr>
            <p:sp>
              <p:nvSpPr>
                <p:cNvPr id="187" name=""/>
                <p:cNvSpPr/>
                <p:nvPr/>
              </p:nvSpPr>
              <p:spPr>
                <a:xfrm rot="19789200">
                  <a:off x="6694200" y="622440"/>
                  <a:ext cx="2169360" cy="1608840"/>
                </a:xfrm>
                <a:custGeom>
                  <a:avLst/>
                  <a:gdLst/>
                  <a:ahLst/>
                  <a:rect l="l" t="t" r="r" b="b"/>
                  <a:pathLst>
                    <a:path w="966" h="760">
                      <a:moveTo>
                        <a:pt x="671" y="248"/>
                      </a:moveTo>
                      <a:cubicBezTo>
                        <a:pt x="657" y="250"/>
                        <a:pt x="605" y="277"/>
                        <a:pt x="576" y="293"/>
                      </a:cubicBezTo>
                      <a:cubicBezTo>
                        <a:pt x="547" y="309"/>
                        <a:pt x="518" y="328"/>
                        <a:pt x="498" y="346"/>
                      </a:cubicBezTo>
                      <a:cubicBezTo>
                        <a:pt x="478" y="364"/>
                        <a:pt x="466" y="378"/>
                        <a:pt x="456" y="403"/>
                      </a:cubicBezTo>
                      <a:cubicBezTo>
                        <a:pt x="446" y="428"/>
                        <a:pt x="436" y="463"/>
                        <a:pt x="435" y="499"/>
                      </a:cubicBezTo>
                      <a:cubicBezTo>
                        <a:pt x="434" y="535"/>
                        <a:pt x="436" y="585"/>
                        <a:pt x="450" y="620"/>
                      </a:cubicBezTo>
                      <a:cubicBezTo>
                        <a:pt x="464" y="655"/>
                        <a:pt x="484" y="687"/>
                        <a:pt x="519" y="709"/>
                      </a:cubicBezTo>
                      <a:cubicBezTo>
                        <a:pt x="554" y="731"/>
                        <a:pt x="616" y="748"/>
                        <a:pt x="660" y="754"/>
                      </a:cubicBezTo>
                      <a:cubicBezTo>
                        <a:pt x="704" y="760"/>
                        <a:pt x="751" y="754"/>
                        <a:pt x="785" y="743"/>
                      </a:cubicBezTo>
                      <a:cubicBezTo>
                        <a:pt x="819" y="732"/>
                        <a:pt x="846" y="705"/>
                        <a:pt x="867" y="686"/>
                      </a:cubicBezTo>
                      <a:cubicBezTo>
                        <a:pt x="888" y="667"/>
                        <a:pt x="896" y="658"/>
                        <a:pt x="908" y="632"/>
                      </a:cubicBezTo>
                      <a:cubicBezTo>
                        <a:pt x="920" y="606"/>
                        <a:pt x="933" y="567"/>
                        <a:pt x="941" y="532"/>
                      </a:cubicBezTo>
                      <a:cubicBezTo>
                        <a:pt x="949" y="497"/>
                        <a:pt x="953" y="457"/>
                        <a:pt x="957" y="424"/>
                      </a:cubicBezTo>
                      <a:cubicBezTo>
                        <a:pt x="961" y="391"/>
                        <a:pt x="966" y="364"/>
                        <a:pt x="965" y="332"/>
                      </a:cubicBezTo>
                      <a:cubicBezTo>
                        <a:pt x="964" y="300"/>
                        <a:pt x="963" y="267"/>
                        <a:pt x="951" y="230"/>
                      </a:cubicBezTo>
                      <a:cubicBezTo>
                        <a:pt x="939" y="193"/>
                        <a:pt x="913" y="139"/>
                        <a:pt x="891" y="110"/>
                      </a:cubicBezTo>
                      <a:cubicBezTo>
                        <a:pt x="869" y="81"/>
                        <a:pt x="847" y="69"/>
                        <a:pt x="818" y="53"/>
                      </a:cubicBezTo>
                      <a:cubicBezTo>
                        <a:pt x="789" y="37"/>
                        <a:pt x="759" y="24"/>
                        <a:pt x="719" y="16"/>
                      </a:cubicBezTo>
                      <a:cubicBezTo>
                        <a:pt x="679" y="8"/>
                        <a:pt x="619" y="0"/>
                        <a:pt x="576" y="2"/>
                      </a:cubicBezTo>
                      <a:cubicBezTo>
                        <a:pt x="533" y="4"/>
                        <a:pt x="491" y="16"/>
                        <a:pt x="459" y="28"/>
                      </a:cubicBezTo>
                      <a:cubicBezTo>
                        <a:pt x="427" y="40"/>
                        <a:pt x="405" y="55"/>
                        <a:pt x="384" y="73"/>
                      </a:cubicBezTo>
                      <a:cubicBezTo>
                        <a:pt x="363" y="91"/>
                        <a:pt x="346" y="105"/>
                        <a:pt x="330" y="134"/>
                      </a:cubicBezTo>
                      <a:cubicBezTo>
                        <a:pt x="314" y="163"/>
                        <a:pt x="301" y="207"/>
                        <a:pt x="291" y="248"/>
                      </a:cubicBezTo>
                      <a:cubicBezTo>
                        <a:pt x="281" y="289"/>
                        <a:pt x="278" y="350"/>
                        <a:pt x="269" y="383"/>
                      </a:cubicBezTo>
                      <a:cubicBezTo>
                        <a:pt x="260" y="416"/>
                        <a:pt x="255" y="433"/>
                        <a:pt x="240" y="446"/>
                      </a:cubicBezTo>
                      <a:cubicBezTo>
                        <a:pt x="225" y="459"/>
                        <a:pt x="202" y="469"/>
                        <a:pt x="182" y="463"/>
                      </a:cubicBezTo>
                      <a:cubicBezTo>
                        <a:pt x="162" y="457"/>
                        <a:pt x="119" y="431"/>
                        <a:pt x="119" y="407"/>
                      </a:cubicBezTo>
                      <a:cubicBezTo>
                        <a:pt x="119" y="383"/>
                        <a:pt x="162" y="341"/>
                        <a:pt x="182" y="320"/>
                      </a:cubicBezTo>
                      <a:cubicBezTo>
                        <a:pt x="202" y="299"/>
                        <a:pt x="224" y="292"/>
                        <a:pt x="236" y="280"/>
                      </a:cubicBezTo>
                      <a:cubicBezTo>
                        <a:pt x="248" y="268"/>
                        <a:pt x="254" y="257"/>
                        <a:pt x="255" y="245"/>
                      </a:cubicBezTo>
                      <a:cubicBezTo>
                        <a:pt x="256" y="233"/>
                        <a:pt x="252" y="215"/>
                        <a:pt x="245" y="205"/>
                      </a:cubicBezTo>
                      <a:cubicBezTo>
                        <a:pt x="238" y="195"/>
                        <a:pt x="217" y="196"/>
                        <a:pt x="210" y="185"/>
                      </a:cubicBezTo>
                      <a:cubicBezTo>
                        <a:pt x="203" y="174"/>
                        <a:pt x="218" y="148"/>
                        <a:pt x="203" y="137"/>
                      </a:cubicBezTo>
                      <a:cubicBezTo>
                        <a:pt x="188" y="126"/>
                        <a:pt x="146" y="115"/>
                        <a:pt x="120" y="116"/>
                      </a:cubicBezTo>
                      <a:cubicBezTo>
                        <a:pt x="94" y="117"/>
                        <a:pt x="67" y="133"/>
                        <a:pt x="48" y="143"/>
                      </a:cubicBezTo>
                      <a:cubicBezTo>
                        <a:pt x="29" y="153"/>
                        <a:pt x="0" y="164"/>
                        <a:pt x="3" y="179"/>
                      </a:cubicBezTo>
                      <a:cubicBezTo>
                        <a:pt x="6" y="194"/>
                        <a:pt x="44" y="224"/>
                        <a:pt x="66" y="233"/>
                      </a:cubicBezTo>
                      <a:cubicBezTo>
                        <a:pt x="88" y="242"/>
                        <a:pt x="120" y="232"/>
                        <a:pt x="135" y="233"/>
                      </a:cubicBezTo>
                      <a:cubicBezTo>
                        <a:pt x="150" y="234"/>
                        <a:pt x="171" y="225"/>
                        <a:pt x="156" y="239"/>
                      </a:cubicBezTo>
                      <a:cubicBezTo>
                        <a:pt x="141" y="253"/>
                        <a:pt x="69" y="294"/>
                        <a:pt x="45" y="317"/>
                      </a:cubicBezTo>
                      <a:cubicBezTo>
                        <a:pt x="21" y="340"/>
                        <a:pt x="15" y="356"/>
                        <a:pt x="9" y="379"/>
                      </a:cubicBezTo>
                      <a:cubicBezTo>
                        <a:pt x="3" y="402"/>
                        <a:pt x="4" y="427"/>
                        <a:pt x="12" y="455"/>
                      </a:cubicBezTo>
                      <a:cubicBezTo>
                        <a:pt x="20" y="483"/>
                        <a:pt x="29" y="522"/>
                        <a:pt x="60" y="545"/>
                      </a:cubicBezTo>
                      <a:cubicBezTo>
                        <a:pt x="91" y="568"/>
                        <a:pt x="151" y="596"/>
                        <a:pt x="195" y="596"/>
                      </a:cubicBezTo>
                      <a:cubicBezTo>
                        <a:pt x="239" y="596"/>
                        <a:pt x="297" y="569"/>
                        <a:pt x="327" y="548"/>
                      </a:cubicBezTo>
                      <a:cubicBezTo>
                        <a:pt x="357" y="527"/>
                        <a:pt x="367" y="498"/>
                        <a:pt x="378" y="470"/>
                      </a:cubicBezTo>
                      <a:cubicBezTo>
                        <a:pt x="389" y="442"/>
                        <a:pt x="392" y="413"/>
                        <a:pt x="396" y="383"/>
                      </a:cubicBezTo>
                      <a:cubicBezTo>
                        <a:pt x="400" y="353"/>
                        <a:pt x="394" y="318"/>
                        <a:pt x="401" y="287"/>
                      </a:cubicBezTo>
                      <a:cubicBezTo>
                        <a:pt x="408" y="256"/>
                        <a:pt x="409" y="222"/>
                        <a:pt x="437" y="199"/>
                      </a:cubicBezTo>
                      <a:cubicBezTo>
                        <a:pt x="465" y="176"/>
                        <a:pt x="519" y="157"/>
                        <a:pt x="566" y="151"/>
                      </a:cubicBezTo>
                      <a:cubicBezTo>
                        <a:pt x="613" y="145"/>
                        <a:pt x="672" y="148"/>
                        <a:pt x="717" y="163"/>
                      </a:cubicBezTo>
                      <a:cubicBezTo>
                        <a:pt x="762" y="178"/>
                        <a:pt x="812" y="208"/>
                        <a:pt x="834" y="242"/>
                      </a:cubicBezTo>
                      <a:cubicBezTo>
                        <a:pt x="856" y="276"/>
                        <a:pt x="850" y="337"/>
                        <a:pt x="852" y="370"/>
                      </a:cubicBezTo>
                      <a:cubicBezTo>
                        <a:pt x="854" y="403"/>
                        <a:pt x="849" y="416"/>
                        <a:pt x="846" y="440"/>
                      </a:cubicBezTo>
                      <a:cubicBezTo>
                        <a:pt x="843" y="464"/>
                        <a:pt x="837" y="492"/>
                        <a:pt x="831" y="514"/>
                      </a:cubicBezTo>
                      <a:cubicBezTo>
                        <a:pt x="825" y="536"/>
                        <a:pt x="818" y="554"/>
                        <a:pt x="810" y="572"/>
                      </a:cubicBezTo>
                      <a:cubicBezTo>
                        <a:pt x="802" y="590"/>
                        <a:pt x="795" y="610"/>
                        <a:pt x="780" y="625"/>
                      </a:cubicBezTo>
                      <a:cubicBezTo>
                        <a:pt x="765" y="640"/>
                        <a:pt x="744" y="659"/>
                        <a:pt x="717" y="665"/>
                      </a:cubicBezTo>
                      <a:cubicBezTo>
                        <a:pt x="690" y="671"/>
                        <a:pt x="645" y="668"/>
                        <a:pt x="618" y="659"/>
                      </a:cubicBezTo>
                      <a:cubicBezTo>
                        <a:pt x="591" y="650"/>
                        <a:pt x="568" y="633"/>
                        <a:pt x="552" y="611"/>
                      </a:cubicBezTo>
                      <a:cubicBezTo>
                        <a:pt x="536" y="589"/>
                        <a:pt x="524" y="560"/>
                        <a:pt x="522" y="527"/>
                      </a:cubicBezTo>
                      <a:cubicBezTo>
                        <a:pt x="520" y="494"/>
                        <a:pt x="526" y="444"/>
                        <a:pt x="537" y="410"/>
                      </a:cubicBezTo>
                      <a:cubicBezTo>
                        <a:pt x="548" y="376"/>
                        <a:pt x="567" y="350"/>
                        <a:pt x="587" y="325"/>
                      </a:cubicBezTo>
                      <a:cubicBezTo>
                        <a:pt x="607" y="300"/>
                        <a:pt x="640" y="276"/>
                        <a:pt x="654" y="263"/>
                      </a:cubicBezTo>
                      <a:cubicBezTo>
                        <a:pt x="668" y="250"/>
                        <a:pt x="667" y="251"/>
                        <a:pt x="671" y="248"/>
                      </a:cubicBez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 name=""/>
                <p:cNvGrpSpPr/>
                <p:nvPr/>
              </p:nvGrpSpPr>
              <p:grpSpPr>
                <a:xfrm>
                  <a:off x="7793640" y="882360"/>
                  <a:ext cx="272160" cy="436320"/>
                  <a:chOff x="7793640" y="882360"/>
                  <a:chExt cx="272160" cy="436320"/>
                </a:xfrm>
              </p:grpSpPr>
              <p:sp>
                <p:nvSpPr>
                  <p:cNvPr id="189" name=""/>
                  <p:cNvSpPr/>
                  <p:nvPr/>
                </p:nvSpPr>
                <p:spPr>
                  <a:xfrm flipH="1" rot="17321400">
                    <a:off x="7822440" y="1155600"/>
                    <a:ext cx="129240" cy="154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H="1" rot="17321400">
                    <a:off x="7866720" y="1077480"/>
                    <a:ext cx="112680" cy="13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H="1" rot="17321400">
                    <a:off x="7906320" y="1002600"/>
                    <a:ext cx="9936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192" name=""/>
                  <p:cNvSpPr/>
                  <p:nvPr/>
                </p:nvSpPr>
                <p:spPr>
                  <a:xfrm flipH="1" rot="17321400">
                    <a:off x="7945560" y="934200"/>
                    <a:ext cx="81720" cy="10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193" name=""/>
                  <p:cNvSpPr/>
                  <p:nvPr/>
                </p:nvSpPr>
                <p:spPr>
                  <a:xfrm flipH="1" rot="17321400">
                    <a:off x="7979040" y="881280"/>
                    <a:ext cx="64440" cy="9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grpSp>
          <p:sp>
            <p:nvSpPr>
              <p:cNvPr id="194" name=""/>
              <p:cNvSpPr/>
              <p:nvPr/>
            </p:nvSpPr>
            <p:spPr>
              <a:xfrm rot="19789200">
                <a:off x="6802920" y="1432440"/>
                <a:ext cx="51840" cy="84240"/>
              </a:xfrm>
              <a:prstGeom prst="ellipse">
                <a:avLst/>
              </a:prstGeom>
              <a:solidFill>
                <a:srgbClr val="ffff66"/>
              </a:solidFill>
              <a:ln w="9360">
                <a:solidFill>
                  <a:srgbClr val="ffff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sp>
        <p:nvSpPr>
          <p:cNvPr id="195" name=""/>
          <p:cNvSpPr/>
          <p:nvPr/>
        </p:nvSpPr>
        <p:spPr>
          <a:xfrm>
            <a:off x="1380960" y="2776680"/>
            <a:ext cx="6400800" cy="284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Examples: deer, rabbits, cows, mice, lions, humans, hawks, snakes</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ere do all</a:t>
            </a:r>
            <a:br>
              <a:rPr sz="4400"/>
            </a:br>
            <a:r>
              <a:rPr b="0" lang="en-US" sz="4400" spc="-1" strike="noStrike">
                <a:solidFill>
                  <a:srgbClr val="003300"/>
                </a:solidFill>
                <a:latin typeface="Arial Black"/>
              </a:rPr>
              <a:t>the dead things go?</a:t>
            </a:r>
            <a:endParaRPr b="0" lang="en-US" sz="4400" spc="-1" strike="noStrike">
              <a:solidFill>
                <a:srgbClr val="003300"/>
              </a:solidFill>
              <a:latin typeface="Arial Black"/>
            </a:endParaRPr>
          </a:p>
        </p:txBody>
      </p:sp>
      <p:pic>
        <p:nvPicPr>
          <p:cNvPr id="197" name="" descr=""/>
          <p:cNvPicPr/>
          <p:nvPr/>
        </p:nvPicPr>
        <p:blipFill>
          <a:blip r:embed="rId1"/>
          <a:stretch/>
        </p:blipFill>
        <p:spPr>
          <a:xfrm>
            <a:off x="1876320" y="2620800"/>
            <a:ext cx="6222960" cy="27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Black"/>
              </a:rPr>
              <a:t>DECOMPOSERS</a:t>
            </a:r>
            <a:endParaRPr b="0" lang="en-US" sz="5400" spc="-1" strike="noStrike">
              <a:solidFill>
                <a:srgbClr val="003300"/>
              </a:solidFill>
              <a:latin typeface="Arial Black"/>
            </a:endParaRPr>
          </a:p>
        </p:txBody>
      </p:sp>
      <p:sp>
        <p:nvSpPr>
          <p:cNvPr id="199" name=""/>
          <p:cNvSpPr/>
          <p:nvPr/>
        </p:nvSpPr>
        <p:spPr>
          <a:xfrm>
            <a:off x="1430280" y="1463760"/>
            <a:ext cx="6649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What are decomposers?</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0" name=""/>
          <p:cNvSpPr/>
          <p:nvPr/>
        </p:nvSpPr>
        <p:spPr>
          <a:xfrm>
            <a:off x="1363680" y="2062080"/>
            <a:ext cx="71820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Examples: bacteria, fungi, insects</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grpSp>
        <p:nvGrpSpPr>
          <p:cNvPr id="201" name=""/>
          <p:cNvGrpSpPr/>
          <p:nvPr/>
        </p:nvGrpSpPr>
        <p:grpSpPr>
          <a:xfrm>
            <a:off x="1217520" y="2940120"/>
            <a:ext cx="7995960" cy="3694680"/>
            <a:chOff x="1217520" y="2940120"/>
            <a:chExt cx="7995960" cy="3694680"/>
          </a:xfrm>
        </p:grpSpPr>
        <p:grpSp>
          <p:nvGrpSpPr>
            <p:cNvPr id="202" name=""/>
            <p:cNvGrpSpPr/>
            <p:nvPr/>
          </p:nvGrpSpPr>
          <p:grpSpPr>
            <a:xfrm>
              <a:off x="1217520" y="5089680"/>
              <a:ext cx="6969240" cy="1545120"/>
              <a:chOff x="1217520" y="5089680"/>
              <a:chExt cx="6969240" cy="1545120"/>
            </a:xfrm>
          </p:grpSpPr>
          <p:sp>
            <p:nvSpPr>
              <p:cNvPr id="203" name=""/>
              <p:cNvSpPr/>
              <p:nvPr/>
            </p:nvSpPr>
            <p:spPr>
              <a:xfrm>
                <a:off x="4114800" y="5682960"/>
                <a:ext cx="552600" cy="144000"/>
              </a:xfrm>
              <a:prstGeom prst="rightArrow">
                <a:avLst>
                  <a:gd name="adj1" fmla="val 50000"/>
                  <a:gd name="adj2" fmla="val 95938"/>
                </a:avLst>
              </a:prstGeom>
              <a:solidFill>
                <a:srgbClr val="ff66cc"/>
              </a:solidFill>
              <a:ln w="9360">
                <a:solidFill>
                  <a:srgbClr val="9900cc"/>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nvGrpSpPr>
              <p:cNvPr id="204" name=""/>
              <p:cNvGrpSpPr/>
              <p:nvPr/>
            </p:nvGrpSpPr>
            <p:grpSpPr>
              <a:xfrm>
                <a:off x="1217520" y="5089680"/>
                <a:ext cx="1219320" cy="1545120"/>
                <a:chOff x="1217520" y="5089680"/>
                <a:chExt cx="1219320" cy="1545120"/>
              </a:xfrm>
            </p:grpSpPr>
            <p:sp>
              <p:nvSpPr>
                <p:cNvPr id="205" name=""/>
                <p:cNvSpPr/>
                <p:nvPr/>
              </p:nvSpPr>
              <p:spPr>
                <a:xfrm>
                  <a:off x="1217520" y="5089680"/>
                  <a:ext cx="1219320" cy="121896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343520" y="629748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unlight</a:t>
                  </a:r>
                  <a:endParaRPr b="0" lang="en-US" sz="1600" spc="-1" strike="noStrike">
                    <a:solidFill>
                      <a:srgbClr val="ffffff"/>
                    </a:solidFill>
                    <a:latin typeface="Times New Roman"/>
                  </a:endParaRPr>
                </a:p>
              </p:txBody>
            </p:sp>
          </p:grpSp>
          <p:grpSp>
            <p:nvGrpSpPr>
              <p:cNvPr id="207" name=""/>
              <p:cNvGrpSpPr/>
              <p:nvPr/>
            </p:nvGrpSpPr>
            <p:grpSpPr>
              <a:xfrm>
                <a:off x="3143160" y="5394240"/>
                <a:ext cx="1113480" cy="1240200"/>
                <a:chOff x="3143160" y="5394240"/>
                <a:chExt cx="1113480" cy="1240200"/>
              </a:xfrm>
            </p:grpSpPr>
            <p:sp>
              <p:nvSpPr>
                <p:cNvPr id="208" name=""/>
                <p:cNvSpPr/>
                <p:nvPr/>
              </p:nvSpPr>
              <p:spPr>
                <a:xfrm>
                  <a:off x="3143160" y="5394240"/>
                  <a:ext cx="1094040" cy="914040"/>
                </a:xfrm>
                <a:custGeom>
                  <a:avLst/>
                  <a:gdLst/>
                  <a:ahLst/>
                  <a:rect l="l" t="t" r="r" b="b"/>
                  <a:pathLst>
                    <a:path w="689" h="614">
                      <a:moveTo>
                        <a:pt x="256" y="606"/>
                      </a:moveTo>
                      <a:cubicBezTo>
                        <a:pt x="296" y="606"/>
                        <a:pt x="336" y="606"/>
                        <a:pt x="352" y="558"/>
                      </a:cubicBezTo>
                      <a:cubicBezTo>
                        <a:pt x="368" y="510"/>
                        <a:pt x="368" y="376"/>
                        <a:pt x="352" y="318"/>
                      </a:cubicBezTo>
                      <a:cubicBezTo>
                        <a:pt x="336" y="260"/>
                        <a:pt x="270" y="220"/>
                        <a:pt x="253" y="210"/>
                      </a:cubicBezTo>
                      <a:cubicBezTo>
                        <a:pt x="236" y="200"/>
                        <a:pt x="259" y="240"/>
                        <a:pt x="250" y="261"/>
                      </a:cubicBezTo>
                      <a:cubicBezTo>
                        <a:pt x="241" y="282"/>
                        <a:pt x="223" y="318"/>
                        <a:pt x="196" y="336"/>
                      </a:cubicBezTo>
                      <a:cubicBezTo>
                        <a:pt x="169" y="354"/>
                        <a:pt x="116" y="367"/>
                        <a:pt x="85" y="369"/>
                      </a:cubicBezTo>
                      <a:cubicBezTo>
                        <a:pt x="54" y="371"/>
                        <a:pt x="20" y="359"/>
                        <a:pt x="10" y="348"/>
                      </a:cubicBezTo>
                      <a:cubicBezTo>
                        <a:pt x="0" y="337"/>
                        <a:pt x="16" y="324"/>
                        <a:pt x="25" y="303"/>
                      </a:cubicBezTo>
                      <a:cubicBezTo>
                        <a:pt x="34" y="282"/>
                        <a:pt x="42" y="243"/>
                        <a:pt x="64" y="222"/>
                      </a:cubicBezTo>
                      <a:cubicBezTo>
                        <a:pt x="86" y="201"/>
                        <a:pt x="128" y="182"/>
                        <a:pt x="160" y="174"/>
                      </a:cubicBezTo>
                      <a:cubicBezTo>
                        <a:pt x="192" y="166"/>
                        <a:pt x="224" y="166"/>
                        <a:pt x="256" y="174"/>
                      </a:cubicBezTo>
                      <a:cubicBezTo>
                        <a:pt x="288" y="182"/>
                        <a:pt x="331" y="228"/>
                        <a:pt x="352" y="222"/>
                      </a:cubicBezTo>
                      <a:cubicBezTo>
                        <a:pt x="373" y="216"/>
                        <a:pt x="374" y="161"/>
                        <a:pt x="385" y="138"/>
                      </a:cubicBezTo>
                      <a:cubicBezTo>
                        <a:pt x="396" y="115"/>
                        <a:pt x="403" y="105"/>
                        <a:pt x="421" y="84"/>
                      </a:cubicBezTo>
                      <a:cubicBezTo>
                        <a:pt x="439" y="63"/>
                        <a:pt x="468" y="24"/>
                        <a:pt x="496" y="12"/>
                      </a:cubicBezTo>
                      <a:cubicBezTo>
                        <a:pt x="524" y="0"/>
                        <a:pt x="565" y="6"/>
                        <a:pt x="589" y="12"/>
                      </a:cubicBezTo>
                      <a:cubicBezTo>
                        <a:pt x="613" y="18"/>
                        <a:pt x="624" y="31"/>
                        <a:pt x="640" y="48"/>
                      </a:cubicBezTo>
                      <a:cubicBezTo>
                        <a:pt x="656" y="65"/>
                        <a:pt x="689" y="97"/>
                        <a:pt x="688" y="114"/>
                      </a:cubicBezTo>
                      <a:cubicBezTo>
                        <a:pt x="687" y="131"/>
                        <a:pt x="659" y="146"/>
                        <a:pt x="631" y="153"/>
                      </a:cubicBezTo>
                      <a:cubicBezTo>
                        <a:pt x="603" y="160"/>
                        <a:pt x="550" y="161"/>
                        <a:pt x="517" y="156"/>
                      </a:cubicBezTo>
                      <a:cubicBezTo>
                        <a:pt x="484" y="151"/>
                        <a:pt x="453" y="110"/>
                        <a:pt x="433" y="120"/>
                      </a:cubicBezTo>
                      <a:cubicBezTo>
                        <a:pt x="413" y="130"/>
                        <a:pt x="404" y="184"/>
                        <a:pt x="397" y="216"/>
                      </a:cubicBezTo>
                      <a:cubicBezTo>
                        <a:pt x="390" y="248"/>
                        <a:pt x="388" y="282"/>
                        <a:pt x="388" y="315"/>
                      </a:cubicBezTo>
                      <a:cubicBezTo>
                        <a:pt x="388" y="348"/>
                        <a:pt x="390" y="374"/>
                        <a:pt x="400" y="414"/>
                      </a:cubicBezTo>
                      <a:cubicBezTo>
                        <a:pt x="410" y="454"/>
                        <a:pt x="424" y="526"/>
                        <a:pt x="448" y="558"/>
                      </a:cubicBezTo>
                      <a:cubicBezTo>
                        <a:pt x="472" y="590"/>
                        <a:pt x="576" y="598"/>
                        <a:pt x="544" y="606"/>
                      </a:cubicBezTo>
                      <a:cubicBezTo>
                        <a:pt x="512" y="614"/>
                        <a:pt x="316" y="606"/>
                        <a:pt x="256" y="606"/>
                      </a:cubicBezTo>
                    </a:path>
                  </a:pathLst>
                </a:custGeom>
                <a:solidFill>
                  <a:srgbClr val="009900"/>
                </a:solidFill>
                <a:ln w="93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198240" y="629712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producer</a:t>
                  </a:r>
                  <a:endParaRPr b="0" lang="en-US" sz="1600" spc="-1" strike="noStrike">
                    <a:solidFill>
                      <a:srgbClr val="ffffff"/>
                    </a:solidFill>
                    <a:latin typeface="Times New Roman"/>
                  </a:endParaRPr>
                </a:p>
              </p:txBody>
            </p:sp>
          </p:grpSp>
          <p:sp>
            <p:nvSpPr>
              <p:cNvPr id="210" name=""/>
              <p:cNvSpPr/>
              <p:nvPr/>
            </p:nvSpPr>
            <p:spPr>
              <a:xfrm>
                <a:off x="5981760" y="5682960"/>
                <a:ext cx="552240" cy="144000"/>
              </a:xfrm>
              <a:prstGeom prst="rightArrow">
                <a:avLst>
                  <a:gd name="adj1" fmla="val 50000"/>
                  <a:gd name="adj2" fmla="val 95875"/>
                </a:avLst>
              </a:prstGeom>
              <a:solidFill>
                <a:srgbClr val="ff66cc"/>
              </a:solidFill>
              <a:ln w="9360">
                <a:solidFill>
                  <a:srgbClr val="9900cc"/>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11" name=""/>
              <p:cNvSpPr/>
              <p:nvPr/>
            </p:nvSpPr>
            <p:spPr>
              <a:xfrm>
                <a:off x="2533680" y="5682960"/>
                <a:ext cx="552600" cy="144000"/>
              </a:xfrm>
              <a:prstGeom prst="rightArrow">
                <a:avLst>
                  <a:gd name="adj1" fmla="val 50000"/>
                  <a:gd name="adj2" fmla="val 95938"/>
                </a:avLst>
              </a:prstGeom>
              <a:solidFill>
                <a:srgbClr val="ff66cc"/>
              </a:solidFill>
              <a:ln w="9360">
                <a:solidFill>
                  <a:srgbClr val="9900cc"/>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nvGrpSpPr>
              <p:cNvPr id="212" name=""/>
              <p:cNvGrpSpPr/>
              <p:nvPr/>
            </p:nvGrpSpPr>
            <p:grpSpPr>
              <a:xfrm>
                <a:off x="4689360" y="5092560"/>
                <a:ext cx="1417320" cy="1541880"/>
                <a:chOff x="4689360" y="5092560"/>
                <a:chExt cx="1417320" cy="1541880"/>
              </a:xfrm>
            </p:grpSpPr>
            <p:sp>
              <p:nvSpPr>
                <p:cNvPr id="213" name=""/>
                <p:cNvSpPr/>
                <p:nvPr/>
              </p:nvSpPr>
              <p:spPr>
                <a:xfrm>
                  <a:off x="4716360" y="62971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1</a:t>
                  </a:r>
                  <a:endParaRPr b="0" lang="en-US" sz="1600" spc="-1" strike="noStrike">
                    <a:solidFill>
                      <a:srgbClr val="ffffff"/>
                    </a:solidFill>
                    <a:latin typeface="Times New Roman"/>
                  </a:endParaRPr>
                </a:p>
              </p:txBody>
            </p:sp>
            <p:grpSp>
              <p:nvGrpSpPr>
                <p:cNvPr id="214" name=""/>
                <p:cNvGrpSpPr/>
                <p:nvPr/>
              </p:nvGrpSpPr>
              <p:grpSpPr>
                <a:xfrm>
                  <a:off x="4689360" y="5092560"/>
                  <a:ext cx="1417320" cy="1239120"/>
                  <a:chOff x="4689360" y="5092560"/>
                  <a:chExt cx="1417320" cy="1239120"/>
                </a:xfrm>
              </p:grpSpPr>
              <p:grpSp>
                <p:nvGrpSpPr>
                  <p:cNvPr id="215" name=""/>
                  <p:cNvGrpSpPr/>
                  <p:nvPr/>
                </p:nvGrpSpPr>
                <p:grpSpPr>
                  <a:xfrm>
                    <a:off x="4689360" y="5092560"/>
                    <a:ext cx="1417320" cy="1239120"/>
                    <a:chOff x="4689360" y="5092560"/>
                    <a:chExt cx="1417320" cy="1239120"/>
                  </a:xfrm>
                </p:grpSpPr>
                <p:sp>
                  <p:nvSpPr>
                    <p:cNvPr id="216" name=""/>
                    <p:cNvSpPr/>
                    <p:nvPr/>
                  </p:nvSpPr>
                  <p:spPr>
                    <a:xfrm>
                      <a:off x="4689360" y="5092560"/>
                      <a:ext cx="986400" cy="1195200"/>
                    </a:xfrm>
                    <a:custGeom>
                      <a:avLst/>
                      <a:gdLst/>
                      <a:ahLst/>
                      <a:rect l="l" t="t" r="r" b="b"/>
                      <a:pathLst>
                        <a:path w="691" h="838">
                          <a:moveTo>
                            <a:pt x="318" y="177"/>
                          </a:moveTo>
                          <a:cubicBezTo>
                            <a:pt x="324" y="168"/>
                            <a:pt x="397" y="115"/>
                            <a:pt x="408" y="89"/>
                          </a:cubicBezTo>
                          <a:cubicBezTo>
                            <a:pt x="419" y="63"/>
                            <a:pt x="395" y="34"/>
                            <a:pt x="382" y="19"/>
                          </a:cubicBezTo>
                          <a:cubicBezTo>
                            <a:pt x="369" y="4"/>
                            <a:pt x="347" y="2"/>
                            <a:pt x="330" y="1"/>
                          </a:cubicBezTo>
                          <a:cubicBezTo>
                            <a:pt x="313" y="0"/>
                            <a:pt x="297" y="5"/>
                            <a:pt x="282" y="15"/>
                          </a:cubicBezTo>
                          <a:cubicBezTo>
                            <a:pt x="267" y="25"/>
                            <a:pt x="250" y="39"/>
                            <a:pt x="242" y="59"/>
                          </a:cubicBezTo>
                          <a:cubicBezTo>
                            <a:pt x="234" y="79"/>
                            <a:pt x="234" y="117"/>
                            <a:pt x="232" y="137"/>
                          </a:cubicBezTo>
                          <a:cubicBezTo>
                            <a:pt x="230" y="157"/>
                            <a:pt x="238" y="169"/>
                            <a:pt x="232" y="180"/>
                          </a:cubicBezTo>
                          <a:cubicBezTo>
                            <a:pt x="226" y="191"/>
                            <a:pt x="216" y="198"/>
                            <a:pt x="194" y="204"/>
                          </a:cubicBezTo>
                          <a:cubicBezTo>
                            <a:pt x="172" y="210"/>
                            <a:pt x="129" y="206"/>
                            <a:pt x="98" y="214"/>
                          </a:cubicBezTo>
                          <a:cubicBezTo>
                            <a:pt x="67" y="222"/>
                            <a:pt x="12" y="241"/>
                            <a:pt x="6" y="252"/>
                          </a:cubicBezTo>
                          <a:cubicBezTo>
                            <a:pt x="0" y="263"/>
                            <a:pt x="45" y="270"/>
                            <a:pt x="64" y="283"/>
                          </a:cubicBezTo>
                          <a:cubicBezTo>
                            <a:pt x="83" y="296"/>
                            <a:pt x="101" y="314"/>
                            <a:pt x="120" y="333"/>
                          </a:cubicBezTo>
                          <a:cubicBezTo>
                            <a:pt x="139" y="352"/>
                            <a:pt x="167" y="379"/>
                            <a:pt x="180" y="399"/>
                          </a:cubicBezTo>
                          <a:cubicBezTo>
                            <a:pt x="193" y="419"/>
                            <a:pt x="203" y="441"/>
                            <a:pt x="196" y="453"/>
                          </a:cubicBezTo>
                          <a:cubicBezTo>
                            <a:pt x="189" y="465"/>
                            <a:pt x="154" y="456"/>
                            <a:pt x="138" y="469"/>
                          </a:cubicBezTo>
                          <a:cubicBezTo>
                            <a:pt x="122" y="482"/>
                            <a:pt x="96" y="526"/>
                            <a:pt x="102" y="531"/>
                          </a:cubicBezTo>
                          <a:cubicBezTo>
                            <a:pt x="108" y="536"/>
                            <a:pt x="155" y="504"/>
                            <a:pt x="174" y="502"/>
                          </a:cubicBezTo>
                          <a:cubicBezTo>
                            <a:pt x="193" y="500"/>
                            <a:pt x="210" y="508"/>
                            <a:pt x="218" y="521"/>
                          </a:cubicBezTo>
                          <a:cubicBezTo>
                            <a:pt x="226" y="534"/>
                            <a:pt x="220" y="559"/>
                            <a:pt x="224" y="581"/>
                          </a:cubicBezTo>
                          <a:cubicBezTo>
                            <a:pt x="228" y="603"/>
                            <a:pt x="230" y="629"/>
                            <a:pt x="242" y="655"/>
                          </a:cubicBezTo>
                          <a:cubicBezTo>
                            <a:pt x="254" y="681"/>
                            <a:pt x="281" y="717"/>
                            <a:pt x="298" y="735"/>
                          </a:cubicBezTo>
                          <a:cubicBezTo>
                            <a:pt x="315" y="753"/>
                            <a:pt x="336" y="757"/>
                            <a:pt x="347" y="766"/>
                          </a:cubicBezTo>
                          <a:cubicBezTo>
                            <a:pt x="358" y="775"/>
                            <a:pt x="377" y="789"/>
                            <a:pt x="362" y="790"/>
                          </a:cubicBezTo>
                          <a:cubicBezTo>
                            <a:pt x="347" y="791"/>
                            <a:pt x="280" y="777"/>
                            <a:pt x="256" y="775"/>
                          </a:cubicBezTo>
                          <a:cubicBezTo>
                            <a:pt x="232" y="773"/>
                            <a:pt x="230" y="767"/>
                            <a:pt x="218" y="775"/>
                          </a:cubicBezTo>
                          <a:cubicBezTo>
                            <a:pt x="206" y="783"/>
                            <a:pt x="180" y="813"/>
                            <a:pt x="184" y="823"/>
                          </a:cubicBezTo>
                          <a:cubicBezTo>
                            <a:pt x="188" y="833"/>
                            <a:pt x="218" y="836"/>
                            <a:pt x="244" y="837"/>
                          </a:cubicBezTo>
                          <a:cubicBezTo>
                            <a:pt x="270" y="838"/>
                            <a:pt x="318" y="829"/>
                            <a:pt x="342" y="828"/>
                          </a:cubicBezTo>
                          <a:cubicBezTo>
                            <a:pt x="366" y="827"/>
                            <a:pt x="369" y="829"/>
                            <a:pt x="388" y="829"/>
                          </a:cubicBezTo>
                          <a:cubicBezTo>
                            <a:pt x="407" y="829"/>
                            <a:pt x="435" y="832"/>
                            <a:pt x="456" y="831"/>
                          </a:cubicBezTo>
                          <a:cubicBezTo>
                            <a:pt x="477" y="830"/>
                            <a:pt x="493" y="828"/>
                            <a:pt x="512" y="823"/>
                          </a:cubicBezTo>
                          <a:cubicBezTo>
                            <a:pt x="531" y="818"/>
                            <a:pt x="546" y="814"/>
                            <a:pt x="568" y="799"/>
                          </a:cubicBezTo>
                          <a:cubicBezTo>
                            <a:pt x="590" y="784"/>
                            <a:pt x="625" y="762"/>
                            <a:pt x="645" y="732"/>
                          </a:cubicBezTo>
                          <a:cubicBezTo>
                            <a:pt x="665" y="702"/>
                            <a:pt x="691" y="661"/>
                            <a:pt x="688" y="617"/>
                          </a:cubicBezTo>
                          <a:cubicBezTo>
                            <a:pt x="685" y="573"/>
                            <a:pt x="646" y="505"/>
                            <a:pt x="628" y="467"/>
                          </a:cubicBezTo>
                          <a:cubicBezTo>
                            <a:pt x="610" y="429"/>
                            <a:pt x="598" y="411"/>
                            <a:pt x="578" y="389"/>
                          </a:cubicBezTo>
                          <a:cubicBezTo>
                            <a:pt x="558" y="367"/>
                            <a:pt x="531" y="354"/>
                            <a:pt x="506" y="335"/>
                          </a:cubicBezTo>
                          <a:cubicBezTo>
                            <a:pt x="481" y="316"/>
                            <a:pt x="455" y="290"/>
                            <a:pt x="428" y="273"/>
                          </a:cubicBezTo>
                          <a:cubicBezTo>
                            <a:pt x="401" y="256"/>
                            <a:pt x="349" y="237"/>
                            <a:pt x="346" y="235"/>
                          </a:cubicBezTo>
                          <a:cubicBezTo>
                            <a:pt x="343" y="233"/>
                            <a:pt x="386" y="256"/>
                            <a:pt x="410" y="259"/>
                          </a:cubicBezTo>
                          <a:cubicBezTo>
                            <a:pt x="434" y="262"/>
                            <a:pt x="467" y="256"/>
                            <a:pt x="488" y="251"/>
                          </a:cubicBezTo>
                          <a:cubicBezTo>
                            <a:pt x="509" y="246"/>
                            <a:pt x="522" y="238"/>
                            <a:pt x="534" y="227"/>
                          </a:cubicBezTo>
                          <a:cubicBezTo>
                            <a:pt x="546" y="216"/>
                            <a:pt x="557" y="200"/>
                            <a:pt x="562" y="187"/>
                          </a:cubicBezTo>
                          <a:cubicBezTo>
                            <a:pt x="567" y="174"/>
                            <a:pt x="564" y="162"/>
                            <a:pt x="562" y="149"/>
                          </a:cubicBezTo>
                          <a:cubicBezTo>
                            <a:pt x="560" y="136"/>
                            <a:pt x="557" y="123"/>
                            <a:pt x="550" y="111"/>
                          </a:cubicBezTo>
                          <a:cubicBezTo>
                            <a:pt x="543" y="99"/>
                            <a:pt x="533" y="83"/>
                            <a:pt x="518" y="75"/>
                          </a:cubicBezTo>
                          <a:cubicBezTo>
                            <a:pt x="503" y="67"/>
                            <a:pt x="479" y="59"/>
                            <a:pt x="462" y="61"/>
                          </a:cubicBezTo>
                          <a:cubicBezTo>
                            <a:pt x="445" y="63"/>
                            <a:pt x="429" y="75"/>
                            <a:pt x="414" y="89"/>
                          </a:cubicBezTo>
                          <a:cubicBezTo>
                            <a:pt x="399" y="103"/>
                            <a:pt x="387" y="127"/>
                            <a:pt x="371" y="142"/>
                          </a:cubicBezTo>
                          <a:cubicBezTo>
                            <a:pt x="355" y="157"/>
                            <a:pt x="322" y="182"/>
                            <a:pt x="318" y="177"/>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5321880" y="5287680"/>
                      <a:ext cx="784800" cy="1044000"/>
                    </a:xfrm>
                    <a:custGeom>
                      <a:avLst/>
                      <a:gdLst/>
                      <a:ahLst/>
                      <a:rect l="l" t="t" r="r" b="b"/>
                      <a:pathLst>
                        <a:path w="550" h="732">
                          <a:moveTo>
                            <a:pt x="82" y="684"/>
                          </a:moveTo>
                          <a:cubicBezTo>
                            <a:pt x="105" y="681"/>
                            <a:pt x="121" y="690"/>
                            <a:pt x="149" y="684"/>
                          </a:cubicBezTo>
                          <a:cubicBezTo>
                            <a:pt x="177" y="678"/>
                            <a:pt x="221" y="666"/>
                            <a:pt x="250" y="648"/>
                          </a:cubicBezTo>
                          <a:cubicBezTo>
                            <a:pt x="279" y="630"/>
                            <a:pt x="307" y="604"/>
                            <a:pt x="322" y="578"/>
                          </a:cubicBezTo>
                          <a:cubicBezTo>
                            <a:pt x="337" y="552"/>
                            <a:pt x="339" y="529"/>
                            <a:pt x="341" y="494"/>
                          </a:cubicBezTo>
                          <a:cubicBezTo>
                            <a:pt x="343" y="459"/>
                            <a:pt x="335" y="404"/>
                            <a:pt x="331" y="370"/>
                          </a:cubicBezTo>
                          <a:cubicBezTo>
                            <a:pt x="327" y="336"/>
                            <a:pt x="324" y="320"/>
                            <a:pt x="319" y="290"/>
                          </a:cubicBezTo>
                          <a:cubicBezTo>
                            <a:pt x="314" y="260"/>
                            <a:pt x="297" y="225"/>
                            <a:pt x="303" y="190"/>
                          </a:cubicBezTo>
                          <a:cubicBezTo>
                            <a:pt x="309" y="155"/>
                            <a:pt x="335" y="110"/>
                            <a:pt x="357" y="82"/>
                          </a:cubicBezTo>
                          <a:cubicBezTo>
                            <a:pt x="379" y="54"/>
                            <a:pt x="405" y="35"/>
                            <a:pt x="437" y="22"/>
                          </a:cubicBezTo>
                          <a:cubicBezTo>
                            <a:pt x="469" y="9"/>
                            <a:pt x="550" y="0"/>
                            <a:pt x="550" y="2"/>
                          </a:cubicBezTo>
                          <a:cubicBezTo>
                            <a:pt x="550" y="4"/>
                            <a:pt x="469" y="14"/>
                            <a:pt x="437" y="34"/>
                          </a:cubicBezTo>
                          <a:cubicBezTo>
                            <a:pt x="405" y="54"/>
                            <a:pt x="372" y="90"/>
                            <a:pt x="357" y="122"/>
                          </a:cubicBezTo>
                          <a:cubicBezTo>
                            <a:pt x="342" y="154"/>
                            <a:pt x="343" y="190"/>
                            <a:pt x="346" y="228"/>
                          </a:cubicBezTo>
                          <a:cubicBezTo>
                            <a:pt x="349" y="266"/>
                            <a:pt x="371" y="306"/>
                            <a:pt x="377" y="350"/>
                          </a:cubicBezTo>
                          <a:cubicBezTo>
                            <a:pt x="383" y="394"/>
                            <a:pt x="392" y="443"/>
                            <a:pt x="385" y="490"/>
                          </a:cubicBezTo>
                          <a:cubicBezTo>
                            <a:pt x="378" y="537"/>
                            <a:pt x="357" y="594"/>
                            <a:pt x="334" y="631"/>
                          </a:cubicBezTo>
                          <a:cubicBezTo>
                            <a:pt x="311" y="668"/>
                            <a:pt x="281" y="693"/>
                            <a:pt x="247" y="710"/>
                          </a:cubicBezTo>
                          <a:cubicBezTo>
                            <a:pt x="213" y="727"/>
                            <a:pt x="164" y="732"/>
                            <a:pt x="129" y="732"/>
                          </a:cubicBezTo>
                          <a:cubicBezTo>
                            <a:pt x="94" y="732"/>
                            <a:pt x="54" y="718"/>
                            <a:pt x="34" y="713"/>
                          </a:cubicBezTo>
                          <a:cubicBezTo>
                            <a:pt x="14" y="708"/>
                            <a:pt x="0" y="706"/>
                            <a:pt x="10" y="701"/>
                          </a:cubicBezTo>
                          <a:cubicBezTo>
                            <a:pt x="20" y="696"/>
                            <a:pt x="59" y="687"/>
                            <a:pt x="82" y="684"/>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flipV="1">
                      <a:off x="4743720" y="5335920"/>
                      <a:ext cx="11160" cy="85320"/>
                    </a:xfrm>
                    <a:prstGeom prst="line">
                      <a:avLst/>
                    </a:prstGeom>
                    <a:ln w="1260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19" name=""/>
                    <p:cNvSpPr/>
                    <p:nvPr/>
                  </p:nvSpPr>
                  <p:spPr>
                    <a:xfrm flipV="1">
                      <a:off x="4749120" y="5270400"/>
                      <a:ext cx="105840" cy="156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a:off x="4734720" y="5481360"/>
                      <a:ext cx="5760" cy="85680"/>
                    </a:xfrm>
                    <a:prstGeom prst="line">
                      <a:avLst/>
                    </a:prstGeom>
                    <a:ln w="1260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1" name=""/>
                    <p:cNvSpPr/>
                    <p:nvPr/>
                  </p:nvSpPr>
                  <p:spPr>
                    <a:xfrm>
                      <a:off x="4754880" y="5484240"/>
                      <a:ext cx="73800" cy="125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 name=""/>
                  <p:cNvSpPr/>
                  <p:nvPr/>
                </p:nvSpPr>
                <p:spPr>
                  <a:xfrm>
                    <a:off x="4951440" y="5430240"/>
                    <a:ext cx="57240" cy="63000"/>
                  </a:xfrm>
                  <a:prstGeom prst="ellipse">
                    <a:avLst/>
                  </a:prstGeom>
                  <a:solidFill>
                    <a:srgbClr val="5f5f5f"/>
                  </a:solidFill>
                  <a:ln w="9360">
                    <a:solidFill>
                      <a:srgbClr val="5f5f5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grpSp>
          <p:grpSp>
            <p:nvGrpSpPr>
              <p:cNvPr id="223" name=""/>
              <p:cNvGrpSpPr/>
              <p:nvPr/>
            </p:nvGrpSpPr>
            <p:grpSpPr>
              <a:xfrm>
                <a:off x="6653160" y="5155920"/>
                <a:ext cx="1533600" cy="1478520"/>
                <a:chOff x="6653160" y="5155920"/>
                <a:chExt cx="1533600" cy="1478520"/>
              </a:xfrm>
            </p:grpSpPr>
            <p:sp>
              <p:nvSpPr>
                <p:cNvPr id="224" name=""/>
                <p:cNvSpPr/>
                <p:nvPr/>
              </p:nvSpPr>
              <p:spPr>
                <a:xfrm>
                  <a:off x="6715080" y="62971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2</a:t>
                  </a:r>
                  <a:endParaRPr b="0" lang="en-US" sz="1600" spc="-1" strike="noStrike">
                    <a:solidFill>
                      <a:srgbClr val="ffffff"/>
                    </a:solidFill>
                    <a:latin typeface="Times New Roman"/>
                  </a:endParaRPr>
                </a:p>
              </p:txBody>
            </p:sp>
            <p:grpSp>
              <p:nvGrpSpPr>
                <p:cNvPr id="225" name=""/>
                <p:cNvGrpSpPr/>
                <p:nvPr/>
              </p:nvGrpSpPr>
              <p:grpSpPr>
                <a:xfrm>
                  <a:off x="6653160" y="5155920"/>
                  <a:ext cx="1533600" cy="1206360"/>
                  <a:chOff x="6653160" y="5155920"/>
                  <a:chExt cx="1533600" cy="1206360"/>
                </a:xfrm>
              </p:grpSpPr>
              <p:grpSp>
                <p:nvGrpSpPr>
                  <p:cNvPr id="226" name=""/>
                  <p:cNvGrpSpPr/>
                  <p:nvPr/>
                </p:nvGrpSpPr>
                <p:grpSpPr>
                  <a:xfrm>
                    <a:off x="6653160" y="5155920"/>
                    <a:ext cx="1533600" cy="1206360"/>
                    <a:chOff x="6653160" y="5155920"/>
                    <a:chExt cx="1533600" cy="1206360"/>
                  </a:xfrm>
                </p:grpSpPr>
                <p:sp>
                  <p:nvSpPr>
                    <p:cNvPr id="227" name=""/>
                    <p:cNvSpPr/>
                    <p:nvPr/>
                  </p:nvSpPr>
                  <p:spPr>
                    <a:xfrm>
                      <a:off x="6653160" y="5155920"/>
                      <a:ext cx="1533600" cy="1206360"/>
                    </a:xfrm>
                    <a:custGeom>
                      <a:avLst/>
                      <a:gdLst/>
                      <a:ahLst/>
                      <a:rect l="l" t="t" r="r" b="b"/>
                      <a:pathLst>
                        <a:path w="966" h="760">
                          <a:moveTo>
                            <a:pt x="671" y="248"/>
                          </a:moveTo>
                          <a:cubicBezTo>
                            <a:pt x="657" y="250"/>
                            <a:pt x="605" y="277"/>
                            <a:pt x="576" y="293"/>
                          </a:cubicBezTo>
                          <a:cubicBezTo>
                            <a:pt x="547" y="309"/>
                            <a:pt x="518" y="328"/>
                            <a:pt x="498" y="346"/>
                          </a:cubicBezTo>
                          <a:cubicBezTo>
                            <a:pt x="478" y="364"/>
                            <a:pt x="466" y="378"/>
                            <a:pt x="456" y="403"/>
                          </a:cubicBezTo>
                          <a:cubicBezTo>
                            <a:pt x="446" y="428"/>
                            <a:pt x="436" y="463"/>
                            <a:pt x="435" y="499"/>
                          </a:cubicBezTo>
                          <a:cubicBezTo>
                            <a:pt x="434" y="535"/>
                            <a:pt x="436" y="585"/>
                            <a:pt x="450" y="620"/>
                          </a:cubicBezTo>
                          <a:cubicBezTo>
                            <a:pt x="464" y="655"/>
                            <a:pt x="484" y="687"/>
                            <a:pt x="519" y="709"/>
                          </a:cubicBezTo>
                          <a:cubicBezTo>
                            <a:pt x="554" y="731"/>
                            <a:pt x="616" y="748"/>
                            <a:pt x="660" y="754"/>
                          </a:cubicBezTo>
                          <a:cubicBezTo>
                            <a:pt x="704" y="760"/>
                            <a:pt x="751" y="754"/>
                            <a:pt x="785" y="743"/>
                          </a:cubicBezTo>
                          <a:cubicBezTo>
                            <a:pt x="819" y="732"/>
                            <a:pt x="846" y="705"/>
                            <a:pt x="867" y="686"/>
                          </a:cubicBezTo>
                          <a:cubicBezTo>
                            <a:pt x="888" y="667"/>
                            <a:pt x="896" y="658"/>
                            <a:pt x="908" y="632"/>
                          </a:cubicBezTo>
                          <a:cubicBezTo>
                            <a:pt x="920" y="606"/>
                            <a:pt x="933" y="567"/>
                            <a:pt x="941" y="532"/>
                          </a:cubicBezTo>
                          <a:cubicBezTo>
                            <a:pt x="949" y="497"/>
                            <a:pt x="953" y="457"/>
                            <a:pt x="957" y="424"/>
                          </a:cubicBezTo>
                          <a:cubicBezTo>
                            <a:pt x="961" y="391"/>
                            <a:pt x="966" y="364"/>
                            <a:pt x="965" y="332"/>
                          </a:cubicBezTo>
                          <a:cubicBezTo>
                            <a:pt x="964" y="300"/>
                            <a:pt x="963" y="267"/>
                            <a:pt x="951" y="230"/>
                          </a:cubicBezTo>
                          <a:cubicBezTo>
                            <a:pt x="939" y="193"/>
                            <a:pt x="913" y="139"/>
                            <a:pt x="891" y="110"/>
                          </a:cubicBezTo>
                          <a:cubicBezTo>
                            <a:pt x="869" y="81"/>
                            <a:pt x="847" y="69"/>
                            <a:pt x="818" y="53"/>
                          </a:cubicBezTo>
                          <a:cubicBezTo>
                            <a:pt x="789" y="37"/>
                            <a:pt x="759" y="24"/>
                            <a:pt x="719" y="16"/>
                          </a:cubicBezTo>
                          <a:cubicBezTo>
                            <a:pt x="679" y="8"/>
                            <a:pt x="619" y="0"/>
                            <a:pt x="576" y="2"/>
                          </a:cubicBezTo>
                          <a:cubicBezTo>
                            <a:pt x="533" y="4"/>
                            <a:pt x="491" y="16"/>
                            <a:pt x="459" y="28"/>
                          </a:cubicBezTo>
                          <a:cubicBezTo>
                            <a:pt x="427" y="40"/>
                            <a:pt x="405" y="55"/>
                            <a:pt x="384" y="73"/>
                          </a:cubicBezTo>
                          <a:cubicBezTo>
                            <a:pt x="363" y="91"/>
                            <a:pt x="346" y="105"/>
                            <a:pt x="330" y="134"/>
                          </a:cubicBezTo>
                          <a:cubicBezTo>
                            <a:pt x="314" y="163"/>
                            <a:pt x="301" y="207"/>
                            <a:pt x="291" y="248"/>
                          </a:cubicBezTo>
                          <a:cubicBezTo>
                            <a:pt x="281" y="289"/>
                            <a:pt x="278" y="350"/>
                            <a:pt x="269" y="383"/>
                          </a:cubicBezTo>
                          <a:cubicBezTo>
                            <a:pt x="260" y="416"/>
                            <a:pt x="255" y="433"/>
                            <a:pt x="240" y="446"/>
                          </a:cubicBezTo>
                          <a:cubicBezTo>
                            <a:pt x="225" y="459"/>
                            <a:pt x="202" y="469"/>
                            <a:pt x="182" y="463"/>
                          </a:cubicBezTo>
                          <a:cubicBezTo>
                            <a:pt x="162" y="457"/>
                            <a:pt x="119" y="431"/>
                            <a:pt x="119" y="407"/>
                          </a:cubicBezTo>
                          <a:cubicBezTo>
                            <a:pt x="119" y="383"/>
                            <a:pt x="162" y="341"/>
                            <a:pt x="182" y="320"/>
                          </a:cubicBezTo>
                          <a:cubicBezTo>
                            <a:pt x="202" y="299"/>
                            <a:pt x="224" y="292"/>
                            <a:pt x="236" y="280"/>
                          </a:cubicBezTo>
                          <a:cubicBezTo>
                            <a:pt x="248" y="268"/>
                            <a:pt x="254" y="257"/>
                            <a:pt x="255" y="245"/>
                          </a:cubicBezTo>
                          <a:cubicBezTo>
                            <a:pt x="256" y="233"/>
                            <a:pt x="252" y="215"/>
                            <a:pt x="245" y="205"/>
                          </a:cubicBezTo>
                          <a:cubicBezTo>
                            <a:pt x="238" y="195"/>
                            <a:pt x="217" y="196"/>
                            <a:pt x="210" y="185"/>
                          </a:cubicBezTo>
                          <a:cubicBezTo>
                            <a:pt x="203" y="174"/>
                            <a:pt x="218" y="148"/>
                            <a:pt x="203" y="137"/>
                          </a:cubicBezTo>
                          <a:cubicBezTo>
                            <a:pt x="188" y="126"/>
                            <a:pt x="146" y="115"/>
                            <a:pt x="120" y="116"/>
                          </a:cubicBezTo>
                          <a:cubicBezTo>
                            <a:pt x="94" y="117"/>
                            <a:pt x="67" y="133"/>
                            <a:pt x="48" y="143"/>
                          </a:cubicBezTo>
                          <a:cubicBezTo>
                            <a:pt x="29" y="153"/>
                            <a:pt x="0" y="164"/>
                            <a:pt x="3" y="179"/>
                          </a:cubicBezTo>
                          <a:cubicBezTo>
                            <a:pt x="6" y="194"/>
                            <a:pt x="44" y="224"/>
                            <a:pt x="66" y="233"/>
                          </a:cubicBezTo>
                          <a:cubicBezTo>
                            <a:pt x="88" y="242"/>
                            <a:pt x="120" y="232"/>
                            <a:pt x="135" y="233"/>
                          </a:cubicBezTo>
                          <a:cubicBezTo>
                            <a:pt x="150" y="234"/>
                            <a:pt x="171" y="225"/>
                            <a:pt x="156" y="239"/>
                          </a:cubicBezTo>
                          <a:cubicBezTo>
                            <a:pt x="141" y="253"/>
                            <a:pt x="69" y="294"/>
                            <a:pt x="45" y="317"/>
                          </a:cubicBezTo>
                          <a:cubicBezTo>
                            <a:pt x="21" y="340"/>
                            <a:pt x="15" y="356"/>
                            <a:pt x="9" y="379"/>
                          </a:cubicBezTo>
                          <a:cubicBezTo>
                            <a:pt x="3" y="402"/>
                            <a:pt x="4" y="427"/>
                            <a:pt x="12" y="455"/>
                          </a:cubicBezTo>
                          <a:cubicBezTo>
                            <a:pt x="20" y="483"/>
                            <a:pt x="29" y="522"/>
                            <a:pt x="60" y="545"/>
                          </a:cubicBezTo>
                          <a:cubicBezTo>
                            <a:pt x="91" y="568"/>
                            <a:pt x="151" y="596"/>
                            <a:pt x="195" y="596"/>
                          </a:cubicBezTo>
                          <a:cubicBezTo>
                            <a:pt x="239" y="596"/>
                            <a:pt x="297" y="569"/>
                            <a:pt x="327" y="548"/>
                          </a:cubicBezTo>
                          <a:cubicBezTo>
                            <a:pt x="357" y="527"/>
                            <a:pt x="367" y="498"/>
                            <a:pt x="378" y="470"/>
                          </a:cubicBezTo>
                          <a:cubicBezTo>
                            <a:pt x="389" y="442"/>
                            <a:pt x="392" y="413"/>
                            <a:pt x="396" y="383"/>
                          </a:cubicBezTo>
                          <a:cubicBezTo>
                            <a:pt x="400" y="353"/>
                            <a:pt x="394" y="318"/>
                            <a:pt x="401" y="287"/>
                          </a:cubicBezTo>
                          <a:cubicBezTo>
                            <a:pt x="408" y="256"/>
                            <a:pt x="409" y="222"/>
                            <a:pt x="437" y="199"/>
                          </a:cubicBezTo>
                          <a:cubicBezTo>
                            <a:pt x="465" y="176"/>
                            <a:pt x="519" y="157"/>
                            <a:pt x="566" y="151"/>
                          </a:cubicBezTo>
                          <a:cubicBezTo>
                            <a:pt x="613" y="145"/>
                            <a:pt x="672" y="148"/>
                            <a:pt x="717" y="163"/>
                          </a:cubicBezTo>
                          <a:cubicBezTo>
                            <a:pt x="762" y="178"/>
                            <a:pt x="812" y="208"/>
                            <a:pt x="834" y="242"/>
                          </a:cubicBezTo>
                          <a:cubicBezTo>
                            <a:pt x="856" y="276"/>
                            <a:pt x="850" y="337"/>
                            <a:pt x="852" y="370"/>
                          </a:cubicBezTo>
                          <a:cubicBezTo>
                            <a:pt x="854" y="403"/>
                            <a:pt x="849" y="416"/>
                            <a:pt x="846" y="440"/>
                          </a:cubicBezTo>
                          <a:cubicBezTo>
                            <a:pt x="843" y="464"/>
                            <a:pt x="837" y="492"/>
                            <a:pt x="831" y="514"/>
                          </a:cubicBezTo>
                          <a:cubicBezTo>
                            <a:pt x="825" y="536"/>
                            <a:pt x="818" y="554"/>
                            <a:pt x="810" y="572"/>
                          </a:cubicBezTo>
                          <a:cubicBezTo>
                            <a:pt x="802" y="590"/>
                            <a:pt x="795" y="610"/>
                            <a:pt x="780" y="625"/>
                          </a:cubicBezTo>
                          <a:cubicBezTo>
                            <a:pt x="765" y="640"/>
                            <a:pt x="744" y="659"/>
                            <a:pt x="717" y="665"/>
                          </a:cubicBezTo>
                          <a:cubicBezTo>
                            <a:pt x="690" y="671"/>
                            <a:pt x="645" y="668"/>
                            <a:pt x="618" y="659"/>
                          </a:cubicBezTo>
                          <a:cubicBezTo>
                            <a:pt x="591" y="650"/>
                            <a:pt x="568" y="633"/>
                            <a:pt x="552" y="611"/>
                          </a:cubicBezTo>
                          <a:cubicBezTo>
                            <a:pt x="536" y="589"/>
                            <a:pt x="524" y="560"/>
                            <a:pt x="522" y="527"/>
                          </a:cubicBezTo>
                          <a:cubicBezTo>
                            <a:pt x="520" y="494"/>
                            <a:pt x="526" y="444"/>
                            <a:pt x="537" y="410"/>
                          </a:cubicBezTo>
                          <a:cubicBezTo>
                            <a:pt x="548" y="376"/>
                            <a:pt x="567" y="350"/>
                            <a:pt x="587" y="325"/>
                          </a:cubicBezTo>
                          <a:cubicBezTo>
                            <a:pt x="607" y="300"/>
                            <a:pt x="640" y="276"/>
                            <a:pt x="654" y="263"/>
                          </a:cubicBezTo>
                          <a:cubicBezTo>
                            <a:pt x="668" y="250"/>
                            <a:pt x="667" y="251"/>
                            <a:pt x="671" y="248"/>
                          </a:cubicBez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8" name=""/>
                    <p:cNvGrpSpPr/>
                    <p:nvPr/>
                  </p:nvGrpSpPr>
                  <p:grpSpPr>
                    <a:xfrm>
                      <a:off x="7482960" y="5486760"/>
                      <a:ext cx="297360" cy="257040"/>
                      <a:chOff x="7482960" y="5486760"/>
                      <a:chExt cx="297360" cy="257040"/>
                    </a:xfrm>
                  </p:grpSpPr>
                  <p:sp>
                    <p:nvSpPr>
                      <p:cNvPr id="229" name=""/>
                      <p:cNvSpPr/>
                      <p:nvPr/>
                    </p:nvSpPr>
                    <p:spPr>
                      <a:xfrm flipH="1" rot="19132200">
                        <a:off x="7509240" y="5612040"/>
                        <a:ext cx="91440" cy="11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230" name=""/>
                      <p:cNvSpPr/>
                      <p:nvPr/>
                    </p:nvSpPr>
                    <p:spPr>
                      <a:xfrm flipH="1" rot="19132200">
                        <a:off x="7569000" y="5578200"/>
                        <a:ext cx="79200" cy="9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Times New Roman"/>
                        </a:endParaRPr>
                      </a:p>
                    </p:txBody>
                  </p:sp>
                  <p:sp>
                    <p:nvSpPr>
                      <p:cNvPr id="231" name=""/>
                      <p:cNvSpPr/>
                      <p:nvPr/>
                    </p:nvSpPr>
                    <p:spPr>
                      <a:xfrm flipH="1" rot="19132200">
                        <a:off x="7622280" y="5545080"/>
                        <a:ext cx="702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232" name=""/>
                      <p:cNvSpPr/>
                      <p:nvPr/>
                    </p:nvSpPr>
                    <p:spPr>
                      <a:xfrm flipH="1" rot="19132200">
                        <a:off x="7674120" y="5515560"/>
                        <a:ext cx="5796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233" name=""/>
                      <p:cNvSpPr/>
                      <p:nvPr/>
                    </p:nvSpPr>
                    <p:spPr>
                      <a:xfrm flipH="1" rot="19132200">
                        <a:off x="7716600" y="5493240"/>
                        <a:ext cx="46080" cy="6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grpSp>
              </p:grpSp>
              <p:sp>
                <p:nvSpPr>
                  <p:cNvPr id="234" name=""/>
                  <p:cNvSpPr/>
                  <p:nvPr/>
                </p:nvSpPr>
                <p:spPr>
                  <a:xfrm>
                    <a:off x="6804000" y="5400360"/>
                    <a:ext cx="36720" cy="63360"/>
                  </a:xfrm>
                  <a:prstGeom prst="ellipse">
                    <a:avLst/>
                  </a:prstGeom>
                  <a:solidFill>
                    <a:srgbClr val="ffff66"/>
                  </a:solidFill>
                  <a:ln w="9360">
                    <a:solidFill>
                      <a:srgbClr val="ffff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grpSp>
          <p:nvGrpSpPr>
            <p:cNvPr id="235" name=""/>
            <p:cNvGrpSpPr/>
            <p:nvPr/>
          </p:nvGrpSpPr>
          <p:grpSpPr>
            <a:xfrm>
              <a:off x="6957720" y="2940120"/>
              <a:ext cx="2255760" cy="2223000"/>
              <a:chOff x="6957720" y="2940120"/>
              <a:chExt cx="2255760" cy="2223000"/>
            </a:xfrm>
          </p:grpSpPr>
          <p:grpSp>
            <p:nvGrpSpPr>
              <p:cNvPr id="236" name=""/>
              <p:cNvGrpSpPr/>
              <p:nvPr/>
            </p:nvGrpSpPr>
            <p:grpSpPr>
              <a:xfrm>
                <a:off x="6957720" y="2940120"/>
                <a:ext cx="2255760" cy="1921320"/>
                <a:chOff x="6957720" y="2940120"/>
                <a:chExt cx="2255760" cy="1921320"/>
              </a:xfrm>
            </p:grpSpPr>
            <p:grpSp>
              <p:nvGrpSpPr>
                <p:cNvPr id="237" name=""/>
                <p:cNvGrpSpPr/>
                <p:nvPr/>
              </p:nvGrpSpPr>
              <p:grpSpPr>
                <a:xfrm>
                  <a:off x="6957720" y="2940120"/>
                  <a:ext cx="2255760" cy="1921320"/>
                  <a:chOff x="6957720" y="2940120"/>
                  <a:chExt cx="2255760" cy="1921320"/>
                </a:xfrm>
              </p:grpSpPr>
              <p:sp>
                <p:nvSpPr>
                  <p:cNvPr id="238" name=""/>
                  <p:cNvSpPr/>
                  <p:nvPr/>
                </p:nvSpPr>
                <p:spPr>
                  <a:xfrm rot="675000">
                    <a:off x="7169400" y="3110760"/>
                    <a:ext cx="1908360" cy="1579320"/>
                  </a:xfrm>
                  <a:custGeom>
                    <a:avLst/>
                    <a:gdLst/>
                    <a:ahLst/>
                    <a:rect l="l" t="t" r="r" b="b"/>
                    <a:pathLst>
                      <a:path w="1202" h="995">
                        <a:moveTo>
                          <a:pt x="1119" y="808"/>
                        </a:moveTo>
                        <a:cubicBezTo>
                          <a:pt x="1120" y="799"/>
                          <a:pt x="1142" y="830"/>
                          <a:pt x="1155" y="838"/>
                        </a:cubicBezTo>
                        <a:cubicBezTo>
                          <a:pt x="1168" y="846"/>
                          <a:pt x="1202" y="877"/>
                          <a:pt x="1197" y="856"/>
                        </a:cubicBezTo>
                        <a:cubicBezTo>
                          <a:pt x="1192" y="835"/>
                          <a:pt x="1147" y="754"/>
                          <a:pt x="1125" y="712"/>
                        </a:cubicBezTo>
                        <a:cubicBezTo>
                          <a:pt x="1103" y="670"/>
                          <a:pt x="1077" y="628"/>
                          <a:pt x="1065" y="604"/>
                        </a:cubicBezTo>
                        <a:cubicBezTo>
                          <a:pt x="1053" y="580"/>
                          <a:pt x="1058" y="584"/>
                          <a:pt x="1053" y="568"/>
                        </a:cubicBezTo>
                        <a:cubicBezTo>
                          <a:pt x="1048" y="552"/>
                          <a:pt x="1046" y="534"/>
                          <a:pt x="1035" y="508"/>
                        </a:cubicBezTo>
                        <a:cubicBezTo>
                          <a:pt x="1024" y="482"/>
                          <a:pt x="1000" y="441"/>
                          <a:pt x="987" y="412"/>
                        </a:cubicBezTo>
                        <a:cubicBezTo>
                          <a:pt x="974" y="383"/>
                          <a:pt x="971" y="358"/>
                          <a:pt x="957" y="334"/>
                        </a:cubicBezTo>
                        <a:cubicBezTo>
                          <a:pt x="943" y="310"/>
                          <a:pt x="926" y="292"/>
                          <a:pt x="903" y="268"/>
                        </a:cubicBezTo>
                        <a:cubicBezTo>
                          <a:pt x="880" y="244"/>
                          <a:pt x="840" y="213"/>
                          <a:pt x="819" y="190"/>
                        </a:cubicBezTo>
                        <a:cubicBezTo>
                          <a:pt x="798" y="167"/>
                          <a:pt x="805" y="155"/>
                          <a:pt x="777" y="130"/>
                        </a:cubicBezTo>
                        <a:cubicBezTo>
                          <a:pt x="749" y="105"/>
                          <a:pt x="700" y="61"/>
                          <a:pt x="651" y="40"/>
                        </a:cubicBezTo>
                        <a:cubicBezTo>
                          <a:pt x="602" y="19"/>
                          <a:pt x="539" y="0"/>
                          <a:pt x="483" y="4"/>
                        </a:cubicBezTo>
                        <a:cubicBezTo>
                          <a:pt x="427" y="8"/>
                          <a:pt x="344" y="29"/>
                          <a:pt x="315" y="64"/>
                        </a:cubicBezTo>
                        <a:cubicBezTo>
                          <a:pt x="286" y="99"/>
                          <a:pt x="315" y="170"/>
                          <a:pt x="309" y="214"/>
                        </a:cubicBezTo>
                        <a:cubicBezTo>
                          <a:pt x="303" y="258"/>
                          <a:pt x="301" y="307"/>
                          <a:pt x="279" y="328"/>
                        </a:cubicBezTo>
                        <a:cubicBezTo>
                          <a:pt x="257" y="349"/>
                          <a:pt x="210" y="322"/>
                          <a:pt x="177" y="340"/>
                        </a:cubicBezTo>
                        <a:cubicBezTo>
                          <a:pt x="144" y="358"/>
                          <a:pt x="109" y="397"/>
                          <a:pt x="81" y="436"/>
                        </a:cubicBezTo>
                        <a:cubicBezTo>
                          <a:pt x="53" y="475"/>
                          <a:pt x="18" y="530"/>
                          <a:pt x="9" y="574"/>
                        </a:cubicBezTo>
                        <a:cubicBezTo>
                          <a:pt x="0" y="618"/>
                          <a:pt x="16" y="672"/>
                          <a:pt x="27" y="700"/>
                        </a:cubicBezTo>
                        <a:cubicBezTo>
                          <a:pt x="38" y="728"/>
                          <a:pt x="61" y="729"/>
                          <a:pt x="75" y="742"/>
                        </a:cubicBezTo>
                        <a:cubicBezTo>
                          <a:pt x="89" y="755"/>
                          <a:pt x="96" y="765"/>
                          <a:pt x="111" y="778"/>
                        </a:cubicBezTo>
                        <a:cubicBezTo>
                          <a:pt x="126" y="791"/>
                          <a:pt x="157" y="823"/>
                          <a:pt x="165" y="820"/>
                        </a:cubicBezTo>
                        <a:cubicBezTo>
                          <a:pt x="173" y="817"/>
                          <a:pt x="160" y="780"/>
                          <a:pt x="159" y="760"/>
                        </a:cubicBezTo>
                        <a:cubicBezTo>
                          <a:pt x="158" y="740"/>
                          <a:pt x="157" y="717"/>
                          <a:pt x="159" y="700"/>
                        </a:cubicBezTo>
                        <a:cubicBezTo>
                          <a:pt x="161" y="683"/>
                          <a:pt x="159" y="669"/>
                          <a:pt x="171" y="658"/>
                        </a:cubicBezTo>
                        <a:cubicBezTo>
                          <a:pt x="183" y="647"/>
                          <a:pt x="220" y="631"/>
                          <a:pt x="231" y="634"/>
                        </a:cubicBezTo>
                        <a:cubicBezTo>
                          <a:pt x="242" y="637"/>
                          <a:pt x="223" y="664"/>
                          <a:pt x="237" y="676"/>
                        </a:cubicBezTo>
                        <a:cubicBezTo>
                          <a:pt x="251" y="688"/>
                          <a:pt x="296" y="700"/>
                          <a:pt x="315" y="706"/>
                        </a:cubicBezTo>
                        <a:cubicBezTo>
                          <a:pt x="334" y="712"/>
                          <a:pt x="332" y="706"/>
                          <a:pt x="351" y="712"/>
                        </a:cubicBezTo>
                        <a:cubicBezTo>
                          <a:pt x="370" y="718"/>
                          <a:pt x="411" y="732"/>
                          <a:pt x="429" y="742"/>
                        </a:cubicBezTo>
                        <a:cubicBezTo>
                          <a:pt x="447" y="752"/>
                          <a:pt x="456" y="750"/>
                          <a:pt x="459" y="772"/>
                        </a:cubicBezTo>
                        <a:cubicBezTo>
                          <a:pt x="462" y="794"/>
                          <a:pt x="450" y="846"/>
                          <a:pt x="447" y="874"/>
                        </a:cubicBezTo>
                        <a:cubicBezTo>
                          <a:pt x="444" y="902"/>
                          <a:pt x="425" y="931"/>
                          <a:pt x="441" y="940"/>
                        </a:cubicBezTo>
                        <a:cubicBezTo>
                          <a:pt x="457" y="949"/>
                          <a:pt x="518" y="943"/>
                          <a:pt x="543" y="928"/>
                        </a:cubicBezTo>
                        <a:cubicBezTo>
                          <a:pt x="568" y="913"/>
                          <a:pt x="582" y="873"/>
                          <a:pt x="591" y="850"/>
                        </a:cubicBezTo>
                        <a:cubicBezTo>
                          <a:pt x="600" y="827"/>
                          <a:pt x="596" y="788"/>
                          <a:pt x="597" y="790"/>
                        </a:cubicBezTo>
                        <a:cubicBezTo>
                          <a:pt x="598" y="792"/>
                          <a:pt x="591" y="844"/>
                          <a:pt x="597" y="862"/>
                        </a:cubicBezTo>
                        <a:cubicBezTo>
                          <a:pt x="603" y="880"/>
                          <a:pt x="616" y="883"/>
                          <a:pt x="633" y="898"/>
                        </a:cubicBezTo>
                        <a:cubicBezTo>
                          <a:pt x="650" y="913"/>
                          <a:pt x="682" y="941"/>
                          <a:pt x="699" y="952"/>
                        </a:cubicBezTo>
                        <a:cubicBezTo>
                          <a:pt x="716" y="963"/>
                          <a:pt x="722" y="957"/>
                          <a:pt x="735" y="964"/>
                        </a:cubicBezTo>
                        <a:cubicBezTo>
                          <a:pt x="748" y="971"/>
                          <a:pt x="757" y="993"/>
                          <a:pt x="777" y="994"/>
                        </a:cubicBezTo>
                        <a:cubicBezTo>
                          <a:pt x="797" y="995"/>
                          <a:pt x="839" y="981"/>
                          <a:pt x="855" y="970"/>
                        </a:cubicBezTo>
                        <a:cubicBezTo>
                          <a:pt x="871" y="959"/>
                          <a:pt x="862" y="936"/>
                          <a:pt x="873" y="928"/>
                        </a:cubicBezTo>
                        <a:cubicBezTo>
                          <a:pt x="884" y="920"/>
                          <a:pt x="912" y="936"/>
                          <a:pt x="921" y="922"/>
                        </a:cubicBezTo>
                        <a:cubicBezTo>
                          <a:pt x="930" y="908"/>
                          <a:pt x="926" y="866"/>
                          <a:pt x="927" y="844"/>
                        </a:cubicBezTo>
                        <a:cubicBezTo>
                          <a:pt x="928" y="822"/>
                          <a:pt x="939" y="810"/>
                          <a:pt x="927" y="790"/>
                        </a:cubicBezTo>
                        <a:cubicBezTo>
                          <a:pt x="915" y="770"/>
                          <a:pt x="877" y="747"/>
                          <a:pt x="855" y="724"/>
                        </a:cubicBezTo>
                        <a:cubicBezTo>
                          <a:pt x="833" y="701"/>
                          <a:pt x="806" y="674"/>
                          <a:pt x="795" y="652"/>
                        </a:cubicBezTo>
                        <a:cubicBezTo>
                          <a:pt x="784" y="630"/>
                          <a:pt x="784" y="603"/>
                          <a:pt x="789" y="592"/>
                        </a:cubicBezTo>
                        <a:cubicBezTo>
                          <a:pt x="794" y="581"/>
                          <a:pt x="815" y="581"/>
                          <a:pt x="825" y="586"/>
                        </a:cubicBezTo>
                        <a:cubicBezTo>
                          <a:pt x="835" y="591"/>
                          <a:pt x="832" y="609"/>
                          <a:pt x="849" y="622"/>
                        </a:cubicBezTo>
                        <a:cubicBezTo>
                          <a:pt x="866" y="635"/>
                          <a:pt x="910" y="646"/>
                          <a:pt x="927" y="664"/>
                        </a:cubicBezTo>
                        <a:cubicBezTo>
                          <a:pt x="944" y="682"/>
                          <a:pt x="938" y="709"/>
                          <a:pt x="951" y="730"/>
                        </a:cubicBezTo>
                        <a:cubicBezTo>
                          <a:pt x="964" y="751"/>
                          <a:pt x="983" y="769"/>
                          <a:pt x="1005" y="790"/>
                        </a:cubicBezTo>
                        <a:cubicBezTo>
                          <a:pt x="1027" y="811"/>
                          <a:pt x="1065" y="834"/>
                          <a:pt x="1083" y="856"/>
                        </a:cubicBezTo>
                        <a:cubicBezTo>
                          <a:pt x="1101" y="878"/>
                          <a:pt x="1102" y="916"/>
                          <a:pt x="1113" y="922"/>
                        </a:cubicBezTo>
                        <a:cubicBezTo>
                          <a:pt x="1124" y="928"/>
                          <a:pt x="1146" y="906"/>
                          <a:pt x="1149" y="892"/>
                        </a:cubicBezTo>
                        <a:cubicBezTo>
                          <a:pt x="1152" y="878"/>
                          <a:pt x="1118" y="817"/>
                          <a:pt x="1119" y="808"/>
                        </a:cubicBez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rot="675000">
                    <a:off x="6984720" y="3195720"/>
                    <a:ext cx="846000" cy="363240"/>
                  </a:xfrm>
                  <a:custGeom>
                    <a:avLst/>
                    <a:gdLst/>
                    <a:ahLst/>
                    <a:rect l="l" t="t" r="r" b="b"/>
                    <a:pathLst>
                      <a:path w="533" h="229">
                        <a:moveTo>
                          <a:pt x="301" y="222"/>
                        </a:moveTo>
                        <a:cubicBezTo>
                          <a:pt x="274" y="215"/>
                          <a:pt x="272" y="186"/>
                          <a:pt x="253" y="174"/>
                        </a:cubicBezTo>
                        <a:cubicBezTo>
                          <a:pt x="234" y="162"/>
                          <a:pt x="215" y="153"/>
                          <a:pt x="187" y="150"/>
                        </a:cubicBezTo>
                        <a:cubicBezTo>
                          <a:pt x="159" y="147"/>
                          <a:pt x="115" y="158"/>
                          <a:pt x="85" y="156"/>
                        </a:cubicBezTo>
                        <a:cubicBezTo>
                          <a:pt x="55" y="154"/>
                          <a:pt x="14" y="156"/>
                          <a:pt x="7" y="138"/>
                        </a:cubicBezTo>
                        <a:cubicBezTo>
                          <a:pt x="0" y="120"/>
                          <a:pt x="15" y="70"/>
                          <a:pt x="43" y="48"/>
                        </a:cubicBezTo>
                        <a:cubicBezTo>
                          <a:pt x="71" y="26"/>
                          <a:pt x="124" y="12"/>
                          <a:pt x="175" y="6"/>
                        </a:cubicBezTo>
                        <a:cubicBezTo>
                          <a:pt x="226" y="0"/>
                          <a:pt x="293" y="3"/>
                          <a:pt x="349" y="12"/>
                        </a:cubicBezTo>
                        <a:cubicBezTo>
                          <a:pt x="405" y="21"/>
                          <a:pt x="489" y="36"/>
                          <a:pt x="511" y="60"/>
                        </a:cubicBezTo>
                        <a:cubicBezTo>
                          <a:pt x="533" y="84"/>
                          <a:pt x="497" y="130"/>
                          <a:pt x="481" y="156"/>
                        </a:cubicBezTo>
                        <a:cubicBezTo>
                          <a:pt x="465" y="182"/>
                          <a:pt x="444" y="204"/>
                          <a:pt x="415" y="216"/>
                        </a:cubicBezTo>
                        <a:cubicBezTo>
                          <a:pt x="386" y="228"/>
                          <a:pt x="328" y="229"/>
                          <a:pt x="301" y="222"/>
                        </a:cubicBez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rot="675000">
                    <a:off x="7460640" y="4058280"/>
                    <a:ext cx="268200" cy="339120"/>
                  </a:xfrm>
                  <a:custGeom>
                    <a:avLst/>
                    <a:gdLst/>
                    <a:ahLst/>
                    <a:rect l="l" t="t" r="r" b="b"/>
                    <a:pathLst>
                      <a:path w="169" h="214">
                        <a:moveTo>
                          <a:pt x="19" y="36"/>
                        </a:moveTo>
                        <a:cubicBezTo>
                          <a:pt x="14" y="54"/>
                          <a:pt x="16" y="87"/>
                          <a:pt x="13" y="108"/>
                        </a:cubicBezTo>
                        <a:cubicBezTo>
                          <a:pt x="10" y="129"/>
                          <a:pt x="0" y="146"/>
                          <a:pt x="1" y="162"/>
                        </a:cubicBezTo>
                        <a:cubicBezTo>
                          <a:pt x="2" y="178"/>
                          <a:pt x="3" y="197"/>
                          <a:pt x="19" y="204"/>
                        </a:cubicBezTo>
                        <a:cubicBezTo>
                          <a:pt x="35" y="211"/>
                          <a:pt x="76" y="214"/>
                          <a:pt x="97" y="204"/>
                        </a:cubicBezTo>
                        <a:cubicBezTo>
                          <a:pt x="118" y="194"/>
                          <a:pt x="136" y="165"/>
                          <a:pt x="145" y="144"/>
                        </a:cubicBezTo>
                        <a:cubicBezTo>
                          <a:pt x="154" y="123"/>
                          <a:pt x="150" y="96"/>
                          <a:pt x="151" y="78"/>
                        </a:cubicBezTo>
                        <a:cubicBezTo>
                          <a:pt x="152" y="60"/>
                          <a:pt x="169" y="49"/>
                          <a:pt x="151" y="36"/>
                        </a:cubicBezTo>
                        <a:cubicBezTo>
                          <a:pt x="133" y="23"/>
                          <a:pt x="64" y="0"/>
                          <a:pt x="43" y="0"/>
                        </a:cubicBezTo>
                        <a:cubicBezTo>
                          <a:pt x="22" y="0"/>
                          <a:pt x="24" y="18"/>
                          <a:pt x="19" y="36"/>
                        </a:cubicBez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rot="675000">
                    <a:off x="7537320" y="4513680"/>
                    <a:ext cx="314640" cy="237960"/>
                  </a:xfrm>
                  <a:custGeom>
                    <a:avLst/>
                    <a:gdLst/>
                    <a:ahLst/>
                    <a:rect l="l" t="t" r="r" b="b"/>
                    <a:pathLst>
                      <a:path w="198" h="150">
                        <a:moveTo>
                          <a:pt x="108" y="18"/>
                        </a:moveTo>
                        <a:lnTo>
                          <a:pt x="78" y="42"/>
                        </a:lnTo>
                        <a:lnTo>
                          <a:pt x="30" y="30"/>
                        </a:lnTo>
                        <a:lnTo>
                          <a:pt x="0" y="78"/>
                        </a:lnTo>
                        <a:lnTo>
                          <a:pt x="78" y="54"/>
                        </a:lnTo>
                        <a:lnTo>
                          <a:pt x="24" y="84"/>
                        </a:lnTo>
                        <a:lnTo>
                          <a:pt x="30" y="132"/>
                        </a:lnTo>
                        <a:lnTo>
                          <a:pt x="66" y="84"/>
                        </a:lnTo>
                        <a:lnTo>
                          <a:pt x="132" y="78"/>
                        </a:lnTo>
                        <a:lnTo>
                          <a:pt x="150" y="138"/>
                        </a:lnTo>
                        <a:lnTo>
                          <a:pt x="198" y="150"/>
                        </a:lnTo>
                        <a:lnTo>
                          <a:pt x="162" y="84"/>
                        </a:lnTo>
                        <a:lnTo>
                          <a:pt x="192" y="0"/>
                        </a:lnTo>
                        <a:lnTo>
                          <a:pt x="108" y="18"/>
                        </a:ln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rot="675000">
                    <a:off x="7229880" y="4316760"/>
                    <a:ext cx="314280" cy="209160"/>
                  </a:xfrm>
                  <a:custGeom>
                    <a:avLst/>
                    <a:gdLst/>
                    <a:ahLst/>
                    <a:rect l="l" t="t" r="r" b="b"/>
                    <a:pathLst>
                      <a:path w="198" h="132">
                        <a:moveTo>
                          <a:pt x="108" y="0"/>
                        </a:moveTo>
                        <a:lnTo>
                          <a:pt x="78" y="24"/>
                        </a:lnTo>
                        <a:lnTo>
                          <a:pt x="30" y="12"/>
                        </a:lnTo>
                        <a:lnTo>
                          <a:pt x="0" y="60"/>
                        </a:lnTo>
                        <a:lnTo>
                          <a:pt x="78" y="36"/>
                        </a:lnTo>
                        <a:lnTo>
                          <a:pt x="24" y="66"/>
                        </a:lnTo>
                        <a:lnTo>
                          <a:pt x="30" y="114"/>
                        </a:lnTo>
                        <a:lnTo>
                          <a:pt x="66" y="66"/>
                        </a:lnTo>
                        <a:lnTo>
                          <a:pt x="132" y="60"/>
                        </a:lnTo>
                        <a:lnTo>
                          <a:pt x="150" y="120"/>
                        </a:lnTo>
                        <a:lnTo>
                          <a:pt x="198" y="132"/>
                        </a:lnTo>
                        <a:lnTo>
                          <a:pt x="162" y="66"/>
                        </a:lnTo>
                        <a:lnTo>
                          <a:pt x="168" y="24"/>
                        </a:lnTo>
                        <a:lnTo>
                          <a:pt x="108" y="0"/>
                        </a:ln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3" name=""/>
                <p:cNvSpPr/>
                <p:nvPr/>
              </p:nvSpPr>
              <p:spPr>
                <a:xfrm rot="675000">
                  <a:off x="7252200" y="3934440"/>
                  <a:ext cx="55440" cy="56880"/>
                </a:xfrm>
                <a:prstGeom prst="ellipse">
                  <a:avLst/>
                </a:prstGeom>
                <a:solidFill>
                  <a:srgbClr val="000000"/>
                </a:solidFill>
                <a:ln w="9360">
                  <a:solidFill>
                    <a:srgbClr val="996633"/>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sp>
            <p:nvSpPr>
              <p:cNvPr id="244" name=""/>
              <p:cNvSpPr/>
              <p:nvPr/>
            </p:nvSpPr>
            <p:spPr>
              <a:xfrm>
                <a:off x="7316640" y="482580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3</a:t>
                </a:r>
                <a:endParaRPr b="0" lang="en-US" sz="1600" spc="-1" strike="noStrike">
                  <a:solidFill>
                    <a:srgbClr val="ffffff"/>
                  </a:solidFill>
                  <a:latin typeface="Times New Roman"/>
                </a:endParaRPr>
              </a:p>
            </p:txBody>
          </p:sp>
        </p:grpSp>
        <p:sp>
          <p:nvSpPr>
            <p:cNvPr id="245" name=""/>
            <p:cNvSpPr/>
            <p:nvPr/>
          </p:nvSpPr>
          <p:spPr>
            <a:xfrm rot="17827200">
              <a:off x="6909120" y="47232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46" name=""/>
            <p:cNvSpPr/>
            <p:nvPr/>
          </p:nvSpPr>
          <p:spPr>
            <a:xfrm rot="18346200">
              <a:off x="3677400" y="4691520"/>
              <a:ext cx="1143000" cy="144360"/>
            </a:xfrm>
            <a:prstGeom prst="rightArrow">
              <a:avLst>
                <a:gd name="adj1" fmla="val 50000"/>
                <a:gd name="adj2" fmla="val 197943"/>
              </a:avLst>
            </a:prstGeom>
            <a:solidFill>
              <a:srgbClr val="ae8000"/>
            </a:solidFill>
            <a:ln w="9360">
              <a:solidFill>
                <a:srgbClr val="d7ae19"/>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47" name=""/>
            <p:cNvSpPr/>
            <p:nvPr/>
          </p:nvSpPr>
          <p:spPr>
            <a:xfrm rot="16200000">
              <a:off x="5006160" y="4647240"/>
              <a:ext cx="552240" cy="144360"/>
            </a:xfrm>
            <a:prstGeom prst="rightArrow">
              <a:avLst>
                <a:gd name="adj1" fmla="val 50000"/>
                <a:gd name="adj2" fmla="val 95636"/>
              </a:avLst>
            </a:prstGeom>
            <a:solidFill>
              <a:srgbClr val="ae8000"/>
            </a:solidFill>
            <a:ln w="9360">
              <a:solidFill>
                <a:srgbClr val="d7ae19"/>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48" name=""/>
            <p:cNvSpPr/>
            <p:nvPr/>
          </p:nvSpPr>
          <p:spPr>
            <a:xfrm rot="13293600">
              <a:off x="5736960" y="4752360"/>
              <a:ext cx="1096920" cy="144360"/>
            </a:xfrm>
            <a:prstGeom prst="rightArrow">
              <a:avLst>
                <a:gd name="adj1" fmla="val 50000"/>
                <a:gd name="adj2" fmla="val 189963"/>
              </a:avLst>
            </a:prstGeom>
            <a:solidFill>
              <a:srgbClr val="ae8000"/>
            </a:solidFill>
            <a:ln w="9360">
              <a:solidFill>
                <a:srgbClr val="d7ae19"/>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49" name=""/>
            <p:cNvSpPr/>
            <p:nvPr/>
          </p:nvSpPr>
          <p:spPr>
            <a:xfrm rot="10800000">
              <a:off x="5936760" y="3935160"/>
              <a:ext cx="1143000" cy="144360"/>
            </a:xfrm>
            <a:prstGeom prst="rightArrow">
              <a:avLst>
                <a:gd name="adj1" fmla="val 50000"/>
                <a:gd name="adj2" fmla="val 197943"/>
              </a:avLst>
            </a:prstGeom>
            <a:solidFill>
              <a:srgbClr val="ae8000"/>
            </a:solidFill>
            <a:ln w="9360">
              <a:solidFill>
                <a:srgbClr val="d7ae19"/>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250" name=""/>
            <p:cNvGrpSpPr/>
            <p:nvPr/>
          </p:nvGrpSpPr>
          <p:grpSpPr>
            <a:xfrm>
              <a:off x="4388760" y="3184560"/>
              <a:ext cx="1751760" cy="1292760"/>
              <a:chOff x="4388760" y="3184560"/>
              <a:chExt cx="1751760" cy="1292760"/>
            </a:xfrm>
          </p:grpSpPr>
          <p:grpSp>
            <p:nvGrpSpPr>
              <p:cNvPr id="251" name=""/>
              <p:cNvGrpSpPr/>
              <p:nvPr/>
            </p:nvGrpSpPr>
            <p:grpSpPr>
              <a:xfrm>
                <a:off x="5010840" y="3184560"/>
                <a:ext cx="867600" cy="999720"/>
                <a:chOff x="5010840" y="3184560"/>
                <a:chExt cx="867600" cy="999720"/>
              </a:xfrm>
            </p:grpSpPr>
            <p:grpSp>
              <p:nvGrpSpPr>
                <p:cNvPr id="252" name=""/>
                <p:cNvGrpSpPr/>
                <p:nvPr/>
              </p:nvGrpSpPr>
              <p:grpSpPr>
                <a:xfrm>
                  <a:off x="5238720" y="3184560"/>
                  <a:ext cx="639720" cy="999720"/>
                  <a:chOff x="5238720" y="3184560"/>
                  <a:chExt cx="639720" cy="999720"/>
                </a:xfrm>
              </p:grpSpPr>
              <p:sp>
                <p:nvSpPr>
                  <p:cNvPr id="253" name=""/>
                  <p:cNvSpPr/>
                  <p:nvPr/>
                </p:nvSpPr>
                <p:spPr>
                  <a:xfrm>
                    <a:off x="5388840" y="3522960"/>
                    <a:ext cx="275760" cy="661320"/>
                  </a:xfrm>
                  <a:custGeom>
                    <a:avLst/>
                    <a:gdLst/>
                    <a:ahLst/>
                    <a:rect l="l" t="t" r="r" b="b"/>
                    <a:pathLst>
                      <a:path w="347" h="832">
                        <a:moveTo>
                          <a:pt x="88" y="30"/>
                        </a:moveTo>
                        <a:cubicBezTo>
                          <a:pt x="69" y="55"/>
                          <a:pt x="62" y="109"/>
                          <a:pt x="52" y="162"/>
                        </a:cubicBezTo>
                        <a:cubicBezTo>
                          <a:pt x="42" y="215"/>
                          <a:pt x="31" y="294"/>
                          <a:pt x="25" y="351"/>
                        </a:cubicBezTo>
                        <a:cubicBezTo>
                          <a:pt x="19" y="408"/>
                          <a:pt x="19" y="447"/>
                          <a:pt x="16" y="504"/>
                        </a:cubicBezTo>
                        <a:cubicBezTo>
                          <a:pt x="13" y="561"/>
                          <a:pt x="0" y="642"/>
                          <a:pt x="7" y="693"/>
                        </a:cubicBezTo>
                        <a:cubicBezTo>
                          <a:pt x="14" y="744"/>
                          <a:pt x="25" y="794"/>
                          <a:pt x="61" y="813"/>
                        </a:cubicBezTo>
                        <a:cubicBezTo>
                          <a:pt x="97" y="832"/>
                          <a:pt x="181" y="817"/>
                          <a:pt x="226" y="807"/>
                        </a:cubicBezTo>
                        <a:cubicBezTo>
                          <a:pt x="271" y="797"/>
                          <a:pt x="321" y="779"/>
                          <a:pt x="334" y="753"/>
                        </a:cubicBezTo>
                        <a:cubicBezTo>
                          <a:pt x="347" y="727"/>
                          <a:pt x="308" y="705"/>
                          <a:pt x="301" y="651"/>
                        </a:cubicBezTo>
                        <a:cubicBezTo>
                          <a:pt x="294" y="597"/>
                          <a:pt x="292" y="494"/>
                          <a:pt x="289" y="429"/>
                        </a:cubicBezTo>
                        <a:cubicBezTo>
                          <a:pt x="286" y="364"/>
                          <a:pt x="283" y="309"/>
                          <a:pt x="283" y="258"/>
                        </a:cubicBezTo>
                        <a:cubicBezTo>
                          <a:pt x="283" y="207"/>
                          <a:pt x="287" y="160"/>
                          <a:pt x="286" y="120"/>
                        </a:cubicBezTo>
                        <a:cubicBezTo>
                          <a:pt x="285" y="80"/>
                          <a:pt x="297" y="36"/>
                          <a:pt x="277" y="18"/>
                        </a:cubicBezTo>
                        <a:cubicBezTo>
                          <a:pt x="257" y="0"/>
                          <a:pt x="196" y="9"/>
                          <a:pt x="166" y="9"/>
                        </a:cubicBezTo>
                        <a:cubicBezTo>
                          <a:pt x="136" y="9"/>
                          <a:pt x="107" y="5"/>
                          <a:pt x="88" y="30"/>
                        </a:cubicBezTo>
                        <a:close/>
                      </a:path>
                    </a:pathLst>
                  </a:custGeom>
                  <a:gradFill rotWithShape="0">
                    <a:gsLst>
                      <a:gs pos="0">
                        <a:srgbClr val="d7ae19"/>
                      </a:gs>
                      <a:gs pos="100000">
                        <a:srgbClr val="ae8000"/>
                      </a:gs>
                    </a:gsLst>
                    <a:lin ang="5400000"/>
                  </a:gradFill>
                  <a:ln w="9360">
                    <a:solidFill>
                      <a:srgbClr val="d7ae1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5238720" y="3184560"/>
                    <a:ext cx="639720" cy="449640"/>
                  </a:xfrm>
                  <a:custGeom>
                    <a:avLst/>
                    <a:gdLst/>
                    <a:ahLst/>
                    <a:rect l="l" t="t" r="r" b="b"/>
                    <a:pathLst>
                      <a:path w="805" h="566">
                        <a:moveTo>
                          <a:pt x="382" y="0"/>
                        </a:moveTo>
                        <a:cubicBezTo>
                          <a:pt x="367" y="3"/>
                          <a:pt x="332" y="10"/>
                          <a:pt x="301" y="21"/>
                        </a:cubicBezTo>
                        <a:cubicBezTo>
                          <a:pt x="270" y="32"/>
                          <a:pt x="235" y="35"/>
                          <a:pt x="199" y="66"/>
                        </a:cubicBezTo>
                        <a:cubicBezTo>
                          <a:pt x="163" y="97"/>
                          <a:pt x="109" y="167"/>
                          <a:pt x="85" y="207"/>
                        </a:cubicBezTo>
                        <a:cubicBezTo>
                          <a:pt x="61" y="247"/>
                          <a:pt x="68" y="282"/>
                          <a:pt x="55" y="309"/>
                        </a:cubicBezTo>
                        <a:cubicBezTo>
                          <a:pt x="42" y="336"/>
                          <a:pt x="12" y="345"/>
                          <a:pt x="6" y="367"/>
                        </a:cubicBezTo>
                        <a:cubicBezTo>
                          <a:pt x="0" y="389"/>
                          <a:pt x="1" y="429"/>
                          <a:pt x="16" y="444"/>
                        </a:cubicBezTo>
                        <a:cubicBezTo>
                          <a:pt x="31" y="459"/>
                          <a:pt x="75" y="463"/>
                          <a:pt x="94" y="459"/>
                        </a:cubicBezTo>
                        <a:cubicBezTo>
                          <a:pt x="113" y="455"/>
                          <a:pt x="115" y="416"/>
                          <a:pt x="130" y="419"/>
                        </a:cubicBezTo>
                        <a:cubicBezTo>
                          <a:pt x="145" y="422"/>
                          <a:pt x="150" y="458"/>
                          <a:pt x="186" y="479"/>
                        </a:cubicBezTo>
                        <a:cubicBezTo>
                          <a:pt x="222" y="500"/>
                          <a:pt x="289" y="535"/>
                          <a:pt x="349" y="543"/>
                        </a:cubicBezTo>
                        <a:cubicBezTo>
                          <a:pt x="409" y="551"/>
                          <a:pt x="493" y="534"/>
                          <a:pt x="544" y="525"/>
                        </a:cubicBezTo>
                        <a:cubicBezTo>
                          <a:pt x="595" y="516"/>
                          <a:pt x="631" y="482"/>
                          <a:pt x="654" y="487"/>
                        </a:cubicBezTo>
                        <a:cubicBezTo>
                          <a:pt x="677" y="492"/>
                          <a:pt x="662" y="544"/>
                          <a:pt x="682" y="555"/>
                        </a:cubicBezTo>
                        <a:cubicBezTo>
                          <a:pt x="702" y="566"/>
                          <a:pt x="755" y="565"/>
                          <a:pt x="775" y="552"/>
                        </a:cubicBezTo>
                        <a:cubicBezTo>
                          <a:pt x="795" y="539"/>
                          <a:pt x="805" y="510"/>
                          <a:pt x="802" y="477"/>
                        </a:cubicBezTo>
                        <a:cubicBezTo>
                          <a:pt x="799" y="444"/>
                          <a:pt x="773" y="404"/>
                          <a:pt x="758" y="351"/>
                        </a:cubicBezTo>
                        <a:cubicBezTo>
                          <a:pt x="743" y="298"/>
                          <a:pt x="733" y="206"/>
                          <a:pt x="710" y="159"/>
                        </a:cubicBezTo>
                        <a:cubicBezTo>
                          <a:pt x="687" y="112"/>
                          <a:pt x="662" y="92"/>
                          <a:pt x="622" y="66"/>
                        </a:cubicBezTo>
                        <a:cubicBezTo>
                          <a:pt x="582" y="40"/>
                          <a:pt x="501" y="16"/>
                          <a:pt x="469" y="3"/>
                        </a:cubicBezTo>
                      </a:path>
                    </a:pathLst>
                  </a:custGeom>
                  <a:solidFill>
                    <a:srgbClr val="ae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5" name=""/>
                <p:cNvGrpSpPr/>
                <p:nvPr/>
              </p:nvGrpSpPr>
              <p:grpSpPr>
                <a:xfrm>
                  <a:off x="5010840" y="3600360"/>
                  <a:ext cx="361440" cy="533880"/>
                  <a:chOff x="5010840" y="3600360"/>
                  <a:chExt cx="361440" cy="533880"/>
                </a:xfrm>
              </p:grpSpPr>
              <p:sp>
                <p:nvSpPr>
                  <p:cNvPr id="256" name=""/>
                  <p:cNvSpPr/>
                  <p:nvPr/>
                </p:nvSpPr>
                <p:spPr>
                  <a:xfrm flipH="1" rot="20857800">
                    <a:off x="5185080" y="3792600"/>
                    <a:ext cx="138240" cy="330480"/>
                  </a:xfrm>
                  <a:custGeom>
                    <a:avLst/>
                    <a:gdLst/>
                    <a:ahLst/>
                    <a:rect l="l" t="t" r="r" b="b"/>
                    <a:pathLst>
                      <a:path w="347" h="832">
                        <a:moveTo>
                          <a:pt x="88" y="30"/>
                        </a:moveTo>
                        <a:cubicBezTo>
                          <a:pt x="69" y="55"/>
                          <a:pt x="62" y="109"/>
                          <a:pt x="52" y="162"/>
                        </a:cubicBezTo>
                        <a:cubicBezTo>
                          <a:pt x="42" y="215"/>
                          <a:pt x="31" y="294"/>
                          <a:pt x="25" y="351"/>
                        </a:cubicBezTo>
                        <a:cubicBezTo>
                          <a:pt x="19" y="408"/>
                          <a:pt x="19" y="447"/>
                          <a:pt x="16" y="504"/>
                        </a:cubicBezTo>
                        <a:cubicBezTo>
                          <a:pt x="13" y="561"/>
                          <a:pt x="0" y="642"/>
                          <a:pt x="7" y="693"/>
                        </a:cubicBezTo>
                        <a:cubicBezTo>
                          <a:pt x="14" y="744"/>
                          <a:pt x="25" y="794"/>
                          <a:pt x="61" y="813"/>
                        </a:cubicBezTo>
                        <a:cubicBezTo>
                          <a:pt x="97" y="832"/>
                          <a:pt x="181" y="817"/>
                          <a:pt x="226" y="807"/>
                        </a:cubicBezTo>
                        <a:cubicBezTo>
                          <a:pt x="271" y="797"/>
                          <a:pt x="321" y="779"/>
                          <a:pt x="334" y="753"/>
                        </a:cubicBezTo>
                        <a:cubicBezTo>
                          <a:pt x="347" y="727"/>
                          <a:pt x="308" y="705"/>
                          <a:pt x="301" y="651"/>
                        </a:cubicBezTo>
                        <a:cubicBezTo>
                          <a:pt x="294" y="597"/>
                          <a:pt x="292" y="494"/>
                          <a:pt x="289" y="429"/>
                        </a:cubicBezTo>
                        <a:cubicBezTo>
                          <a:pt x="286" y="364"/>
                          <a:pt x="283" y="309"/>
                          <a:pt x="283" y="258"/>
                        </a:cubicBezTo>
                        <a:cubicBezTo>
                          <a:pt x="283" y="207"/>
                          <a:pt x="287" y="160"/>
                          <a:pt x="286" y="120"/>
                        </a:cubicBezTo>
                        <a:cubicBezTo>
                          <a:pt x="285" y="80"/>
                          <a:pt x="297" y="36"/>
                          <a:pt x="277" y="18"/>
                        </a:cubicBezTo>
                        <a:cubicBezTo>
                          <a:pt x="257" y="0"/>
                          <a:pt x="196" y="9"/>
                          <a:pt x="166" y="9"/>
                        </a:cubicBezTo>
                        <a:cubicBezTo>
                          <a:pt x="136" y="9"/>
                          <a:pt x="107" y="5"/>
                          <a:pt x="88" y="30"/>
                        </a:cubicBezTo>
                        <a:close/>
                      </a:path>
                    </a:pathLst>
                  </a:custGeom>
                  <a:gradFill rotWithShape="0">
                    <a:gsLst>
                      <a:gs pos="0">
                        <a:srgbClr val="d7ae19"/>
                      </a:gs>
                      <a:gs pos="100000">
                        <a:srgbClr val="ae8000"/>
                      </a:gs>
                    </a:gsLst>
                    <a:lin ang="5400000"/>
                  </a:gradFill>
                  <a:ln w="9360">
                    <a:solidFill>
                      <a:srgbClr val="d7ae1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H="1" rot="20857800">
                    <a:off x="5031000" y="3632040"/>
                    <a:ext cx="320760" cy="224280"/>
                  </a:xfrm>
                  <a:custGeom>
                    <a:avLst/>
                    <a:gdLst/>
                    <a:ahLst/>
                    <a:rect l="l" t="t" r="r" b="b"/>
                    <a:pathLst>
                      <a:path w="805" h="566">
                        <a:moveTo>
                          <a:pt x="382" y="0"/>
                        </a:moveTo>
                        <a:cubicBezTo>
                          <a:pt x="367" y="3"/>
                          <a:pt x="332" y="10"/>
                          <a:pt x="301" y="21"/>
                        </a:cubicBezTo>
                        <a:cubicBezTo>
                          <a:pt x="270" y="32"/>
                          <a:pt x="235" y="35"/>
                          <a:pt x="199" y="66"/>
                        </a:cubicBezTo>
                        <a:cubicBezTo>
                          <a:pt x="163" y="97"/>
                          <a:pt x="109" y="167"/>
                          <a:pt x="85" y="207"/>
                        </a:cubicBezTo>
                        <a:cubicBezTo>
                          <a:pt x="61" y="247"/>
                          <a:pt x="68" y="282"/>
                          <a:pt x="55" y="309"/>
                        </a:cubicBezTo>
                        <a:cubicBezTo>
                          <a:pt x="42" y="336"/>
                          <a:pt x="12" y="345"/>
                          <a:pt x="6" y="367"/>
                        </a:cubicBezTo>
                        <a:cubicBezTo>
                          <a:pt x="0" y="389"/>
                          <a:pt x="1" y="429"/>
                          <a:pt x="16" y="444"/>
                        </a:cubicBezTo>
                        <a:cubicBezTo>
                          <a:pt x="31" y="459"/>
                          <a:pt x="75" y="463"/>
                          <a:pt x="94" y="459"/>
                        </a:cubicBezTo>
                        <a:cubicBezTo>
                          <a:pt x="113" y="455"/>
                          <a:pt x="115" y="416"/>
                          <a:pt x="130" y="419"/>
                        </a:cubicBezTo>
                        <a:cubicBezTo>
                          <a:pt x="145" y="422"/>
                          <a:pt x="150" y="458"/>
                          <a:pt x="186" y="479"/>
                        </a:cubicBezTo>
                        <a:cubicBezTo>
                          <a:pt x="222" y="500"/>
                          <a:pt x="289" y="535"/>
                          <a:pt x="349" y="543"/>
                        </a:cubicBezTo>
                        <a:cubicBezTo>
                          <a:pt x="409" y="551"/>
                          <a:pt x="493" y="534"/>
                          <a:pt x="544" y="525"/>
                        </a:cubicBezTo>
                        <a:cubicBezTo>
                          <a:pt x="595" y="516"/>
                          <a:pt x="631" y="482"/>
                          <a:pt x="654" y="487"/>
                        </a:cubicBezTo>
                        <a:cubicBezTo>
                          <a:pt x="677" y="492"/>
                          <a:pt x="662" y="544"/>
                          <a:pt x="682" y="555"/>
                        </a:cubicBezTo>
                        <a:cubicBezTo>
                          <a:pt x="702" y="566"/>
                          <a:pt x="755" y="565"/>
                          <a:pt x="775" y="552"/>
                        </a:cubicBezTo>
                        <a:cubicBezTo>
                          <a:pt x="795" y="539"/>
                          <a:pt x="805" y="510"/>
                          <a:pt x="802" y="477"/>
                        </a:cubicBezTo>
                        <a:cubicBezTo>
                          <a:pt x="799" y="444"/>
                          <a:pt x="773" y="404"/>
                          <a:pt x="758" y="351"/>
                        </a:cubicBezTo>
                        <a:cubicBezTo>
                          <a:pt x="743" y="298"/>
                          <a:pt x="733" y="206"/>
                          <a:pt x="710" y="159"/>
                        </a:cubicBezTo>
                        <a:cubicBezTo>
                          <a:pt x="687" y="112"/>
                          <a:pt x="662" y="92"/>
                          <a:pt x="622" y="66"/>
                        </a:cubicBezTo>
                        <a:cubicBezTo>
                          <a:pt x="582" y="40"/>
                          <a:pt x="501" y="16"/>
                          <a:pt x="469" y="3"/>
                        </a:cubicBezTo>
                      </a:path>
                    </a:pathLst>
                  </a:custGeom>
                  <a:solidFill>
                    <a:srgbClr val="ae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8" name=""/>
              <p:cNvGrpSpPr/>
              <p:nvPr/>
            </p:nvGrpSpPr>
            <p:grpSpPr>
              <a:xfrm>
                <a:off x="4388760" y="3870360"/>
                <a:ext cx="579960" cy="400320"/>
                <a:chOff x="4388760" y="3870360"/>
                <a:chExt cx="579960" cy="400320"/>
              </a:xfrm>
            </p:grpSpPr>
            <p:sp>
              <p:nvSpPr>
                <p:cNvPr id="259" name=""/>
                <p:cNvSpPr/>
                <p:nvPr/>
              </p:nvSpPr>
              <p:spPr>
                <a:xfrm rot="2421600">
                  <a:off x="4379400" y="3950640"/>
                  <a:ext cx="274680" cy="7272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60" name=""/>
                <p:cNvSpPr/>
                <p:nvPr/>
              </p:nvSpPr>
              <p:spPr>
                <a:xfrm>
                  <a:off x="4398840" y="4041360"/>
                  <a:ext cx="274680" cy="7236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261" name=""/>
                <p:cNvSpPr/>
                <p:nvPr/>
              </p:nvSpPr>
              <p:spPr>
                <a:xfrm>
                  <a:off x="4694040" y="4041360"/>
                  <a:ext cx="274680" cy="7236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262" name=""/>
                <p:cNvSpPr/>
                <p:nvPr/>
              </p:nvSpPr>
              <p:spPr>
                <a:xfrm rot="20592600">
                  <a:off x="4531680" y="4159800"/>
                  <a:ext cx="274680" cy="7272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63" name=""/>
                <p:cNvSpPr/>
                <p:nvPr/>
              </p:nvSpPr>
              <p:spPr>
                <a:xfrm rot="745800">
                  <a:off x="4631760" y="3917520"/>
                  <a:ext cx="274680" cy="7236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sp>
            <p:nvSpPr>
              <p:cNvPr id="264" name=""/>
              <p:cNvSpPr/>
              <p:nvPr/>
            </p:nvSpPr>
            <p:spPr>
              <a:xfrm>
                <a:off x="4755960" y="414000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decomposer</a:t>
                </a:r>
                <a:endParaRPr b="0" lang="en-US" sz="1600" spc="-1" strike="noStrike">
                  <a:solidFill>
                    <a:srgbClr val="ffffff"/>
                  </a:solidFill>
                  <a:latin typeface="Times New Roman"/>
                </a:endParaRPr>
              </a:p>
            </p:txBody>
          </p:sp>
        </p:grpSp>
      </p:grpSp>
      <p:sp>
        <p:nvSpPr>
          <p:cNvPr id="265" name=""/>
          <p:cNvSpPr/>
          <p:nvPr/>
        </p:nvSpPr>
        <p:spPr>
          <a:xfrm>
            <a:off x="4322880" y="2976480"/>
            <a:ext cx="1977840" cy="1795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90480" y="304920"/>
            <a:ext cx="5429160" cy="1123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Black"/>
              </a:rPr>
              <a:t>HERBIVORES</a:t>
            </a:r>
            <a:endParaRPr b="0" lang="en-US" sz="5400" spc="-1" strike="noStrike">
              <a:solidFill>
                <a:srgbClr val="003300"/>
              </a:solidFill>
              <a:latin typeface="Arial Black"/>
            </a:endParaRPr>
          </a:p>
        </p:txBody>
      </p:sp>
      <p:sp>
        <p:nvSpPr>
          <p:cNvPr id="267" name="PlaceHolder 2"/>
          <p:cNvSpPr>
            <a:spLocks noGrp="1"/>
          </p:cNvSpPr>
          <p:nvPr>
            <p:ph/>
          </p:nvPr>
        </p:nvSpPr>
        <p:spPr>
          <a:xfrm>
            <a:off x="1315800" y="1874520"/>
            <a:ext cx="4808520" cy="1135080"/>
          </a:xfrm>
          <a:prstGeom prst="rect">
            <a:avLst/>
          </a:prstGeom>
          <a:noFill/>
          <a:ln w="0">
            <a:noFill/>
          </a:ln>
        </p:spPr>
        <p:txBody>
          <a:bodyPr lIns="92160" rIns="92160" tIns="46080" bIns="46080" anchor="t">
            <a:normAutofit fontScale="95000"/>
          </a:bodyPr>
          <a:p>
            <a:pPr marL="325800" indent="-325800">
              <a:lnSpc>
                <a:spcPct val="9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What are herbivores?</a:t>
            </a:r>
            <a:endParaRPr b="0" lang="en-US" sz="4000" spc="-1" strike="noStrike">
              <a:solidFill>
                <a:srgbClr val="663300"/>
              </a:solidFill>
              <a:latin typeface="Arial"/>
            </a:endParaRPr>
          </a:p>
        </p:txBody>
      </p:sp>
      <p:sp>
        <p:nvSpPr>
          <p:cNvPr id="268" name="PlaceHolder 3"/>
          <p:cNvSpPr>
            <a:spLocks noGrp="1"/>
          </p:cNvSpPr>
          <p:nvPr>
            <p:ph/>
          </p:nvPr>
        </p:nvSpPr>
        <p:spPr>
          <a:xfrm>
            <a:off x="1290600" y="2736360"/>
            <a:ext cx="7556400" cy="185436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3300"/>
              </a:solidFill>
              <a:latin typeface="Arial"/>
            </a:endParaRPr>
          </a:p>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Ex. Cows, caterpillars, rabbits</a:t>
            </a:r>
            <a:endParaRPr b="0" lang="en-US" sz="4000" spc="-1" strike="noStrike">
              <a:solidFill>
                <a:srgbClr val="663300"/>
              </a:solidFill>
              <a:latin typeface="Arial"/>
            </a:endParaRPr>
          </a:p>
        </p:txBody>
      </p:sp>
      <p:pic>
        <p:nvPicPr>
          <p:cNvPr id="269" name="" descr=""/>
          <p:cNvPicPr/>
          <p:nvPr/>
        </p:nvPicPr>
        <p:blipFill>
          <a:blip r:embed="rId1"/>
          <a:stretch/>
        </p:blipFill>
        <p:spPr>
          <a:xfrm>
            <a:off x="6246720" y="1384200"/>
            <a:ext cx="2668680" cy="1936800"/>
          </a:xfrm>
          <a:prstGeom prst="rect">
            <a:avLst/>
          </a:prstGeom>
          <a:ln w="0">
            <a:noFill/>
          </a:ln>
        </p:spPr>
      </p:pic>
      <p:sp>
        <p:nvSpPr>
          <p:cNvPr id="270" name=""/>
          <p:cNvSpPr/>
          <p:nvPr/>
        </p:nvSpPr>
        <p:spPr>
          <a:xfrm>
            <a:off x="4495680" y="4781520"/>
            <a:ext cx="1822680" cy="1768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1217520" y="5013360"/>
            <a:ext cx="6969240" cy="1545480"/>
            <a:chOff x="1217520" y="5013360"/>
            <a:chExt cx="6969240" cy="1545480"/>
          </a:xfrm>
        </p:grpSpPr>
        <p:sp>
          <p:nvSpPr>
            <p:cNvPr id="272" name=""/>
            <p:cNvSpPr/>
            <p:nvPr/>
          </p:nvSpPr>
          <p:spPr>
            <a:xfrm>
              <a:off x="411480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273" name=""/>
            <p:cNvGrpSpPr/>
            <p:nvPr/>
          </p:nvGrpSpPr>
          <p:grpSpPr>
            <a:xfrm>
              <a:off x="1217520" y="5013360"/>
              <a:ext cx="1219320" cy="1545480"/>
              <a:chOff x="1217520" y="5013360"/>
              <a:chExt cx="1219320" cy="1545480"/>
            </a:xfrm>
          </p:grpSpPr>
          <p:sp>
            <p:nvSpPr>
              <p:cNvPr id="274" name=""/>
              <p:cNvSpPr/>
              <p:nvPr/>
            </p:nvSpPr>
            <p:spPr>
              <a:xfrm>
                <a:off x="1217520" y="5013360"/>
                <a:ext cx="1219320" cy="121932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343520" y="622152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unlight</a:t>
                </a:r>
                <a:endParaRPr b="0" lang="en-US" sz="1600" spc="-1" strike="noStrike">
                  <a:solidFill>
                    <a:srgbClr val="ffffff"/>
                  </a:solidFill>
                  <a:latin typeface="Times New Roman"/>
                </a:endParaRPr>
              </a:p>
            </p:txBody>
          </p:sp>
        </p:grpSp>
        <p:grpSp>
          <p:nvGrpSpPr>
            <p:cNvPr id="276" name=""/>
            <p:cNvGrpSpPr/>
            <p:nvPr/>
          </p:nvGrpSpPr>
          <p:grpSpPr>
            <a:xfrm>
              <a:off x="3143160" y="5318280"/>
              <a:ext cx="1113480" cy="1240560"/>
              <a:chOff x="3143160" y="5318280"/>
              <a:chExt cx="1113480" cy="1240560"/>
            </a:xfrm>
          </p:grpSpPr>
          <p:sp>
            <p:nvSpPr>
              <p:cNvPr id="277" name=""/>
              <p:cNvSpPr/>
              <p:nvPr/>
            </p:nvSpPr>
            <p:spPr>
              <a:xfrm>
                <a:off x="3143160" y="5318280"/>
                <a:ext cx="1094040" cy="914400"/>
              </a:xfrm>
              <a:custGeom>
                <a:avLst/>
                <a:gdLst/>
                <a:ahLst/>
                <a:rect l="l" t="t" r="r" b="b"/>
                <a:pathLst>
                  <a:path w="689" h="614">
                    <a:moveTo>
                      <a:pt x="256" y="606"/>
                    </a:moveTo>
                    <a:cubicBezTo>
                      <a:pt x="296" y="606"/>
                      <a:pt x="336" y="606"/>
                      <a:pt x="352" y="558"/>
                    </a:cubicBezTo>
                    <a:cubicBezTo>
                      <a:pt x="368" y="510"/>
                      <a:pt x="368" y="376"/>
                      <a:pt x="352" y="318"/>
                    </a:cubicBezTo>
                    <a:cubicBezTo>
                      <a:pt x="336" y="260"/>
                      <a:pt x="270" y="220"/>
                      <a:pt x="253" y="210"/>
                    </a:cubicBezTo>
                    <a:cubicBezTo>
                      <a:pt x="236" y="200"/>
                      <a:pt x="259" y="240"/>
                      <a:pt x="250" y="261"/>
                    </a:cubicBezTo>
                    <a:cubicBezTo>
                      <a:pt x="241" y="282"/>
                      <a:pt x="223" y="318"/>
                      <a:pt x="196" y="336"/>
                    </a:cubicBezTo>
                    <a:cubicBezTo>
                      <a:pt x="169" y="354"/>
                      <a:pt x="116" y="367"/>
                      <a:pt x="85" y="369"/>
                    </a:cubicBezTo>
                    <a:cubicBezTo>
                      <a:pt x="54" y="371"/>
                      <a:pt x="20" y="359"/>
                      <a:pt x="10" y="348"/>
                    </a:cubicBezTo>
                    <a:cubicBezTo>
                      <a:pt x="0" y="337"/>
                      <a:pt x="16" y="324"/>
                      <a:pt x="25" y="303"/>
                    </a:cubicBezTo>
                    <a:cubicBezTo>
                      <a:pt x="34" y="282"/>
                      <a:pt x="42" y="243"/>
                      <a:pt x="64" y="222"/>
                    </a:cubicBezTo>
                    <a:cubicBezTo>
                      <a:pt x="86" y="201"/>
                      <a:pt x="128" y="182"/>
                      <a:pt x="160" y="174"/>
                    </a:cubicBezTo>
                    <a:cubicBezTo>
                      <a:pt x="192" y="166"/>
                      <a:pt x="224" y="166"/>
                      <a:pt x="256" y="174"/>
                    </a:cubicBezTo>
                    <a:cubicBezTo>
                      <a:pt x="288" y="182"/>
                      <a:pt x="331" y="228"/>
                      <a:pt x="352" y="222"/>
                    </a:cubicBezTo>
                    <a:cubicBezTo>
                      <a:pt x="373" y="216"/>
                      <a:pt x="374" y="161"/>
                      <a:pt x="385" y="138"/>
                    </a:cubicBezTo>
                    <a:cubicBezTo>
                      <a:pt x="396" y="115"/>
                      <a:pt x="403" y="105"/>
                      <a:pt x="421" y="84"/>
                    </a:cubicBezTo>
                    <a:cubicBezTo>
                      <a:pt x="439" y="63"/>
                      <a:pt x="468" y="24"/>
                      <a:pt x="496" y="12"/>
                    </a:cubicBezTo>
                    <a:cubicBezTo>
                      <a:pt x="524" y="0"/>
                      <a:pt x="565" y="6"/>
                      <a:pt x="589" y="12"/>
                    </a:cubicBezTo>
                    <a:cubicBezTo>
                      <a:pt x="613" y="18"/>
                      <a:pt x="624" y="31"/>
                      <a:pt x="640" y="48"/>
                    </a:cubicBezTo>
                    <a:cubicBezTo>
                      <a:pt x="656" y="65"/>
                      <a:pt x="689" y="97"/>
                      <a:pt x="688" y="114"/>
                    </a:cubicBezTo>
                    <a:cubicBezTo>
                      <a:pt x="687" y="131"/>
                      <a:pt x="659" y="146"/>
                      <a:pt x="631" y="153"/>
                    </a:cubicBezTo>
                    <a:cubicBezTo>
                      <a:pt x="603" y="160"/>
                      <a:pt x="550" y="161"/>
                      <a:pt x="517" y="156"/>
                    </a:cubicBezTo>
                    <a:cubicBezTo>
                      <a:pt x="484" y="151"/>
                      <a:pt x="453" y="110"/>
                      <a:pt x="433" y="120"/>
                    </a:cubicBezTo>
                    <a:cubicBezTo>
                      <a:pt x="413" y="130"/>
                      <a:pt x="404" y="184"/>
                      <a:pt x="397" y="216"/>
                    </a:cubicBezTo>
                    <a:cubicBezTo>
                      <a:pt x="390" y="248"/>
                      <a:pt x="388" y="282"/>
                      <a:pt x="388" y="315"/>
                    </a:cubicBezTo>
                    <a:cubicBezTo>
                      <a:pt x="388" y="348"/>
                      <a:pt x="390" y="374"/>
                      <a:pt x="400" y="414"/>
                    </a:cubicBezTo>
                    <a:cubicBezTo>
                      <a:pt x="410" y="454"/>
                      <a:pt x="424" y="526"/>
                      <a:pt x="448" y="558"/>
                    </a:cubicBezTo>
                    <a:cubicBezTo>
                      <a:pt x="472" y="590"/>
                      <a:pt x="576" y="598"/>
                      <a:pt x="544" y="606"/>
                    </a:cubicBezTo>
                    <a:cubicBezTo>
                      <a:pt x="512" y="614"/>
                      <a:pt x="316" y="606"/>
                      <a:pt x="256" y="606"/>
                    </a:cubicBezTo>
                  </a:path>
                </a:pathLst>
              </a:custGeom>
              <a:solidFill>
                <a:srgbClr val="009900"/>
              </a:solidFill>
              <a:ln w="93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198240" y="622152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producer</a:t>
                </a:r>
                <a:endParaRPr b="0" lang="en-US" sz="1600" spc="-1" strike="noStrike">
                  <a:solidFill>
                    <a:srgbClr val="ffffff"/>
                  </a:solidFill>
                  <a:latin typeface="Times New Roman"/>
                </a:endParaRPr>
              </a:p>
            </p:txBody>
          </p:sp>
        </p:grpSp>
        <p:sp>
          <p:nvSpPr>
            <p:cNvPr id="279" name=""/>
            <p:cNvSpPr/>
            <p:nvPr/>
          </p:nvSpPr>
          <p:spPr>
            <a:xfrm>
              <a:off x="5981760" y="5607000"/>
              <a:ext cx="552240" cy="144360"/>
            </a:xfrm>
            <a:prstGeom prst="rightArrow">
              <a:avLst>
                <a:gd name="adj1" fmla="val 50000"/>
                <a:gd name="adj2" fmla="val 95636"/>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80" name=""/>
            <p:cNvSpPr/>
            <p:nvPr/>
          </p:nvSpPr>
          <p:spPr>
            <a:xfrm>
              <a:off x="253368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281" name=""/>
            <p:cNvGrpSpPr/>
            <p:nvPr/>
          </p:nvGrpSpPr>
          <p:grpSpPr>
            <a:xfrm>
              <a:off x="4689360" y="5016600"/>
              <a:ext cx="1417320" cy="1542240"/>
              <a:chOff x="4689360" y="5016600"/>
              <a:chExt cx="1417320" cy="1542240"/>
            </a:xfrm>
          </p:grpSpPr>
          <p:sp>
            <p:nvSpPr>
              <p:cNvPr id="282" name=""/>
              <p:cNvSpPr/>
              <p:nvPr/>
            </p:nvSpPr>
            <p:spPr>
              <a:xfrm>
                <a:off x="4716360" y="62215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1</a:t>
                </a:r>
                <a:endParaRPr b="0" lang="en-US" sz="1600" spc="-1" strike="noStrike">
                  <a:solidFill>
                    <a:srgbClr val="ffffff"/>
                  </a:solidFill>
                  <a:latin typeface="Times New Roman"/>
                </a:endParaRPr>
              </a:p>
            </p:txBody>
          </p:sp>
          <p:grpSp>
            <p:nvGrpSpPr>
              <p:cNvPr id="283" name=""/>
              <p:cNvGrpSpPr/>
              <p:nvPr/>
            </p:nvGrpSpPr>
            <p:grpSpPr>
              <a:xfrm>
                <a:off x="4689360" y="5016600"/>
                <a:ext cx="1417320" cy="1239480"/>
                <a:chOff x="4689360" y="5016600"/>
                <a:chExt cx="1417320" cy="1239480"/>
              </a:xfrm>
            </p:grpSpPr>
            <p:grpSp>
              <p:nvGrpSpPr>
                <p:cNvPr id="284" name=""/>
                <p:cNvGrpSpPr/>
                <p:nvPr/>
              </p:nvGrpSpPr>
              <p:grpSpPr>
                <a:xfrm>
                  <a:off x="4689360" y="5016600"/>
                  <a:ext cx="1417320" cy="1239480"/>
                  <a:chOff x="4689360" y="5016600"/>
                  <a:chExt cx="1417320" cy="1239480"/>
                </a:xfrm>
              </p:grpSpPr>
              <p:sp>
                <p:nvSpPr>
                  <p:cNvPr id="285" name=""/>
                  <p:cNvSpPr/>
                  <p:nvPr/>
                </p:nvSpPr>
                <p:spPr>
                  <a:xfrm>
                    <a:off x="4689360" y="5016600"/>
                    <a:ext cx="986400" cy="1195200"/>
                  </a:xfrm>
                  <a:custGeom>
                    <a:avLst/>
                    <a:gdLst/>
                    <a:ahLst/>
                    <a:rect l="l" t="t" r="r" b="b"/>
                    <a:pathLst>
                      <a:path w="691" h="838">
                        <a:moveTo>
                          <a:pt x="318" y="177"/>
                        </a:moveTo>
                        <a:cubicBezTo>
                          <a:pt x="324" y="168"/>
                          <a:pt x="397" y="115"/>
                          <a:pt x="408" y="89"/>
                        </a:cubicBezTo>
                        <a:cubicBezTo>
                          <a:pt x="419" y="63"/>
                          <a:pt x="395" y="34"/>
                          <a:pt x="382" y="19"/>
                        </a:cubicBezTo>
                        <a:cubicBezTo>
                          <a:pt x="369" y="4"/>
                          <a:pt x="347" y="2"/>
                          <a:pt x="330" y="1"/>
                        </a:cubicBezTo>
                        <a:cubicBezTo>
                          <a:pt x="313" y="0"/>
                          <a:pt x="297" y="5"/>
                          <a:pt x="282" y="15"/>
                        </a:cubicBezTo>
                        <a:cubicBezTo>
                          <a:pt x="267" y="25"/>
                          <a:pt x="250" y="39"/>
                          <a:pt x="242" y="59"/>
                        </a:cubicBezTo>
                        <a:cubicBezTo>
                          <a:pt x="234" y="79"/>
                          <a:pt x="234" y="117"/>
                          <a:pt x="232" y="137"/>
                        </a:cubicBezTo>
                        <a:cubicBezTo>
                          <a:pt x="230" y="157"/>
                          <a:pt x="238" y="169"/>
                          <a:pt x="232" y="180"/>
                        </a:cubicBezTo>
                        <a:cubicBezTo>
                          <a:pt x="226" y="191"/>
                          <a:pt x="216" y="198"/>
                          <a:pt x="194" y="204"/>
                        </a:cubicBezTo>
                        <a:cubicBezTo>
                          <a:pt x="172" y="210"/>
                          <a:pt x="129" y="206"/>
                          <a:pt x="98" y="214"/>
                        </a:cubicBezTo>
                        <a:cubicBezTo>
                          <a:pt x="67" y="222"/>
                          <a:pt x="12" y="241"/>
                          <a:pt x="6" y="252"/>
                        </a:cubicBezTo>
                        <a:cubicBezTo>
                          <a:pt x="0" y="263"/>
                          <a:pt x="45" y="270"/>
                          <a:pt x="64" y="283"/>
                        </a:cubicBezTo>
                        <a:cubicBezTo>
                          <a:pt x="83" y="296"/>
                          <a:pt x="101" y="314"/>
                          <a:pt x="120" y="333"/>
                        </a:cubicBezTo>
                        <a:cubicBezTo>
                          <a:pt x="139" y="352"/>
                          <a:pt x="167" y="379"/>
                          <a:pt x="180" y="399"/>
                        </a:cubicBezTo>
                        <a:cubicBezTo>
                          <a:pt x="193" y="419"/>
                          <a:pt x="203" y="441"/>
                          <a:pt x="196" y="453"/>
                        </a:cubicBezTo>
                        <a:cubicBezTo>
                          <a:pt x="189" y="465"/>
                          <a:pt x="154" y="456"/>
                          <a:pt x="138" y="469"/>
                        </a:cubicBezTo>
                        <a:cubicBezTo>
                          <a:pt x="122" y="482"/>
                          <a:pt x="96" y="526"/>
                          <a:pt x="102" y="531"/>
                        </a:cubicBezTo>
                        <a:cubicBezTo>
                          <a:pt x="108" y="536"/>
                          <a:pt x="155" y="504"/>
                          <a:pt x="174" y="502"/>
                        </a:cubicBezTo>
                        <a:cubicBezTo>
                          <a:pt x="193" y="500"/>
                          <a:pt x="210" y="508"/>
                          <a:pt x="218" y="521"/>
                        </a:cubicBezTo>
                        <a:cubicBezTo>
                          <a:pt x="226" y="534"/>
                          <a:pt x="220" y="559"/>
                          <a:pt x="224" y="581"/>
                        </a:cubicBezTo>
                        <a:cubicBezTo>
                          <a:pt x="228" y="603"/>
                          <a:pt x="230" y="629"/>
                          <a:pt x="242" y="655"/>
                        </a:cubicBezTo>
                        <a:cubicBezTo>
                          <a:pt x="254" y="681"/>
                          <a:pt x="281" y="717"/>
                          <a:pt x="298" y="735"/>
                        </a:cubicBezTo>
                        <a:cubicBezTo>
                          <a:pt x="315" y="753"/>
                          <a:pt x="336" y="757"/>
                          <a:pt x="347" y="766"/>
                        </a:cubicBezTo>
                        <a:cubicBezTo>
                          <a:pt x="358" y="775"/>
                          <a:pt x="377" y="789"/>
                          <a:pt x="362" y="790"/>
                        </a:cubicBezTo>
                        <a:cubicBezTo>
                          <a:pt x="347" y="791"/>
                          <a:pt x="280" y="777"/>
                          <a:pt x="256" y="775"/>
                        </a:cubicBezTo>
                        <a:cubicBezTo>
                          <a:pt x="232" y="773"/>
                          <a:pt x="230" y="767"/>
                          <a:pt x="218" y="775"/>
                        </a:cubicBezTo>
                        <a:cubicBezTo>
                          <a:pt x="206" y="783"/>
                          <a:pt x="180" y="813"/>
                          <a:pt x="184" y="823"/>
                        </a:cubicBezTo>
                        <a:cubicBezTo>
                          <a:pt x="188" y="833"/>
                          <a:pt x="218" y="836"/>
                          <a:pt x="244" y="837"/>
                        </a:cubicBezTo>
                        <a:cubicBezTo>
                          <a:pt x="270" y="838"/>
                          <a:pt x="318" y="829"/>
                          <a:pt x="342" y="828"/>
                        </a:cubicBezTo>
                        <a:cubicBezTo>
                          <a:pt x="366" y="827"/>
                          <a:pt x="369" y="829"/>
                          <a:pt x="388" y="829"/>
                        </a:cubicBezTo>
                        <a:cubicBezTo>
                          <a:pt x="407" y="829"/>
                          <a:pt x="435" y="832"/>
                          <a:pt x="456" y="831"/>
                        </a:cubicBezTo>
                        <a:cubicBezTo>
                          <a:pt x="477" y="830"/>
                          <a:pt x="493" y="828"/>
                          <a:pt x="512" y="823"/>
                        </a:cubicBezTo>
                        <a:cubicBezTo>
                          <a:pt x="531" y="818"/>
                          <a:pt x="546" y="814"/>
                          <a:pt x="568" y="799"/>
                        </a:cubicBezTo>
                        <a:cubicBezTo>
                          <a:pt x="590" y="784"/>
                          <a:pt x="625" y="762"/>
                          <a:pt x="645" y="732"/>
                        </a:cubicBezTo>
                        <a:cubicBezTo>
                          <a:pt x="665" y="702"/>
                          <a:pt x="691" y="661"/>
                          <a:pt x="688" y="617"/>
                        </a:cubicBezTo>
                        <a:cubicBezTo>
                          <a:pt x="685" y="573"/>
                          <a:pt x="646" y="505"/>
                          <a:pt x="628" y="467"/>
                        </a:cubicBezTo>
                        <a:cubicBezTo>
                          <a:pt x="610" y="429"/>
                          <a:pt x="598" y="411"/>
                          <a:pt x="578" y="389"/>
                        </a:cubicBezTo>
                        <a:cubicBezTo>
                          <a:pt x="558" y="367"/>
                          <a:pt x="531" y="354"/>
                          <a:pt x="506" y="335"/>
                        </a:cubicBezTo>
                        <a:cubicBezTo>
                          <a:pt x="481" y="316"/>
                          <a:pt x="455" y="290"/>
                          <a:pt x="428" y="273"/>
                        </a:cubicBezTo>
                        <a:cubicBezTo>
                          <a:pt x="401" y="256"/>
                          <a:pt x="349" y="237"/>
                          <a:pt x="346" y="235"/>
                        </a:cubicBezTo>
                        <a:cubicBezTo>
                          <a:pt x="343" y="233"/>
                          <a:pt x="386" y="256"/>
                          <a:pt x="410" y="259"/>
                        </a:cubicBezTo>
                        <a:cubicBezTo>
                          <a:pt x="434" y="262"/>
                          <a:pt x="467" y="256"/>
                          <a:pt x="488" y="251"/>
                        </a:cubicBezTo>
                        <a:cubicBezTo>
                          <a:pt x="509" y="246"/>
                          <a:pt x="522" y="238"/>
                          <a:pt x="534" y="227"/>
                        </a:cubicBezTo>
                        <a:cubicBezTo>
                          <a:pt x="546" y="216"/>
                          <a:pt x="557" y="200"/>
                          <a:pt x="562" y="187"/>
                        </a:cubicBezTo>
                        <a:cubicBezTo>
                          <a:pt x="567" y="174"/>
                          <a:pt x="564" y="162"/>
                          <a:pt x="562" y="149"/>
                        </a:cubicBezTo>
                        <a:cubicBezTo>
                          <a:pt x="560" y="136"/>
                          <a:pt x="557" y="123"/>
                          <a:pt x="550" y="111"/>
                        </a:cubicBezTo>
                        <a:cubicBezTo>
                          <a:pt x="543" y="99"/>
                          <a:pt x="533" y="83"/>
                          <a:pt x="518" y="75"/>
                        </a:cubicBezTo>
                        <a:cubicBezTo>
                          <a:pt x="503" y="67"/>
                          <a:pt x="479" y="59"/>
                          <a:pt x="462" y="61"/>
                        </a:cubicBezTo>
                        <a:cubicBezTo>
                          <a:pt x="445" y="63"/>
                          <a:pt x="429" y="75"/>
                          <a:pt x="414" y="89"/>
                        </a:cubicBezTo>
                        <a:cubicBezTo>
                          <a:pt x="399" y="103"/>
                          <a:pt x="387" y="127"/>
                          <a:pt x="371" y="142"/>
                        </a:cubicBezTo>
                        <a:cubicBezTo>
                          <a:pt x="355" y="157"/>
                          <a:pt x="322" y="182"/>
                          <a:pt x="318" y="177"/>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5321880" y="5211720"/>
                    <a:ext cx="784800" cy="1044360"/>
                  </a:xfrm>
                  <a:custGeom>
                    <a:avLst/>
                    <a:gdLst/>
                    <a:ahLst/>
                    <a:rect l="l" t="t" r="r" b="b"/>
                    <a:pathLst>
                      <a:path w="550" h="732">
                        <a:moveTo>
                          <a:pt x="82" y="684"/>
                        </a:moveTo>
                        <a:cubicBezTo>
                          <a:pt x="105" y="681"/>
                          <a:pt x="121" y="690"/>
                          <a:pt x="149" y="684"/>
                        </a:cubicBezTo>
                        <a:cubicBezTo>
                          <a:pt x="177" y="678"/>
                          <a:pt x="221" y="666"/>
                          <a:pt x="250" y="648"/>
                        </a:cubicBezTo>
                        <a:cubicBezTo>
                          <a:pt x="279" y="630"/>
                          <a:pt x="307" y="604"/>
                          <a:pt x="322" y="578"/>
                        </a:cubicBezTo>
                        <a:cubicBezTo>
                          <a:pt x="337" y="552"/>
                          <a:pt x="339" y="529"/>
                          <a:pt x="341" y="494"/>
                        </a:cubicBezTo>
                        <a:cubicBezTo>
                          <a:pt x="343" y="459"/>
                          <a:pt x="335" y="404"/>
                          <a:pt x="331" y="370"/>
                        </a:cubicBezTo>
                        <a:cubicBezTo>
                          <a:pt x="327" y="336"/>
                          <a:pt x="324" y="320"/>
                          <a:pt x="319" y="290"/>
                        </a:cubicBezTo>
                        <a:cubicBezTo>
                          <a:pt x="314" y="260"/>
                          <a:pt x="297" y="225"/>
                          <a:pt x="303" y="190"/>
                        </a:cubicBezTo>
                        <a:cubicBezTo>
                          <a:pt x="309" y="155"/>
                          <a:pt x="335" y="110"/>
                          <a:pt x="357" y="82"/>
                        </a:cubicBezTo>
                        <a:cubicBezTo>
                          <a:pt x="379" y="54"/>
                          <a:pt x="405" y="35"/>
                          <a:pt x="437" y="22"/>
                        </a:cubicBezTo>
                        <a:cubicBezTo>
                          <a:pt x="469" y="9"/>
                          <a:pt x="550" y="0"/>
                          <a:pt x="550" y="2"/>
                        </a:cubicBezTo>
                        <a:cubicBezTo>
                          <a:pt x="550" y="4"/>
                          <a:pt x="469" y="14"/>
                          <a:pt x="437" y="34"/>
                        </a:cubicBezTo>
                        <a:cubicBezTo>
                          <a:pt x="405" y="54"/>
                          <a:pt x="372" y="90"/>
                          <a:pt x="357" y="122"/>
                        </a:cubicBezTo>
                        <a:cubicBezTo>
                          <a:pt x="342" y="154"/>
                          <a:pt x="343" y="190"/>
                          <a:pt x="346" y="228"/>
                        </a:cubicBezTo>
                        <a:cubicBezTo>
                          <a:pt x="349" y="266"/>
                          <a:pt x="371" y="306"/>
                          <a:pt x="377" y="350"/>
                        </a:cubicBezTo>
                        <a:cubicBezTo>
                          <a:pt x="383" y="394"/>
                          <a:pt x="392" y="443"/>
                          <a:pt x="385" y="490"/>
                        </a:cubicBezTo>
                        <a:cubicBezTo>
                          <a:pt x="378" y="537"/>
                          <a:pt x="357" y="594"/>
                          <a:pt x="334" y="631"/>
                        </a:cubicBezTo>
                        <a:cubicBezTo>
                          <a:pt x="311" y="668"/>
                          <a:pt x="281" y="693"/>
                          <a:pt x="247" y="710"/>
                        </a:cubicBezTo>
                        <a:cubicBezTo>
                          <a:pt x="213" y="727"/>
                          <a:pt x="164" y="732"/>
                          <a:pt x="129" y="732"/>
                        </a:cubicBezTo>
                        <a:cubicBezTo>
                          <a:pt x="94" y="732"/>
                          <a:pt x="54" y="718"/>
                          <a:pt x="34" y="713"/>
                        </a:cubicBezTo>
                        <a:cubicBezTo>
                          <a:pt x="14" y="708"/>
                          <a:pt x="0" y="706"/>
                          <a:pt x="10" y="701"/>
                        </a:cubicBezTo>
                        <a:cubicBezTo>
                          <a:pt x="20" y="696"/>
                          <a:pt x="59" y="687"/>
                          <a:pt x="82" y="684"/>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flipV="1">
                    <a:off x="4743720" y="5259960"/>
                    <a:ext cx="11160" cy="85320"/>
                  </a:xfrm>
                  <a:prstGeom prst="line">
                    <a:avLst/>
                  </a:prstGeom>
                  <a:ln w="1260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88" name=""/>
                  <p:cNvSpPr/>
                  <p:nvPr/>
                </p:nvSpPr>
                <p:spPr>
                  <a:xfrm flipV="1">
                    <a:off x="4749120" y="5194440"/>
                    <a:ext cx="105840" cy="156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flipH="1">
                    <a:off x="4734720" y="5405760"/>
                    <a:ext cx="5760" cy="85680"/>
                  </a:xfrm>
                  <a:prstGeom prst="line">
                    <a:avLst/>
                  </a:prstGeom>
                  <a:ln w="1260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0" name=""/>
                  <p:cNvSpPr/>
                  <p:nvPr/>
                </p:nvSpPr>
                <p:spPr>
                  <a:xfrm>
                    <a:off x="4754880" y="5408640"/>
                    <a:ext cx="73800" cy="125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1" name=""/>
                <p:cNvSpPr/>
                <p:nvPr/>
              </p:nvSpPr>
              <p:spPr>
                <a:xfrm>
                  <a:off x="4951440" y="5354640"/>
                  <a:ext cx="57240" cy="63360"/>
                </a:xfrm>
                <a:prstGeom prst="ellipse">
                  <a:avLst/>
                </a:prstGeom>
                <a:solidFill>
                  <a:srgbClr val="5f5f5f"/>
                </a:solidFill>
                <a:ln w="9360">
                  <a:solidFill>
                    <a:srgbClr val="5f5f5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nvGrpSpPr>
            <p:cNvPr id="292" name=""/>
            <p:cNvGrpSpPr/>
            <p:nvPr/>
          </p:nvGrpSpPr>
          <p:grpSpPr>
            <a:xfrm>
              <a:off x="6653160" y="5079960"/>
              <a:ext cx="1533600" cy="1478880"/>
              <a:chOff x="6653160" y="5079960"/>
              <a:chExt cx="1533600" cy="1478880"/>
            </a:xfrm>
          </p:grpSpPr>
          <p:sp>
            <p:nvSpPr>
              <p:cNvPr id="293" name=""/>
              <p:cNvSpPr/>
              <p:nvPr/>
            </p:nvSpPr>
            <p:spPr>
              <a:xfrm>
                <a:off x="6715080" y="62215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2</a:t>
                </a:r>
                <a:endParaRPr b="0" lang="en-US" sz="1600" spc="-1" strike="noStrike">
                  <a:solidFill>
                    <a:srgbClr val="ffffff"/>
                  </a:solidFill>
                  <a:latin typeface="Times New Roman"/>
                </a:endParaRPr>
              </a:p>
            </p:txBody>
          </p:sp>
          <p:grpSp>
            <p:nvGrpSpPr>
              <p:cNvPr id="294" name=""/>
              <p:cNvGrpSpPr/>
              <p:nvPr/>
            </p:nvGrpSpPr>
            <p:grpSpPr>
              <a:xfrm>
                <a:off x="6653160" y="5079960"/>
                <a:ext cx="1533600" cy="1206360"/>
                <a:chOff x="6653160" y="5079960"/>
                <a:chExt cx="1533600" cy="1206360"/>
              </a:xfrm>
            </p:grpSpPr>
            <p:grpSp>
              <p:nvGrpSpPr>
                <p:cNvPr id="295" name=""/>
                <p:cNvGrpSpPr/>
                <p:nvPr/>
              </p:nvGrpSpPr>
              <p:grpSpPr>
                <a:xfrm>
                  <a:off x="6653160" y="5079960"/>
                  <a:ext cx="1533600" cy="1206360"/>
                  <a:chOff x="6653160" y="5079960"/>
                  <a:chExt cx="1533600" cy="1206360"/>
                </a:xfrm>
              </p:grpSpPr>
              <p:sp>
                <p:nvSpPr>
                  <p:cNvPr id="296" name=""/>
                  <p:cNvSpPr/>
                  <p:nvPr/>
                </p:nvSpPr>
                <p:spPr>
                  <a:xfrm>
                    <a:off x="6653160" y="5079960"/>
                    <a:ext cx="1533600" cy="1206360"/>
                  </a:xfrm>
                  <a:custGeom>
                    <a:avLst/>
                    <a:gdLst/>
                    <a:ahLst/>
                    <a:rect l="l" t="t" r="r" b="b"/>
                    <a:pathLst>
                      <a:path w="966" h="760">
                        <a:moveTo>
                          <a:pt x="671" y="248"/>
                        </a:moveTo>
                        <a:cubicBezTo>
                          <a:pt x="657" y="250"/>
                          <a:pt x="605" y="277"/>
                          <a:pt x="576" y="293"/>
                        </a:cubicBezTo>
                        <a:cubicBezTo>
                          <a:pt x="547" y="309"/>
                          <a:pt x="518" y="328"/>
                          <a:pt x="498" y="346"/>
                        </a:cubicBezTo>
                        <a:cubicBezTo>
                          <a:pt x="478" y="364"/>
                          <a:pt x="466" y="378"/>
                          <a:pt x="456" y="403"/>
                        </a:cubicBezTo>
                        <a:cubicBezTo>
                          <a:pt x="446" y="428"/>
                          <a:pt x="436" y="463"/>
                          <a:pt x="435" y="499"/>
                        </a:cubicBezTo>
                        <a:cubicBezTo>
                          <a:pt x="434" y="535"/>
                          <a:pt x="436" y="585"/>
                          <a:pt x="450" y="620"/>
                        </a:cubicBezTo>
                        <a:cubicBezTo>
                          <a:pt x="464" y="655"/>
                          <a:pt x="484" y="687"/>
                          <a:pt x="519" y="709"/>
                        </a:cubicBezTo>
                        <a:cubicBezTo>
                          <a:pt x="554" y="731"/>
                          <a:pt x="616" y="748"/>
                          <a:pt x="660" y="754"/>
                        </a:cubicBezTo>
                        <a:cubicBezTo>
                          <a:pt x="704" y="760"/>
                          <a:pt x="751" y="754"/>
                          <a:pt x="785" y="743"/>
                        </a:cubicBezTo>
                        <a:cubicBezTo>
                          <a:pt x="819" y="732"/>
                          <a:pt x="846" y="705"/>
                          <a:pt x="867" y="686"/>
                        </a:cubicBezTo>
                        <a:cubicBezTo>
                          <a:pt x="888" y="667"/>
                          <a:pt x="896" y="658"/>
                          <a:pt x="908" y="632"/>
                        </a:cubicBezTo>
                        <a:cubicBezTo>
                          <a:pt x="920" y="606"/>
                          <a:pt x="933" y="567"/>
                          <a:pt x="941" y="532"/>
                        </a:cubicBezTo>
                        <a:cubicBezTo>
                          <a:pt x="949" y="497"/>
                          <a:pt x="953" y="457"/>
                          <a:pt x="957" y="424"/>
                        </a:cubicBezTo>
                        <a:cubicBezTo>
                          <a:pt x="961" y="391"/>
                          <a:pt x="966" y="364"/>
                          <a:pt x="965" y="332"/>
                        </a:cubicBezTo>
                        <a:cubicBezTo>
                          <a:pt x="964" y="300"/>
                          <a:pt x="963" y="267"/>
                          <a:pt x="951" y="230"/>
                        </a:cubicBezTo>
                        <a:cubicBezTo>
                          <a:pt x="939" y="193"/>
                          <a:pt x="913" y="139"/>
                          <a:pt x="891" y="110"/>
                        </a:cubicBezTo>
                        <a:cubicBezTo>
                          <a:pt x="869" y="81"/>
                          <a:pt x="847" y="69"/>
                          <a:pt x="818" y="53"/>
                        </a:cubicBezTo>
                        <a:cubicBezTo>
                          <a:pt x="789" y="37"/>
                          <a:pt x="759" y="24"/>
                          <a:pt x="719" y="16"/>
                        </a:cubicBezTo>
                        <a:cubicBezTo>
                          <a:pt x="679" y="8"/>
                          <a:pt x="619" y="0"/>
                          <a:pt x="576" y="2"/>
                        </a:cubicBezTo>
                        <a:cubicBezTo>
                          <a:pt x="533" y="4"/>
                          <a:pt x="491" y="16"/>
                          <a:pt x="459" y="28"/>
                        </a:cubicBezTo>
                        <a:cubicBezTo>
                          <a:pt x="427" y="40"/>
                          <a:pt x="405" y="55"/>
                          <a:pt x="384" y="73"/>
                        </a:cubicBezTo>
                        <a:cubicBezTo>
                          <a:pt x="363" y="91"/>
                          <a:pt x="346" y="105"/>
                          <a:pt x="330" y="134"/>
                        </a:cubicBezTo>
                        <a:cubicBezTo>
                          <a:pt x="314" y="163"/>
                          <a:pt x="301" y="207"/>
                          <a:pt x="291" y="248"/>
                        </a:cubicBezTo>
                        <a:cubicBezTo>
                          <a:pt x="281" y="289"/>
                          <a:pt x="278" y="350"/>
                          <a:pt x="269" y="383"/>
                        </a:cubicBezTo>
                        <a:cubicBezTo>
                          <a:pt x="260" y="416"/>
                          <a:pt x="255" y="433"/>
                          <a:pt x="240" y="446"/>
                        </a:cubicBezTo>
                        <a:cubicBezTo>
                          <a:pt x="225" y="459"/>
                          <a:pt x="202" y="469"/>
                          <a:pt x="182" y="463"/>
                        </a:cubicBezTo>
                        <a:cubicBezTo>
                          <a:pt x="162" y="457"/>
                          <a:pt x="119" y="431"/>
                          <a:pt x="119" y="407"/>
                        </a:cubicBezTo>
                        <a:cubicBezTo>
                          <a:pt x="119" y="383"/>
                          <a:pt x="162" y="341"/>
                          <a:pt x="182" y="320"/>
                        </a:cubicBezTo>
                        <a:cubicBezTo>
                          <a:pt x="202" y="299"/>
                          <a:pt x="224" y="292"/>
                          <a:pt x="236" y="280"/>
                        </a:cubicBezTo>
                        <a:cubicBezTo>
                          <a:pt x="248" y="268"/>
                          <a:pt x="254" y="257"/>
                          <a:pt x="255" y="245"/>
                        </a:cubicBezTo>
                        <a:cubicBezTo>
                          <a:pt x="256" y="233"/>
                          <a:pt x="252" y="215"/>
                          <a:pt x="245" y="205"/>
                        </a:cubicBezTo>
                        <a:cubicBezTo>
                          <a:pt x="238" y="195"/>
                          <a:pt x="217" y="196"/>
                          <a:pt x="210" y="185"/>
                        </a:cubicBezTo>
                        <a:cubicBezTo>
                          <a:pt x="203" y="174"/>
                          <a:pt x="218" y="148"/>
                          <a:pt x="203" y="137"/>
                        </a:cubicBezTo>
                        <a:cubicBezTo>
                          <a:pt x="188" y="126"/>
                          <a:pt x="146" y="115"/>
                          <a:pt x="120" y="116"/>
                        </a:cubicBezTo>
                        <a:cubicBezTo>
                          <a:pt x="94" y="117"/>
                          <a:pt x="67" y="133"/>
                          <a:pt x="48" y="143"/>
                        </a:cubicBezTo>
                        <a:cubicBezTo>
                          <a:pt x="29" y="153"/>
                          <a:pt x="0" y="164"/>
                          <a:pt x="3" y="179"/>
                        </a:cubicBezTo>
                        <a:cubicBezTo>
                          <a:pt x="6" y="194"/>
                          <a:pt x="44" y="224"/>
                          <a:pt x="66" y="233"/>
                        </a:cubicBezTo>
                        <a:cubicBezTo>
                          <a:pt x="88" y="242"/>
                          <a:pt x="120" y="232"/>
                          <a:pt x="135" y="233"/>
                        </a:cubicBezTo>
                        <a:cubicBezTo>
                          <a:pt x="150" y="234"/>
                          <a:pt x="171" y="225"/>
                          <a:pt x="156" y="239"/>
                        </a:cubicBezTo>
                        <a:cubicBezTo>
                          <a:pt x="141" y="253"/>
                          <a:pt x="69" y="294"/>
                          <a:pt x="45" y="317"/>
                        </a:cubicBezTo>
                        <a:cubicBezTo>
                          <a:pt x="21" y="340"/>
                          <a:pt x="15" y="356"/>
                          <a:pt x="9" y="379"/>
                        </a:cubicBezTo>
                        <a:cubicBezTo>
                          <a:pt x="3" y="402"/>
                          <a:pt x="4" y="427"/>
                          <a:pt x="12" y="455"/>
                        </a:cubicBezTo>
                        <a:cubicBezTo>
                          <a:pt x="20" y="483"/>
                          <a:pt x="29" y="522"/>
                          <a:pt x="60" y="545"/>
                        </a:cubicBezTo>
                        <a:cubicBezTo>
                          <a:pt x="91" y="568"/>
                          <a:pt x="151" y="596"/>
                          <a:pt x="195" y="596"/>
                        </a:cubicBezTo>
                        <a:cubicBezTo>
                          <a:pt x="239" y="596"/>
                          <a:pt x="297" y="569"/>
                          <a:pt x="327" y="548"/>
                        </a:cubicBezTo>
                        <a:cubicBezTo>
                          <a:pt x="357" y="527"/>
                          <a:pt x="367" y="498"/>
                          <a:pt x="378" y="470"/>
                        </a:cubicBezTo>
                        <a:cubicBezTo>
                          <a:pt x="389" y="442"/>
                          <a:pt x="392" y="413"/>
                          <a:pt x="396" y="383"/>
                        </a:cubicBezTo>
                        <a:cubicBezTo>
                          <a:pt x="400" y="353"/>
                          <a:pt x="394" y="318"/>
                          <a:pt x="401" y="287"/>
                        </a:cubicBezTo>
                        <a:cubicBezTo>
                          <a:pt x="408" y="256"/>
                          <a:pt x="409" y="222"/>
                          <a:pt x="437" y="199"/>
                        </a:cubicBezTo>
                        <a:cubicBezTo>
                          <a:pt x="465" y="176"/>
                          <a:pt x="519" y="157"/>
                          <a:pt x="566" y="151"/>
                        </a:cubicBezTo>
                        <a:cubicBezTo>
                          <a:pt x="613" y="145"/>
                          <a:pt x="672" y="148"/>
                          <a:pt x="717" y="163"/>
                        </a:cubicBezTo>
                        <a:cubicBezTo>
                          <a:pt x="762" y="178"/>
                          <a:pt x="812" y="208"/>
                          <a:pt x="834" y="242"/>
                        </a:cubicBezTo>
                        <a:cubicBezTo>
                          <a:pt x="856" y="276"/>
                          <a:pt x="850" y="337"/>
                          <a:pt x="852" y="370"/>
                        </a:cubicBezTo>
                        <a:cubicBezTo>
                          <a:pt x="854" y="403"/>
                          <a:pt x="849" y="416"/>
                          <a:pt x="846" y="440"/>
                        </a:cubicBezTo>
                        <a:cubicBezTo>
                          <a:pt x="843" y="464"/>
                          <a:pt x="837" y="492"/>
                          <a:pt x="831" y="514"/>
                        </a:cubicBezTo>
                        <a:cubicBezTo>
                          <a:pt x="825" y="536"/>
                          <a:pt x="818" y="554"/>
                          <a:pt x="810" y="572"/>
                        </a:cubicBezTo>
                        <a:cubicBezTo>
                          <a:pt x="802" y="590"/>
                          <a:pt x="795" y="610"/>
                          <a:pt x="780" y="625"/>
                        </a:cubicBezTo>
                        <a:cubicBezTo>
                          <a:pt x="765" y="640"/>
                          <a:pt x="744" y="659"/>
                          <a:pt x="717" y="665"/>
                        </a:cubicBezTo>
                        <a:cubicBezTo>
                          <a:pt x="690" y="671"/>
                          <a:pt x="645" y="668"/>
                          <a:pt x="618" y="659"/>
                        </a:cubicBezTo>
                        <a:cubicBezTo>
                          <a:pt x="591" y="650"/>
                          <a:pt x="568" y="633"/>
                          <a:pt x="552" y="611"/>
                        </a:cubicBezTo>
                        <a:cubicBezTo>
                          <a:pt x="536" y="589"/>
                          <a:pt x="524" y="560"/>
                          <a:pt x="522" y="527"/>
                        </a:cubicBezTo>
                        <a:cubicBezTo>
                          <a:pt x="520" y="494"/>
                          <a:pt x="526" y="444"/>
                          <a:pt x="537" y="410"/>
                        </a:cubicBezTo>
                        <a:cubicBezTo>
                          <a:pt x="548" y="376"/>
                          <a:pt x="567" y="350"/>
                          <a:pt x="587" y="325"/>
                        </a:cubicBezTo>
                        <a:cubicBezTo>
                          <a:pt x="607" y="300"/>
                          <a:pt x="640" y="276"/>
                          <a:pt x="654" y="263"/>
                        </a:cubicBezTo>
                        <a:cubicBezTo>
                          <a:pt x="668" y="250"/>
                          <a:pt x="667" y="251"/>
                          <a:pt x="671" y="248"/>
                        </a:cubicBez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7" name=""/>
                  <p:cNvGrpSpPr/>
                  <p:nvPr/>
                </p:nvGrpSpPr>
                <p:grpSpPr>
                  <a:xfrm>
                    <a:off x="7482960" y="5410800"/>
                    <a:ext cx="297360" cy="257040"/>
                    <a:chOff x="7482960" y="5410800"/>
                    <a:chExt cx="297360" cy="257040"/>
                  </a:xfrm>
                </p:grpSpPr>
                <p:sp>
                  <p:nvSpPr>
                    <p:cNvPr id="298" name=""/>
                    <p:cNvSpPr/>
                    <p:nvPr/>
                  </p:nvSpPr>
                  <p:spPr>
                    <a:xfrm flipH="1" rot="19132200">
                      <a:off x="7509240" y="5536080"/>
                      <a:ext cx="91440" cy="11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299" name=""/>
                    <p:cNvSpPr/>
                    <p:nvPr/>
                  </p:nvSpPr>
                  <p:spPr>
                    <a:xfrm flipH="1" rot="19132200">
                      <a:off x="7569000" y="5502240"/>
                      <a:ext cx="79200" cy="9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Times New Roman"/>
                      </a:endParaRPr>
                    </a:p>
                  </p:txBody>
                </p:sp>
                <p:sp>
                  <p:nvSpPr>
                    <p:cNvPr id="300" name=""/>
                    <p:cNvSpPr/>
                    <p:nvPr/>
                  </p:nvSpPr>
                  <p:spPr>
                    <a:xfrm flipH="1" rot="19132200">
                      <a:off x="7622280" y="5469120"/>
                      <a:ext cx="702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01" name=""/>
                    <p:cNvSpPr/>
                    <p:nvPr/>
                  </p:nvSpPr>
                  <p:spPr>
                    <a:xfrm flipH="1" rot="19132200">
                      <a:off x="7674120" y="5439600"/>
                      <a:ext cx="5796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302" name=""/>
                    <p:cNvSpPr/>
                    <p:nvPr/>
                  </p:nvSpPr>
                  <p:spPr>
                    <a:xfrm flipH="1" rot="19132200">
                      <a:off x="7716600" y="5417280"/>
                      <a:ext cx="46080" cy="6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grpSp>
            </p:grpSp>
            <p:sp>
              <p:nvSpPr>
                <p:cNvPr id="303" name=""/>
                <p:cNvSpPr/>
                <p:nvPr/>
              </p:nvSpPr>
              <p:spPr>
                <a:xfrm>
                  <a:off x="6804000" y="5324400"/>
                  <a:ext cx="36720" cy="63360"/>
                </a:xfrm>
                <a:prstGeom prst="ellipse">
                  <a:avLst/>
                </a:prstGeom>
                <a:solidFill>
                  <a:srgbClr val="ffff66"/>
                </a:solidFill>
                <a:ln w="9360">
                  <a:solidFill>
                    <a:srgbClr val="ffff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68">
                                            <p:txEl>
                                              <p:pRg st="1" end="1"/>
                                            </p:txEl>
                                          </p:spTgt>
                                        </p:tgtEl>
                                        <p:attrNameLst>
                                          <p:attrName>style.visibility</p:attrName>
                                        </p:attrNameLst>
                                      </p:cBhvr>
                                      <p:to>
                                        <p:strVal val="visible"/>
                                      </p:to>
                                    </p:set>
                                    <p:animEffect filter="dissolve" transition="in">
                                      <p:cBhvr additive="repl">
                                        <p:cTn id="7" dur="500"/>
                                        <p:tgtEl>
                                          <p:spTgt spid="268">
                                            <p:txEl>
                                              <p:pRg st="1" end="1"/>
                                            </p:txEl>
                                          </p:spTgt>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269"/>
                                        </p:tgtEl>
                                        <p:attrNameLst>
                                          <p:attrName>style.visibility</p:attrName>
                                        </p:attrNameLst>
                                      </p:cBhvr>
                                      <p:to>
                                        <p:strVal val="visible"/>
                                      </p:to>
                                    </p:set>
                                    <p:animEffect filter="dissolve" transition="in">
                                      <p:cBhvr additive="repl">
                                        <p:cTn id="11" dur="500"/>
                                        <p:tgtEl>
                                          <p:spTgt spid="269"/>
                                        </p:tgtEl>
                                      </p:cBhvr>
                                    </p:animEffect>
                                  </p:childTnLst>
                                </p:cTn>
                              </p:par>
                            </p:childTnLst>
                          </p:cTn>
                        </p:par>
                        <p:par>
                          <p:cTn id="12" fill="hold">
                            <p:stCondLst>
                              <p:cond delay="2000"/>
                            </p:stCondLst>
                            <p:childTnLst>
                              <p:par>
                                <p:cTn id="13" nodeType="afterEffect" fill="hold" presetClass="entr" presetID="9">
                                  <p:stCondLst>
                                    <p:cond delay="1000"/>
                                  </p:stCondLst>
                                  <p:childTnLst>
                                    <p:set>
                                      <p:cBhvr>
                                        <p:cTn id="14" dur="1" fill="hold">
                                          <p:stCondLst>
                                            <p:cond delay="0"/>
                                          </p:stCondLst>
                                        </p:cTn>
                                        <p:tgtEl>
                                          <p:spTgt spid="271"/>
                                        </p:tgtEl>
                                        <p:attrNameLst>
                                          <p:attrName>style.visibility</p:attrName>
                                        </p:attrNameLst>
                                      </p:cBhvr>
                                      <p:to>
                                        <p:strVal val="visible"/>
                                      </p:to>
                                    </p:set>
                                    <p:animEffect filter="dissolve" transition="in">
                                      <p:cBhvr additive="repl">
                                        <p:cTn id="15" dur="500"/>
                                        <p:tgtEl>
                                          <p:spTgt spid="271"/>
                                        </p:tgtEl>
                                      </p:cBhvr>
                                    </p:animEffect>
                                  </p:childTnLst>
                                </p:cTn>
                              </p:par>
                            </p:childTnLst>
                          </p:cTn>
                        </p:par>
                        <p:par>
                          <p:cTn id="16" fill="hold">
                            <p:stCondLst>
                              <p:cond delay="3500"/>
                            </p:stCondLst>
                            <p:childTnLst>
                              <p:par>
                                <p:cTn id="17" nodeType="afterEffect" fill="hold" presetClass="entr" presetID="9">
                                  <p:stCondLst>
                                    <p:cond delay="1000"/>
                                  </p:stCondLst>
                                  <p:childTnLst>
                                    <p:set>
                                      <p:cBhvr>
                                        <p:cTn id="18" dur="1" fill="hold">
                                          <p:stCondLst>
                                            <p:cond delay="0"/>
                                          </p:stCondLst>
                                        </p:cTn>
                                        <p:tgtEl>
                                          <p:spTgt spid="270"/>
                                        </p:tgtEl>
                                        <p:attrNameLst>
                                          <p:attrName>style.visibility</p:attrName>
                                        </p:attrNameLst>
                                      </p:cBhvr>
                                      <p:to>
                                        <p:strVal val="visible"/>
                                      </p:to>
                                    </p:set>
                                    <p:animEffect filter="dissolve" transition="in">
                                      <p:cBhvr additive="repl">
                                        <p:cTn id="1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33120" y="374760"/>
            <a:ext cx="627372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Black"/>
              </a:rPr>
              <a:t>CARNIVORES</a:t>
            </a:r>
            <a:endParaRPr b="0" lang="en-US" sz="5400" spc="-1" strike="noStrike">
              <a:solidFill>
                <a:srgbClr val="003300"/>
              </a:solidFill>
              <a:latin typeface="Arial Black"/>
            </a:endParaRPr>
          </a:p>
        </p:txBody>
      </p:sp>
      <p:sp>
        <p:nvSpPr>
          <p:cNvPr id="305" name="PlaceHolder 2"/>
          <p:cNvSpPr>
            <a:spLocks noGrp="1"/>
          </p:cNvSpPr>
          <p:nvPr>
            <p:ph/>
          </p:nvPr>
        </p:nvSpPr>
        <p:spPr>
          <a:xfrm>
            <a:off x="1300320" y="1790640"/>
            <a:ext cx="7340400" cy="120024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What are carnivores?</a:t>
            </a:r>
            <a:endParaRPr b="0" lang="en-US" sz="4000" spc="-1" strike="noStrike">
              <a:solidFill>
                <a:srgbClr val="663300"/>
              </a:solidFill>
              <a:latin typeface="Arial"/>
            </a:endParaRPr>
          </a:p>
        </p:txBody>
      </p:sp>
      <p:sp>
        <p:nvSpPr>
          <p:cNvPr id="306" name="PlaceHolder 3"/>
          <p:cNvSpPr>
            <a:spLocks noGrp="1"/>
          </p:cNvSpPr>
          <p:nvPr>
            <p:ph/>
          </p:nvPr>
        </p:nvSpPr>
        <p:spPr>
          <a:xfrm>
            <a:off x="1181160" y="2779560"/>
            <a:ext cx="7696080" cy="14083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Ex. tigers, wolves, snakes, hawks</a:t>
            </a:r>
            <a:endParaRPr b="0" lang="en-US" sz="4000" spc="-1" strike="noStrike">
              <a:solidFill>
                <a:srgbClr val="663300"/>
              </a:solidFill>
              <a:latin typeface="Arial"/>
            </a:endParaRPr>
          </a:p>
        </p:txBody>
      </p:sp>
      <p:grpSp>
        <p:nvGrpSpPr>
          <p:cNvPr id="307" name=""/>
          <p:cNvGrpSpPr/>
          <p:nvPr/>
        </p:nvGrpSpPr>
        <p:grpSpPr>
          <a:xfrm>
            <a:off x="6416280" y="59040"/>
            <a:ext cx="2684520" cy="2481480"/>
            <a:chOff x="6416280" y="59040"/>
            <a:chExt cx="2684520" cy="2481480"/>
          </a:xfrm>
        </p:grpSpPr>
        <p:grpSp>
          <p:nvGrpSpPr>
            <p:cNvPr id="308" name=""/>
            <p:cNvGrpSpPr/>
            <p:nvPr/>
          </p:nvGrpSpPr>
          <p:grpSpPr>
            <a:xfrm>
              <a:off x="6416280" y="59040"/>
              <a:ext cx="2684520" cy="2481480"/>
              <a:chOff x="6416280" y="59040"/>
              <a:chExt cx="2684520" cy="2481480"/>
            </a:xfrm>
          </p:grpSpPr>
          <p:sp>
            <p:nvSpPr>
              <p:cNvPr id="309" name=""/>
              <p:cNvSpPr/>
              <p:nvPr/>
            </p:nvSpPr>
            <p:spPr>
              <a:xfrm rot="19789200">
                <a:off x="6673320" y="495360"/>
                <a:ext cx="2169720" cy="1608840"/>
              </a:xfrm>
              <a:custGeom>
                <a:avLst/>
                <a:gdLst/>
                <a:ahLst/>
                <a:rect l="l" t="t" r="r" b="b"/>
                <a:pathLst>
                  <a:path w="966" h="760">
                    <a:moveTo>
                      <a:pt x="671" y="248"/>
                    </a:moveTo>
                    <a:cubicBezTo>
                      <a:pt x="657" y="250"/>
                      <a:pt x="605" y="277"/>
                      <a:pt x="576" y="293"/>
                    </a:cubicBezTo>
                    <a:cubicBezTo>
                      <a:pt x="547" y="309"/>
                      <a:pt x="518" y="328"/>
                      <a:pt x="498" y="346"/>
                    </a:cubicBezTo>
                    <a:cubicBezTo>
                      <a:pt x="478" y="364"/>
                      <a:pt x="466" y="378"/>
                      <a:pt x="456" y="403"/>
                    </a:cubicBezTo>
                    <a:cubicBezTo>
                      <a:pt x="446" y="428"/>
                      <a:pt x="436" y="463"/>
                      <a:pt x="435" y="499"/>
                    </a:cubicBezTo>
                    <a:cubicBezTo>
                      <a:pt x="434" y="535"/>
                      <a:pt x="436" y="585"/>
                      <a:pt x="450" y="620"/>
                    </a:cubicBezTo>
                    <a:cubicBezTo>
                      <a:pt x="464" y="655"/>
                      <a:pt x="484" y="687"/>
                      <a:pt x="519" y="709"/>
                    </a:cubicBezTo>
                    <a:cubicBezTo>
                      <a:pt x="554" y="731"/>
                      <a:pt x="616" y="748"/>
                      <a:pt x="660" y="754"/>
                    </a:cubicBezTo>
                    <a:cubicBezTo>
                      <a:pt x="704" y="760"/>
                      <a:pt x="751" y="754"/>
                      <a:pt x="785" y="743"/>
                    </a:cubicBezTo>
                    <a:cubicBezTo>
                      <a:pt x="819" y="732"/>
                      <a:pt x="846" y="705"/>
                      <a:pt x="867" y="686"/>
                    </a:cubicBezTo>
                    <a:cubicBezTo>
                      <a:pt x="888" y="667"/>
                      <a:pt x="896" y="658"/>
                      <a:pt x="908" y="632"/>
                    </a:cubicBezTo>
                    <a:cubicBezTo>
                      <a:pt x="920" y="606"/>
                      <a:pt x="933" y="567"/>
                      <a:pt x="941" y="532"/>
                    </a:cubicBezTo>
                    <a:cubicBezTo>
                      <a:pt x="949" y="497"/>
                      <a:pt x="953" y="457"/>
                      <a:pt x="957" y="424"/>
                    </a:cubicBezTo>
                    <a:cubicBezTo>
                      <a:pt x="961" y="391"/>
                      <a:pt x="966" y="364"/>
                      <a:pt x="965" y="332"/>
                    </a:cubicBezTo>
                    <a:cubicBezTo>
                      <a:pt x="964" y="300"/>
                      <a:pt x="963" y="267"/>
                      <a:pt x="951" y="230"/>
                    </a:cubicBezTo>
                    <a:cubicBezTo>
                      <a:pt x="939" y="193"/>
                      <a:pt x="913" y="139"/>
                      <a:pt x="891" y="110"/>
                    </a:cubicBezTo>
                    <a:cubicBezTo>
                      <a:pt x="869" y="81"/>
                      <a:pt x="847" y="69"/>
                      <a:pt x="818" y="53"/>
                    </a:cubicBezTo>
                    <a:cubicBezTo>
                      <a:pt x="789" y="37"/>
                      <a:pt x="759" y="24"/>
                      <a:pt x="719" y="16"/>
                    </a:cubicBezTo>
                    <a:cubicBezTo>
                      <a:pt x="679" y="8"/>
                      <a:pt x="619" y="0"/>
                      <a:pt x="576" y="2"/>
                    </a:cubicBezTo>
                    <a:cubicBezTo>
                      <a:pt x="533" y="4"/>
                      <a:pt x="491" y="16"/>
                      <a:pt x="459" y="28"/>
                    </a:cubicBezTo>
                    <a:cubicBezTo>
                      <a:pt x="427" y="40"/>
                      <a:pt x="405" y="55"/>
                      <a:pt x="384" y="73"/>
                    </a:cubicBezTo>
                    <a:cubicBezTo>
                      <a:pt x="363" y="91"/>
                      <a:pt x="346" y="105"/>
                      <a:pt x="330" y="134"/>
                    </a:cubicBezTo>
                    <a:cubicBezTo>
                      <a:pt x="314" y="163"/>
                      <a:pt x="301" y="207"/>
                      <a:pt x="291" y="248"/>
                    </a:cubicBezTo>
                    <a:cubicBezTo>
                      <a:pt x="281" y="289"/>
                      <a:pt x="278" y="350"/>
                      <a:pt x="269" y="383"/>
                    </a:cubicBezTo>
                    <a:cubicBezTo>
                      <a:pt x="260" y="416"/>
                      <a:pt x="255" y="433"/>
                      <a:pt x="240" y="446"/>
                    </a:cubicBezTo>
                    <a:cubicBezTo>
                      <a:pt x="225" y="459"/>
                      <a:pt x="202" y="469"/>
                      <a:pt x="182" y="463"/>
                    </a:cubicBezTo>
                    <a:cubicBezTo>
                      <a:pt x="162" y="457"/>
                      <a:pt x="119" y="431"/>
                      <a:pt x="119" y="407"/>
                    </a:cubicBezTo>
                    <a:cubicBezTo>
                      <a:pt x="119" y="383"/>
                      <a:pt x="162" y="341"/>
                      <a:pt x="182" y="320"/>
                    </a:cubicBezTo>
                    <a:cubicBezTo>
                      <a:pt x="202" y="299"/>
                      <a:pt x="224" y="292"/>
                      <a:pt x="236" y="280"/>
                    </a:cubicBezTo>
                    <a:cubicBezTo>
                      <a:pt x="248" y="268"/>
                      <a:pt x="254" y="257"/>
                      <a:pt x="255" y="245"/>
                    </a:cubicBezTo>
                    <a:cubicBezTo>
                      <a:pt x="256" y="233"/>
                      <a:pt x="252" y="215"/>
                      <a:pt x="245" y="205"/>
                    </a:cubicBezTo>
                    <a:cubicBezTo>
                      <a:pt x="238" y="195"/>
                      <a:pt x="217" y="196"/>
                      <a:pt x="210" y="185"/>
                    </a:cubicBezTo>
                    <a:cubicBezTo>
                      <a:pt x="203" y="174"/>
                      <a:pt x="218" y="148"/>
                      <a:pt x="203" y="137"/>
                    </a:cubicBezTo>
                    <a:cubicBezTo>
                      <a:pt x="188" y="126"/>
                      <a:pt x="146" y="115"/>
                      <a:pt x="120" y="116"/>
                    </a:cubicBezTo>
                    <a:cubicBezTo>
                      <a:pt x="94" y="117"/>
                      <a:pt x="67" y="133"/>
                      <a:pt x="48" y="143"/>
                    </a:cubicBezTo>
                    <a:cubicBezTo>
                      <a:pt x="29" y="153"/>
                      <a:pt x="0" y="164"/>
                      <a:pt x="3" y="179"/>
                    </a:cubicBezTo>
                    <a:cubicBezTo>
                      <a:pt x="6" y="194"/>
                      <a:pt x="44" y="224"/>
                      <a:pt x="66" y="233"/>
                    </a:cubicBezTo>
                    <a:cubicBezTo>
                      <a:pt x="88" y="242"/>
                      <a:pt x="120" y="232"/>
                      <a:pt x="135" y="233"/>
                    </a:cubicBezTo>
                    <a:cubicBezTo>
                      <a:pt x="150" y="234"/>
                      <a:pt x="171" y="225"/>
                      <a:pt x="156" y="239"/>
                    </a:cubicBezTo>
                    <a:cubicBezTo>
                      <a:pt x="141" y="253"/>
                      <a:pt x="69" y="294"/>
                      <a:pt x="45" y="317"/>
                    </a:cubicBezTo>
                    <a:cubicBezTo>
                      <a:pt x="21" y="340"/>
                      <a:pt x="15" y="356"/>
                      <a:pt x="9" y="379"/>
                    </a:cubicBezTo>
                    <a:cubicBezTo>
                      <a:pt x="3" y="402"/>
                      <a:pt x="4" y="427"/>
                      <a:pt x="12" y="455"/>
                    </a:cubicBezTo>
                    <a:cubicBezTo>
                      <a:pt x="20" y="483"/>
                      <a:pt x="29" y="522"/>
                      <a:pt x="60" y="545"/>
                    </a:cubicBezTo>
                    <a:cubicBezTo>
                      <a:pt x="91" y="568"/>
                      <a:pt x="151" y="596"/>
                      <a:pt x="195" y="596"/>
                    </a:cubicBezTo>
                    <a:cubicBezTo>
                      <a:pt x="239" y="596"/>
                      <a:pt x="297" y="569"/>
                      <a:pt x="327" y="548"/>
                    </a:cubicBezTo>
                    <a:cubicBezTo>
                      <a:pt x="357" y="527"/>
                      <a:pt x="367" y="498"/>
                      <a:pt x="378" y="470"/>
                    </a:cubicBezTo>
                    <a:cubicBezTo>
                      <a:pt x="389" y="442"/>
                      <a:pt x="392" y="413"/>
                      <a:pt x="396" y="383"/>
                    </a:cubicBezTo>
                    <a:cubicBezTo>
                      <a:pt x="400" y="353"/>
                      <a:pt x="394" y="318"/>
                      <a:pt x="401" y="287"/>
                    </a:cubicBezTo>
                    <a:cubicBezTo>
                      <a:pt x="408" y="256"/>
                      <a:pt x="409" y="222"/>
                      <a:pt x="437" y="199"/>
                    </a:cubicBezTo>
                    <a:cubicBezTo>
                      <a:pt x="465" y="176"/>
                      <a:pt x="519" y="157"/>
                      <a:pt x="566" y="151"/>
                    </a:cubicBezTo>
                    <a:cubicBezTo>
                      <a:pt x="613" y="145"/>
                      <a:pt x="672" y="148"/>
                      <a:pt x="717" y="163"/>
                    </a:cubicBezTo>
                    <a:cubicBezTo>
                      <a:pt x="762" y="178"/>
                      <a:pt x="812" y="208"/>
                      <a:pt x="834" y="242"/>
                    </a:cubicBezTo>
                    <a:cubicBezTo>
                      <a:pt x="856" y="276"/>
                      <a:pt x="850" y="337"/>
                      <a:pt x="852" y="370"/>
                    </a:cubicBezTo>
                    <a:cubicBezTo>
                      <a:pt x="854" y="403"/>
                      <a:pt x="849" y="416"/>
                      <a:pt x="846" y="440"/>
                    </a:cubicBezTo>
                    <a:cubicBezTo>
                      <a:pt x="843" y="464"/>
                      <a:pt x="837" y="492"/>
                      <a:pt x="831" y="514"/>
                    </a:cubicBezTo>
                    <a:cubicBezTo>
                      <a:pt x="825" y="536"/>
                      <a:pt x="818" y="554"/>
                      <a:pt x="810" y="572"/>
                    </a:cubicBezTo>
                    <a:cubicBezTo>
                      <a:pt x="802" y="590"/>
                      <a:pt x="795" y="610"/>
                      <a:pt x="780" y="625"/>
                    </a:cubicBezTo>
                    <a:cubicBezTo>
                      <a:pt x="765" y="640"/>
                      <a:pt x="744" y="659"/>
                      <a:pt x="717" y="665"/>
                    </a:cubicBezTo>
                    <a:cubicBezTo>
                      <a:pt x="690" y="671"/>
                      <a:pt x="645" y="668"/>
                      <a:pt x="618" y="659"/>
                    </a:cubicBezTo>
                    <a:cubicBezTo>
                      <a:pt x="591" y="650"/>
                      <a:pt x="568" y="633"/>
                      <a:pt x="552" y="611"/>
                    </a:cubicBezTo>
                    <a:cubicBezTo>
                      <a:pt x="536" y="589"/>
                      <a:pt x="524" y="560"/>
                      <a:pt x="522" y="527"/>
                    </a:cubicBezTo>
                    <a:cubicBezTo>
                      <a:pt x="520" y="494"/>
                      <a:pt x="526" y="444"/>
                      <a:pt x="537" y="410"/>
                    </a:cubicBezTo>
                    <a:cubicBezTo>
                      <a:pt x="548" y="376"/>
                      <a:pt x="567" y="350"/>
                      <a:pt x="587" y="325"/>
                    </a:cubicBezTo>
                    <a:cubicBezTo>
                      <a:pt x="607" y="300"/>
                      <a:pt x="640" y="276"/>
                      <a:pt x="654" y="263"/>
                    </a:cubicBezTo>
                    <a:cubicBezTo>
                      <a:pt x="668" y="250"/>
                      <a:pt x="667" y="251"/>
                      <a:pt x="671" y="248"/>
                    </a:cubicBez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0" name=""/>
              <p:cNvGrpSpPr/>
              <p:nvPr/>
            </p:nvGrpSpPr>
            <p:grpSpPr>
              <a:xfrm>
                <a:off x="7772760" y="755280"/>
                <a:ext cx="272160" cy="436320"/>
                <a:chOff x="7772760" y="755280"/>
                <a:chExt cx="272160" cy="436320"/>
              </a:xfrm>
            </p:grpSpPr>
            <p:sp>
              <p:nvSpPr>
                <p:cNvPr id="311" name=""/>
                <p:cNvSpPr/>
                <p:nvPr/>
              </p:nvSpPr>
              <p:spPr>
                <a:xfrm flipH="1" rot="17321400">
                  <a:off x="7801560" y="1028520"/>
                  <a:ext cx="129240" cy="154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H="1" rot="17321400">
                  <a:off x="7845840" y="950400"/>
                  <a:ext cx="112680" cy="13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H="1" rot="17321400">
                  <a:off x="7885440" y="875520"/>
                  <a:ext cx="9936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314" name=""/>
                <p:cNvSpPr/>
                <p:nvPr/>
              </p:nvSpPr>
              <p:spPr>
                <a:xfrm flipH="1" rot="17321400">
                  <a:off x="7924680" y="807120"/>
                  <a:ext cx="81720" cy="10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315" name=""/>
                <p:cNvSpPr/>
                <p:nvPr/>
              </p:nvSpPr>
              <p:spPr>
                <a:xfrm flipH="1" rot="17321400">
                  <a:off x="7958160" y="754200"/>
                  <a:ext cx="64440" cy="9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grpSp>
        <p:sp>
          <p:nvSpPr>
            <p:cNvPr id="316" name=""/>
            <p:cNvSpPr/>
            <p:nvPr/>
          </p:nvSpPr>
          <p:spPr>
            <a:xfrm rot="19789200">
              <a:off x="6782040" y="1305360"/>
              <a:ext cx="51840" cy="84240"/>
            </a:xfrm>
            <a:prstGeom prst="ellipse">
              <a:avLst/>
            </a:prstGeom>
            <a:solidFill>
              <a:srgbClr val="ffff66"/>
            </a:solidFill>
            <a:ln w="9360">
              <a:solidFill>
                <a:srgbClr val="ffff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sp>
        <p:nvSpPr>
          <p:cNvPr id="317" name=""/>
          <p:cNvSpPr/>
          <p:nvPr/>
        </p:nvSpPr>
        <p:spPr>
          <a:xfrm>
            <a:off x="6480000" y="4794120"/>
            <a:ext cx="2181240" cy="1898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1403280" y="5013360"/>
            <a:ext cx="6969240" cy="1545480"/>
            <a:chOff x="1403280" y="5013360"/>
            <a:chExt cx="6969240" cy="1545480"/>
          </a:xfrm>
        </p:grpSpPr>
        <p:sp>
          <p:nvSpPr>
            <p:cNvPr id="319" name=""/>
            <p:cNvSpPr/>
            <p:nvPr/>
          </p:nvSpPr>
          <p:spPr>
            <a:xfrm>
              <a:off x="430056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320" name=""/>
            <p:cNvGrpSpPr/>
            <p:nvPr/>
          </p:nvGrpSpPr>
          <p:grpSpPr>
            <a:xfrm>
              <a:off x="1403280" y="5013360"/>
              <a:ext cx="1219320" cy="1545480"/>
              <a:chOff x="1403280" y="5013360"/>
              <a:chExt cx="1219320" cy="1545480"/>
            </a:xfrm>
          </p:grpSpPr>
          <p:sp>
            <p:nvSpPr>
              <p:cNvPr id="321" name=""/>
              <p:cNvSpPr/>
              <p:nvPr/>
            </p:nvSpPr>
            <p:spPr>
              <a:xfrm>
                <a:off x="1403280" y="5013360"/>
                <a:ext cx="1219320" cy="121932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1529280" y="622152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unlight</a:t>
                </a:r>
                <a:endParaRPr b="0" lang="en-US" sz="1600" spc="-1" strike="noStrike">
                  <a:solidFill>
                    <a:srgbClr val="ffffff"/>
                  </a:solidFill>
                  <a:latin typeface="Times New Roman"/>
                </a:endParaRPr>
              </a:p>
            </p:txBody>
          </p:sp>
        </p:grpSp>
        <p:grpSp>
          <p:nvGrpSpPr>
            <p:cNvPr id="323" name=""/>
            <p:cNvGrpSpPr/>
            <p:nvPr/>
          </p:nvGrpSpPr>
          <p:grpSpPr>
            <a:xfrm>
              <a:off x="3328920" y="5318280"/>
              <a:ext cx="1113480" cy="1240560"/>
              <a:chOff x="3328920" y="5318280"/>
              <a:chExt cx="1113480" cy="1240560"/>
            </a:xfrm>
          </p:grpSpPr>
          <p:sp>
            <p:nvSpPr>
              <p:cNvPr id="324" name=""/>
              <p:cNvSpPr/>
              <p:nvPr/>
            </p:nvSpPr>
            <p:spPr>
              <a:xfrm>
                <a:off x="3328920" y="5318280"/>
                <a:ext cx="1094040" cy="914400"/>
              </a:xfrm>
              <a:custGeom>
                <a:avLst/>
                <a:gdLst/>
                <a:ahLst/>
                <a:rect l="l" t="t" r="r" b="b"/>
                <a:pathLst>
                  <a:path w="689" h="614">
                    <a:moveTo>
                      <a:pt x="256" y="606"/>
                    </a:moveTo>
                    <a:cubicBezTo>
                      <a:pt x="296" y="606"/>
                      <a:pt x="336" y="606"/>
                      <a:pt x="352" y="558"/>
                    </a:cubicBezTo>
                    <a:cubicBezTo>
                      <a:pt x="368" y="510"/>
                      <a:pt x="368" y="376"/>
                      <a:pt x="352" y="318"/>
                    </a:cubicBezTo>
                    <a:cubicBezTo>
                      <a:pt x="336" y="260"/>
                      <a:pt x="270" y="220"/>
                      <a:pt x="253" y="210"/>
                    </a:cubicBezTo>
                    <a:cubicBezTo>
                      <a:pt x="236" y="200"/>
                      <a:pt x="259" y="240"/>
                      <a:pt x="250" y="261"/>
                    </a:cubicBezTo>
                    <a:cubicBezTo>
                      <a:pt x="241" y="282"/>
                      <a:pt x="223" y="318"/>
                      <a:pt x="196" y="336"/>
                    </a:cubicBezTo>
                    <a:cubicBezTo>
                      <a:pt x="169" y="354"/>
                      <a:pt x="116" y="367"/>
                      <a:pt x="85" y="369"/>
                    </a:cubicBezTo>
                    <a:cubicBezTo>
                      <a:pt x="54" y="371"/>
                      <a:pt x="20" y="359"/>
                      <a:pt x="10" y="348"/>
                    </a:cubicBezTo>
                    <a:cubicBezTo>
                      <a:pt x="0" y="337"/>
                      <a:pt x="16" y="324"/>
                      <a:pt x="25" y="303"/>
                    </a:cubicBezTo>
                    <a:cubicBezTo>
                      <a:pt x="34" y="282"/>
                      <a:pt x="42" y="243"/>
                      <a:pt x="64" y="222"/>
                    </a:cubicBezTo>
                    <a:cubicBezTo>
                      <a:pt x="86" y="201"/>
                      <a:pt x="128" y="182"/>
                      <a:pt x="160" y="174"/>
                    </a:cubicBezTo>
                    <a:cubicBezTo>
                      <a:pt x="192" y="166"/>
                      <a:pt x="224" y="166"/>
                      <a:pt x="256" y="174"/>
                    </a:cubicBezTo>
                    <a:cubicBezTo>
                      <a:pt x="288" y="182"/>
                      <a:pt x="331" y="228"/>
                      <a:pt x="352" y="222"/>
                    </a:cubicBezTo>
                    <a:cubicBezTo>
                      <a:pt x="373" y="216"/>
                      <a:pt x="374" y="161"/>
                      <a:pt x="385" y="138"/>
                    </a:cubicBezTo>
                    <a:cubicBezTo>
                      <a:pt x="396" y="115"/>
                      <a:pt x="403" y="105"/>
                      <a:pt x="421" y="84"/>
                    </a:cubicBezTo>
                    <a:cubicBezTo>
                      <a:pt x="439" y="63"/>
                      <a:pt x="468" y="24"/>
                      <a:pt x="496" y="12"/>
                    </a:cubicBezTo>
                    <a:cubicBezTo>
                      <a:pt x="524" y="0"/>
                      <a:pt x="565" y="6"/>
                      <a:pt x="589" y="12"/>
                    </a:cubicBezTo>
                    <a:cubicBezTo>
                      <a:pt x="613" y="18"/>
                      <a:pt x="624" y="31"/>
                      <a:pt x="640" y="48"/>
                    </a:cubicBezTo>
                    <a:cubicBezTo>
                      <a:pt x="656" y="65"/>
                      <a:pt x="689" y="97"/>
                      <a:pt x="688" y="114"/>
                    </a:cubicBezTo>
                    <a:cubicBezTo>
                      <a:pt x="687" y="131"/>
                      <a:pt x="659" y="146"/>
                      <a:pt x="631" y="153"/>
                    </a:cubicBezTo>
                    <a:cubicBezTo>
                      <a:pt x="603" y="160"/>
                      <a:pt x="550" y="161"/>
                      <a:pt x="517" y="156"/>
                    </a:cubicBezTo>
                    <a:cubicBezTo>
                      <a:pt x="484" y="151"/>
                      <a:pt x="453" y="110"/>
                      <a:pt x="433" y="120"/>
                    </a:cubicBezTo>
                    <a:cubicBezTo>
                      <a:pt x="413" y="130"/>
                      <a:pt x="404" y="184"/>
                      <a:pt x="397" y="216"/>
                    </a:cubicBezTo>
                    <a:cubicBezTo>
                      <a:pt x="390" y="248"/>
                      <a:pt x="388" y="282"/>
                      <a:pt x="388" y="315"/>
                    </a:cubicBezTo>
                    <a:cubicBezTo>
                      <a:pt x="388" y="348"/>
                      <a:pt x="390" y="374"/>
                      <a:pt x="400" y="414"/>
                    </a:cubicBezTo>
                    <a:cubicBezTo>
                      <a:pt x="410" y="454"/>
                      <a:pt x="424" y="526"/>
                      <a:pt x="448" y="558"/>
                    </a:cubicBezTo>
                    <a:cubicBezTo>
                      <a:pt x="472" y="590"/>
                      <a:pt x="576" y="598"/>
                      <a:pt x="544" y="606"/>
                    </a:cubicBezTo>
                    <a:cubicBezTo>
                      <a:pt x="512" y="614"/>
                      <a:pt x="316" y="606"/>
                      <a:pt x="256" y="606"/>
                    </a:cubicBezTo>
                  </a:path>
                </a:pathLst>
              </a:custGeom>
              <a:solidFill>
                <a:srgbClr val="009900"/>
              </a:solidFill>
              <a:ln w="93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3384000" y="622152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producer</a:t>
                </a:r>
                <a:endParaRPr b="0" lang="en-US" sz="1600" spc="-1" strike="noStrike">
                  <a:solidFill>
                    <a:srgbClr val="ffffff"/>
                  </a:solidFill>
                  <a:latin typeface="Times New Roman"/>
                </a:endParaRPr>
              </a:p>
            </p:txBody>
          </p:sp>
        </p:grpSp>
        <p:sp>
          <p:nvSpPr>
            <p:cNvPr id="326" name=""/>
            <p:cNvSpPr/>
            <p:nvPr/>
          </p:nvSpPr>
          <p:spPr>
            <a:xfrm>
              <a:off x="6167520" y="5607000"/>
              <a:ext cx="552240" cy="144360"/>
            </a:xfrm>
            <a:prstGeom prst="rightArrow">
              <a:avLst>
                <a:gd name="adj1" fmla="val 50000"/>
                <a:gd name="adj2" fmla="val 95636"/>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327" name=""/>
            <p:cNvSpPr/>
            <p:nvPr/>
          </p:nvSpPr>
          <p:spPr>
            <a:xfrm>
              <a:off x="271944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328" name=""/>
            <p:cNvGrpSpPr/>
            <p:nvPr/>
          </p:nvGrpSpPr>
          <p:grpSpPr>
            <a:xfrm>
              <a:off x="4875120" y="5016600"/>
              <a:ext cx="1417320" cy="1542240"/>
              <a:chOff x="4875120" y="5016600"/>
              <a:chExt cx="1417320" cy="1542240"/>
            </a:xfrm>
          </p:grpSpPr>
          <p:sp>
            <p:nvSpPr>
              <p:cNvPr id="329" name=""/>
              <p:cNvSpPr/>
              <p:nvPr/>
            </p:nvSpPr>
            <p:spPr>
              <a:xfrm>
                <a:off x="4902120" y="62215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1</a:t>
                </a:r>
                <a:endParaRPr b="0" lang="en-US" sz="1600" spc="-1" strike="noStrike">
                  <a:solidFill>
                    <a:srgbClr val="ffffff"/>
                  </a:solidFill>
                  <a:latin typeface="Times New Roman"/>
                </a:endParaRPr>
              </a:p>
            </p:txBody>
          </p:sp>
          <p:grpSp>
            <p:nvGrpSpPr>
              <p:cNvPr id="330" name=""/>
              <p:cNvGrpSpPr/>
              <p:nvPr/>
            </p:nvGrpSpPr>
            <p:grpSpPr>
              <a:xfrm>
                <a:off x="4875120" y="5016600"/>
                <a:ext cx="1417320" cy="1239480"/>
                <a:chOff x="4875120" y="5016600"/>
                <a:chExt cx="1417320" cy="1239480"/>
              </a:xfrm>
            </p:grpSpPr>
            <p:grpSp>
              <p:nvGrpSpPr>
                <p:cNvPr id="331" name=""/>
                <p:cNvGrpSpPr/>
                <p:nvPr/>
              </p:nvGrpSpPr>
              <p:grpSpPr>
                <a:xfrm>
                  <a:off x="4875120" y="5016600"/>
                  <a:ext cx="1417320" cy="1239480"/>
                  <a:chOff x="4875120" y="5016600"/>
                  <a:chExt cx="1417320" cy="1239480"/>
                </a:xfrm>
              </p:grpSpPr>
              <p:sp>
                <p:nvSpPr>
                  <p:cNvPr id="332" name=""/>
                  <p:cNvSpPr/>
                  <p:nvPr/>
                </p:nvSpPr>
                <p:spPr>
                  <a:xfrm>
                    <a:off x="4875120" y="5016600"/>
                    <a:ext cx="986400" cy="1195200"/>
                  </a:xfrm>
                  <a:custGeom>
                    <a:avLst/>
                    <a:gdLst/>
                    <a:ahLst/>
                    <a:rect l="l" t="t" r="r" b="b"/>
                    <a:pathLst>
                      <a:path w="691" h="838">
                        <a:moveTo>
                          <a:pt x="318" y="177"/>
                        </a:moveTo>
                        <a:cubicBezTo>
                          <a:pt x="324" y="168"/>
                          <a:pt x="397" y="115"/>
                          <a:pt x="408" y="89"/>
                        </a:cubicBezTo>
                        <a:cubicBezTo>
                          <a:pt x="419" y="63"/>
                          <a:pt x="395" y="34"/>
                          <a:pt x="382" y="19"/>
                        </a:cubicBezTo>
                        <a:cubicBezTo>
                          <a:pt x="369" y="4"/>
                          <a:pt x="347" y="2"/>
                          <a:pt x="330" y="1"/>
                        </a:cubicBezTo>
                        <a:cubicBezTo>
                          <a:pt x="313" y="0"/>
                          <a:pt x="297" y="5"/>
                          <a:pt x="282" y="15"/>
                        </a:cubicBezTo>
                        <a:cubicBezTo>
                          <a:pt x="267" y="25"/>
                          <a:pt x="250" y="39"/>
                          <a:pt x="242" y="59"/>
                        </a:cubicBezTo>
                        <a:cubicBezTo>
                          <a:pt x="234" y="79"/>
                          <a:pt x="234" y="117"/>
                          <a:pt x="232" y="137"/>
                        </a:cubicBezTo>
                        <a:cubicBezTo>
                          <a:pt x="230" y="157"/>
                          <a:pt x="238" y="169"/>
                          <a:pt x="232" y="180"/>
                        </a:cubicBezTo>
                        <a:cubicBezTo>
                          <a:pt x="226" y="191"/>
                          <a:pt x="216" y="198"/>
                          <a:pt x="194" y="204"/>
                        </a:cubicBezTo>
                        <a:cubicBezTo>
                          <a:pt x="172" y="210"/>
                          <a:pt x="129" y="206"/>
                          <a:pt x="98" y="214"/>
                        </a:cubicBezTo>
                        <a:cubicBezTo>
                          <a:pt x="67" y="222"/>
                          <a:pt x="12" y="241"/>
                          <a:pt x="6" y="252"/>
                        </a:cubicBezTo>
                        <a:cubicBezTo>
                          <a:pt x="0" y="263"/>
                          <a:pt x="45" y="270"/>
                          <a:pt x="64" y="283"/>
                        </a:cubicBezTo>
                        <a:cubicBezTo>
                          <a:pt x="83" y="296"/>
                          <a:pt x="101" y="314"/>
                          <a:pt x="120" y="333"/>
                        </a:cubicBezTo>
                        <a:cubicBezTo>
                          <a:pt x="139" y="352"/>
                          <a:pt x="167" y="379"/>
                          <a:pt x="180" y="399"/>
                        </a:cubicBezTo>
                        <a:cubicBezTo>
                          <a:pt x="193" y="419"/>
                          <a:pt x="203" y="441"/>
                          <a:pt x="196" y="453"/>
                        </a:cubicBezTo>
                        <a:cubicBezTo>
                          <a:pt x="189" y="465"/>
                          <a:pt x="154" y="456"/>
                          <a:pt x="138" y="469"/>
                        </a:cubicBezTo>
                        <a:cubicBezTo>
                          <a:pt x="122" y="482"/>
                          <a:pt x="96" y="526"/>
                          <a:pt x="102" y="531"/>
                        </a:cubicBezTo>
                        <a:cubicBezTo>
                          <a:pt x="108" y="536"/>
                          <a:pt x="155" y="504"/>
                          <a:pt x="174" y="502"/>
                        </a:cubicBezTo>
                        <a:cubicBezTo>
                          <a:pt x="193" y="500"/>
                          <a:pt x="210" y="508"/>
                          <a:pt x="218" y="521"/>
                        </a:cubicBezTo>
                        <a:cubicBezTo>
                          <a:pt x="226" y="534"/>
                          <a:pt x="220" y="559"/>
                          <a:pt x="224" y="581"/>
                        </a:cubicBezTo>
                        <a:cubicBezTo>
                          <a:pt x="228" y="603"/>
                          <a:pt x="230" y="629"/>
                          <a:pt x="242" y="655"/>
                        </a:cubicBezTo>
                        <a:cubicBezTo>
                          <a:pt x="254" y="681"/>
                          <a:pt x="281" y="717"/>
                          <a:pt x="298" y="735"/>
                        </a:cubicBezTo>
                        <a:cubicBezTo>
                          <a:pt x="315" y="753"/>
                          <a:pt x="336" y="757"/>
                          <a:pt x="347" y="766"/>
                        </a:cubicBezTo>
                        <a:cubicBezTo>
                          <a:pt x="358" y="775"/>
                          <a:pt x="377" y="789"/>
                          <a:pt x="362" y="790"/>
                        </a:cubicBezTo>
                        <a:cubicBezTo>
                          <a:pt x="347" y="791"/>
                          <a:pt x="280" y="777"/>
                          <a:pt x="256" y="775"/>
                        </a:cubicBezTo>
                        <a:cubicBezTo>
                          <a:pt x="232" y="773"/>
                          <a:pt x="230" y="767"/>
                          <a:pt x="218" y="775"/>
                        </a:cubicBezTo>
                        <a:cubicBezTo>
                          <a:pt x="206" y="783"/>
                          <a:pt x="180" y="813"/>
                          <a:pt x="184" y="823"/>
                        </a:cubicBezTo>
                        <a:cubicBezTo>
                          <a:pt x="188" y="833"/>
                          <a:pt x="218" y="836"/>
                          <a:pt x="244" y="837"/>
                        </a:cubicBezTo>
                        <a:cubicBezTo>
                          <a:pt x="270" y="838"/>
                          <a:pt x="318" y="829"/>
                          <a:pt x="342" y="828"/>
                        </a:cubicBezTo>
                        <a:cubicBezTo>
                          <a:pt x="366" y="827"/>
                          <a:pt x="369" y="829"/>
                          <a:pt x="388" y="829"/>
                        </a:cubicBezTo>
                        <a:cubicBezTo>
                          <a:pt x="407" y="829"/>
                          <a:pt x="435" y="832"/>
                          <a:pt x="456" y="831"/>
                        </a:cubicBezTo>
                        <a:cubicBezTo>
                          <a:pt x="477" y="830"/>
                          <a:pt x="493" y="828"/>
                          <a:pt x="512" y="823"/>
                        </a:cubicBezTo>
                        <a:cubicBezTo>
                          <a:pt x="531" y="818"/>
                          <a:pt x="546" y="814"/>
                          <a:pt x="568" y="799"/>
                        </a:cubicBezTo>
                        <a:cubicBezTo>
                          <a:pt x="590" y="784"/>
                          <a:pt x="625" y="762"/>
                          <a:pt x="645" y="732"/>
                        </a:cubicBezTo>
                        <a:cubicBezTo>
                          <a:pt x="665" y="702"/>
                          <a:pt x="691" y="661"/>
                          <a:pt x="688" y="617"/>
                        </a:cubicBezTo>
                        <a:cubicBezTo>
                          <a:pt x="685" y="573"/>
                          <a:pt x="646" y="505"/>
                          <a:pt x="628" y="467"/>
                        </a:cubicBezTo>
                        <a:cubicBezTo>
                          <a:pt x="610" y="429"/>
                          <a:pt x="598" y="411"/>
                          <a:pt x="578" y="389"/>
                        </a:cubicBezTo>
                        <a:cubicBezTo>
                          <a:pt x="558" y="367"/>
                          <a:pt x="531" y="354"/>
                          <a:pt x="506" y="335"/>
                        </a:cubicBezTo>
                        <a:cubicBezTo>
                          <a:pt x="481" y="316"/>
                          <a:pt x="455" y="290"/>
                          <a:pt x="428" y="273"/>
                        </a:cubicBezTo>
                        <a:cubicBezTo>
                          <a:pt x="401" y="256"/>
                          <a:pt x="349" y="237"/>
                          <a:pt x="346" y="235"/>
                        </a:cubicBezTo>
                        <a:cubicBezTo>
                          <a:pt x="343" y="233"/>
                          <a:pt x="386" y="256"/>
                          <a:pt x="410" y="259"/>
                        </a:cubicBezTo>
                        <a:cubicBezTo>
                          <a:pt x="434" y="262"/>
                          <a:pt x="467" y="256"/>
                          <a:pt x="488" y="251"/>
                        </a:cubicBezTo>
                        <a:cubicBezTo>
                          <a:pt x="509" y="246"/>
                          <a:pt x="522" y="238"/>
                          <a:pt x="534" y="227"/>
                        </a:cubicBezTo>
                        <a:cubicBezTo>
                          <a:pt x="546" y="216"/>
                          <a:pt x="557" y="200"/>
                          <a:pt x="562" y="187"/>
                        </a:cubicBezTo>
                        <a:cubicBezTo>
                          <a:pt x="567" y="174"/>
                          <a:pt x="564" y="162"/>
                          <a:pt x="562" y="149"/>
                        </a:cubicBezTo>
                        <a:cubicBezTo>
                          <a:pt x="560" y="136"/>
                          <a:pt x="557" y="123"/>
                          <a:pt x="550" y="111"/>
                        </a:cubicBezTo>
                        <a:cubicBezTo>
                          <a:pt x="543" y="99"/>
                          <a:pt x="533" y="83"/>
                          <a:pt x="518" y="75"/>
                        </a:cubicBezTo>
                        <a:cubicBezTo>
                          <a:pt x="503" y="67"/>
                          <a:pt x="479" y="59"/>
                          <a:pt x="462" y="61"/>
                        </a:cubicBezTo>
                        <a:cubicBezTo>
                          <a:pt x="445" y="63"/>
                          <a:pt x="429" y="75"/>
                          <a:pt x="414" y="89"/>
                        </a:cubicBezTo>
                        <a:cubicBezTo>
                          <a:pt x="399" y="103"/>
                          <a:pt x="387" y="127"/>
                          <a:pt x="371" y="142"/>
                        </a:cubicBezTo>
                        <a:cubicBezTo>
                          <a:pt x="355" y="157"/>
                          <a:pt x="322" y="182"/>
                          <a:pt x="318" y="177"/>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507640" y="5211720"/>
                    <a:ext cx="784800" cy="1044360"/>
                  </a:xfrm>
                  <a:custGeom>
                    <a:avLst/>
                    <a:gdLst/>
                    <a:ahLst/>
                    <a:rect l="l" t="t" r="r" b="b"/>
                    <a:pathLst>
                      <a:path w="550" h="732">
                        <a:moveTo>
                          <a:pt x="82" y="684"/>
                        </a:moveTo>
                        <a:cubicBezTo>
                          <a:pt x="105" y="681"/>
                          <a:pt x="121" y="690"/>
                          <a:pt x="149" y="684"/>
                        </a:cubicBezTo>
                        <a:cubicBezTo>
                          <a:pt x="177" y="678"/>
                          <a:pt x="221" y="666"/>
                          <a:pt x="250" y="648"/>
                        </a:cubicBezTo>
                        <a:cubicBezTo>
                          <a:pt x="279" y="630"/>
                          <a:pt x="307" y="604"/>
                          <a:pt x="322" y="578"/>
                        </a:cubicBezTo>
                        <a:cubicBezTo>
                          <a:pt x="337" y="552"/>
                          <a:pt x="339" y="529"/>
                          <a:pt x="341" y="494"/>
                        </a:cubicBezTo>
                        <a:cubicBezTo>
                          <a:pt x="343" y="459"/>
                          <a:pt x="335" y="404"/>
                          <a:pt x="331" y="370"/>
                        </a:cubicBezTo>
                        <a:cubicBezTo>
                          <a:pt x="327" y="336"/>
                          <a:pt x="324" y="320"/>
                          <a:pt x="319" y="290"/>
                        </a:cubicBezTo>
                        <a:cubicBezTo>
                          <a:pt x="314" y="260"/>
                          <a:pt x="297" y="225"/>
                          <a:pt x="303" y="190"/>
                        </a:cubicBezTo>
                        <a:cubicBezTo>
                          <a:pt x="309" y="155"/>
                          <a:pt x="335" y="110"/>
                          <a:pt x="357" y="82"/>
                        </a:cubicBezTo>
                        <a:cubicBezTo>
                          <a:pt x="379" y="54"/>
                          <a:pt x="405" y="35"/>
                          <a:pt x="437" y="22"/>
                        </a:cubicBezTo>
                        <a:cubicBezTo>
                          <a:pt x="469" y="9"/>
                          <a:pt x="550" y="0"/>
                          <a:pt x="550" y="2"/>
                        </a:cubicBezTo>
                        <a:cubicBezTo>
                          <a:pt x="550" y="4"/>
                          <a:pt x="469" y="14"/>
                          <a:pt x="437" y="34"/>
                        </a:cubicBezTo>
                        <a:cubicBezTo>
                          <a:pt x="405" y="54"/>
                          <a:pt x="372" y="90"/>
                          <a:pt x="357" y="122"/>
                        </a:cubicBezTo>
                        <a:cubicBezTo>
                          <a:pt x="342" y="154"/>
                          <a:pt x="343" y="190"/>
                          <a:pt x="346" y="228"/>
                        </a:cubicBezTo>
                        <a:cubicBezTo>
                          <a:pt x="349" y="266"/>
                          <a:pt x="371" y="306"/>
                          <a:pt x="377" y="350"/>
                        </a:cubicBezTo>
                        <a:cubicBezTo>
                          <a:pt x="383" y="394"/>
                          <a:pt x="392" y="443"/>
                          <a:pt x="385" y="490"/>
                        </a:cubicBezTo>
                        <a:cubicBezTo>
                          <a:pt x="378" y="537"/>
                          <a:pt x="357" y="594"/>
                          <a:pt x="334" y="631"/>
                        </a:cubicBezTo>
                        <a:cubicBezTo>
                          <a:pt x="311" y="668"/>
                          <a:pt x="281" y="693"/>
                          <a:pt x="247" y="710"/>
                        </a:cubicBezTo>
                        <a:cubicBezTo>
                          <a:pt x="213" y="727"/>
                          <a:pt x="164" y="732"/>
                          <a:pt x="129" y="732"/>
                        </a:cubicBezTo>
                        <a:cubicBezTo>
                          <a:pt x="94" y="732"/>
                          <a:pt x="54" y="718"/>
                          <a:pt x="34" y="713"/>
                        </a:cubicBezTo>
                        <a:cubicBezTo>
                          <a:pt x="14" y="708"/>
                          <a:pt x="0" y="706"/>
                          <a:pt x="10" y="701"/>
                        </a:cubicBezTo>
                        <a:cubicBezTo>
                          <a:pt x="20" y="696"/>
                          <a:pt x="59" y="687"/>
                          <a:pt x="82" y="684"/>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V="1">
                    <a:off x="4929480" y="5259960"/>
                    <a:ext cx="11160" cy="85320"/>
                  </a:xfrm>
                  <a:prstGeom prst="line">
                    <a:avLst/>
                  </a:prstGeom>
                  <a:ln w="1260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35" name=""/>
                  <p:cNvSpPr/>
                  <p:nvPr/>
                </p:nvSpPr>
                <p:spPr>
                  <a:xfrm flipV="1">
                    <a:off x="4934880" y="5194440"/>
                    <a:ext cx="105840" cy="156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4920480" y="5405760"/>
                    <a:ext cx="5760" cy="85680"/>
                  </a:xfrm>
                  <a:prstGeom prst="line">
                    <a:avLst/>
                  </a:prstGeom>
                  <a:ln w="1260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 name=""/>
                  <p:cNvSpPr/>
                  <p:nvPr/>
                </p:nvSpPr>
                <p:spPr>
                  <a:xfrm>
                    <a:off x="4940640" y="5408640"/>
                    <a:ext cx="73800" cy="125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8" name=""/>
                <p:cNvSpPr/>
                <p:nvPr/>
              </p:nvSpPr>
              <p:spPr>
                <a:xfrm>
                  <a:off x="5137200" y="5354640"/>
                  <a:ext cx="57240" cy="63360"/>
                </a:xfrm>
                <a:prstGeom prst="ellipse">
                  <a:avLst/>
                </a:prstGeom>
                <a:solidFill>
                  <a:srgbClr val="5f5f5f"/>
                </a:solidFill>
                <a:ln w="9360">
                  <a:solidFill>
                    <a:srgbClr val="5f5f5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nvGrpSpPr>
            <p:cNvPr id="339" name=""/>
            <p:cNvGrpSpPr/>
            <p:nvPr/>
          </p:nvGrpSpPr>
          <p:grpSpPr>
            <a:xfrm>
              <a:off x="6838920" y="5079960"/>
              <a:ext cx="1533600" cy="1478880"/>
              <a:chOff x="6838920" y="5079960"/>
              <a:chExt cx="1533600" cy="1478880"/>
            </a:xfrm>
          </p:grpSpPr>
          <p:sp>
            <p:nvSpPr>
              <p:cNvPr id="340" name=""/>
              <p:cNvSpPr/>
              <p:nvPr/>
            </p:nvSpPr>
            <p:spPr>
              <a:xfrm>
                <a:off x="6900840" y="62215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2</a:t>
                </a:r>
                <a:endParaRPr b="0" lang="en-US" sz="1600" spc="-1" strike="noStrike">
                  <a:solidFill>
                    <a:srgbClr val="ffffff"/>
                  </a:solidFill>
                  <a:latin typeface="Times New Roman"/>
                </a:endParaRPr>
              </a:p>
            </p:txBody>
          </p:sp>
          <p:grpSp>
            <p:nvGrpSpPr>
              <p:cNvPr id="341" name=""/>
              <p:cNvGrpSpPr/>
              <p:nvPr/>
            </p:nvGrpSpPr>
            <p:grpSpPr>
              <a:xfrm>
                <a:off x="6838920" y="5079960"/>
                <a:ext cx="1533600" cy="1206360"/>
                <a:chOff x="6838920" y="5079960"/>
                <a:chExt cx="1533600" cy="1206360"/>
              </a:xfrm>
            </p:grpSpPr>
            <p:grpSp>
              <p:nvGrpSpPr>
                <p:cNvPr id="342" name=""/>
                <p:cNvGrpSpPr/>
                <p:nvPr/>
              </p:nvGrpSpPr>
              <p:grpSpPr>
                <a:xfrm>
                  <a:off x="6838920" y="5079960"/>
                  <a:ext cx="1533600" cy="1206360"/>
                  <a:chOff x="6838920" y="5079960"/>
                  <a:chExt cx="1533600" cy="1206360"/>
                </a:xfrm>
              </p:grpSpPr>
              <p:sp>
                <p:nvSpPr>
                  <p:cNvPr id="343" name=""/>
                  <p:cNvSpPr/>
                  <p:nvPr/>
                </p:nvSpPr>
                <p:spPr>
                  <a:xfrm>
                    <a:off x="6838920" y="5079960"/>
                    <a:ext cx="1533600" cy="1206360"/>
                  </a:xfrm>
                  <a:custGeom>
                    <a:avLst/>
                    <a:gdLst/>
                    <a:ahLst/>
                    <a:rect l="l" t="t" r="r" b="b"/>
                    <a:pathLst>
                      <a:path w="966" h="760">
                        <a:moveTo>
                          <a:pt x="671" y="248"/>
                        </a:moveTo>
                        <a:cubicBezTo>
                          <a:pt x="657" y="250"/>
                          <a:pt x="605" y="277"/>
                          <a:pt x="576" y="293"/>
                        </a:cubicBezTo>
                        <a:cubicBezTo>
                          <a:pt x="547" y="309"/>
                          <a:pt x="518" y="328"/>
                          <a:pt x="498" y="346"/>
                        </a:cubicBezTo>
                        <a:cubicBezTo>
                          <a:pt x="478" y="364"/>
                          <a:pt x="466" y="378"/>
                          <a:pt x="456" y="403"/>
                        </a:cubicBezTo>
                        <a:cubicBezTo>
                          <a:pt x="446" y="428"/>
                          <a:pt x="436" y="463"/>
                          <a:pt x="435" y="499"/>
                        </a:cubicBezTo>
                        <a:cubicBezTo>
                          <a:pt x="434" y="535"/>
                          <a:pt x="436" y="585"/>
                          <a:pt x="450" y="620"/>
                        </a:cubicBezTo>
                        <a:cubicBezTo>
                          <a:pt x="464" y="655"/>
                          <a:pt x="484" y="687"/>
                          <a:pt x="519" y="709"/>
                        </a:cubicBezTo>
                        <a:cubicBezTo>
                          <a:pt x="554" y="731"/>
                          <a:pt x="616" y="748"/>
                          <a:pt x="660" y="754"/>
                        </a:cubicBezTo>
                        <a:cubicBezTo>
                          <a:pt x="704" y="760"/>
                          <a:pt x="751" y="754"/>
                          <a:pt x="785" y="743"/>
                        </a:cubicBezTo>
                        <a:cubicBezTo>
                          <a:pt x="819" y="732"/>
                          <a:pt x="846" y="705"/>
                          <a:pt x="867" y="686"/>
                        </a:cubicBezTo>
                        <a:cubicBezTo>
                          <a:pt x="888" y="667"/>
                          <a:pt x="896" y="658"/>
                          <a:pt x="908" y="632"/>
                        </a:cubicBezTo>
                        <a:cubicBezTo>
                          <a:pt x="920" y="606"/>
                          <a:pt x="933" y="567"/>
                          <a:pt x="941" y="532"/>
                        </a:cubicBezTo>
                        <a:cubicBezTo>
                          <a:pt x="949" y="497"/>
                          <a:pt x="953" y="457"/>
                          <a:pt x="957" y="424"/>
                        </a:cubicBezTo>
                        <a:cubicBezTo>
                          <a:pt x="961" y="391"/>
                          <a:pt x="966" y="364"/>
                          <a:pt x="965" y="332"/>
                        </a:cubicBezTo>
                        <a:cubicBezTo>
                          <a:pt x="964" y="300"/>
                          <a:pt x="963" y="267"/>
                          <a:pt x="951" y="230"/>
                        </a:cubicBezTo>
                        <a:cubicBezTo>
                          <a:pt x="939" y="193"/>
                          <a:pt x="913" y="139"/>
                          <a:pt x="891" y="110"/>
                        </a:cubicBezTo>
                        <a:cubicBezTo>
                          <a:pt x="869" y="81"/>
                          <a:pt x="847" y="69"/>
                          <a:pt x="818" y="53"/>
                        </a:cubicBezTo>
                        <a:cubicBezTo>
                          <a:pt x="789" y="37"/>
                          <a:pt x="759" y="24"/>
                          <a:pt x="719" y="16"/>
                        </a:cubicBezTo>
                        <a:cubicBezTo>
                          <a:pt x="679" y="8"/>
                          <a:pt x="619" y="0"/>
                          <a:pt x="576" y="2"/>
                        </a:cubicBezTo>
                        <a:cubicBezTo>
                          <a:pt x="533" y="4"/>
                          <a:pt x="491" y="16"/>
                          <a:pt x="459" y="28"/>
                        </a:cubicBezTo>
                        <a:cubicBezTo>
                          <a:pt x="427" y="40"/>
                          <a:pt x="405" y="55"/>
                          <a:pt x="384" y="73"/>
                        </a:cubicBezTo>
                        <a:cubicBezTo>
                          <a:pt x="363" y="91"/>
                          <a:pt x="346" y="105"/>
                          <a:pt x="330" y="134"/>
                        </a:cubicBezTo>
                        <a:cubicBezTo>
                          <a:pt x="314" y="163"/>
                          <a:pt x="301" y="207"/>
                          <a:pt x="291" y="248"/>
                        </a:cubicBezTo>
                        <a:cubicBezTo>
                          <a:pt x="281" y="289"/>
                          <a:pt x="278" y="350"/>
                          <a:pt x="269" y="383"/>
                        </a:cubicBezTo>
                        <a:cubicBezTo>
                          <a:pt x="260" y="416"/>
                          <a:pt x="255" y="433"/>
                          <a:pt x="240" y="446"/>
                        </a:cubicBezTo>
                        <a:cubicBezTo>
                          <a:pt x="225" y="459"/>
                          <a:pt x="202" y="469"/>
                          <a:pt x="182" y="463"/>
                        </a:cubicBezTo>
                        <a:cubicBezTo>
                          <a:pt x="162" y="457"/>
                          <a:pt x="119" y="431"/>
                          <a:pt x="119" y="407"/>
                        </a:cubicBezTo>
                        <a:cubicBezTo>
                          <a:pt x="119" y="383"/>
                          <a:pt x="162" y="341"/>
                          <a:pt x="182" y="320"/>
                        </a:cubicBezTo>
                        <a:cubicBezTo>
                          <a:pt x="202" y="299"/>
                          <a:pt x="224" y="292"/>
                          <a:pt x="236" y="280"/>
                        </a:cubicBezTo>
                        <a:cubicBezTo>
                          <a:pt x="248" y="268"/>
                          <a:pt x="254" y="257"/>
                          <a:pt x="255" y="245"/>
                        </a:cubicBezTo>
                        <a:cubicBezTo>
                          <a:pt x="256" y="233"/>
                          <a:pt x="252" y="215"/>
                          <a:pt x="245" y="205"/>
                        </a:cubicBezTo>
                        <a:cubicBezTo>
                          <a:pt x="238" y="195"/>
                          <a:pt x="217" y="196"/>
                          <a:pt x="210" y="185"/>
                        </a:cubicBezTo>
                        <a:cubicBezTo>
                          <a:pt x="203" y="174"/>
                          <a:pt x="218" y="148"/>
                          <a:pt x="203" y="137"/>
                        </a:cubicBezTo>
                        <a:cubicBezTo>
                          <a:pt x="188" y="126"/>
                          <a:pt x="146" y="115"/>
                          <a:pt x="120" y="116"/>
                        </a:cubicBezTo>
                        <a:cubicBezTo>
                          <a:pt x="94" y="117"/>
                          <a:pt x="67" y="133"/>
                          <a:pt x="48" y="143"/>
                        </a:cubicBezTo>
                        <a:cubicBezTo>
                          <a:pt x="29" y="153"/>
                          <a:pt x="0" y="164"/>
                          <a:pt x="3" y="179"/>
                        </a:cubicBezTo>
                        <a:cubicBezTo>
                          <a:pt x="6" y="194"/>
                          <a:pt x="44" y="224"/>
                          <a:pt x="66" y="233"/>
                        </a:cubicBezTo>
                        <a:cubicBezTo>
                          <a:pt x="88" y="242"/>
                          <a:pt x="120" y="232"/>
                          <a:pt x="135" y="233"/>
                        </a:cubicBezTo>
                        <a:cubicBezTo>
                          <a:pt x="150" y="234"/>
                          <a:pt x="171" y="225"/>
                          <a:pt x="156" y="239"/>
                        </a:cubicBezTo>
                        <a:cubicBezTo>
                          <a:pt x="141" y="253"/>
                          <a:pt x="69" y="294"/>
                          <a:pt x="45" y="317"/>
                        </a:cubicBezTo>
                        <a:cubicBezTo>
                          <a:pt x="21" y="340"/>
                          <a:pt x="15" y="356"/>
                          <a:pt x="9" y="379"/>
                        </a:cubicBezTo>
                        <a:cubicBezTo>
                          <a:pt x="3" y="402"/>
                          <a:pt x="4" y="427"/>
                          <a:pt x="12" y="455"/>
                        </a:cubicBezTo>
                        <a:cubicBezTo>
                          <a:pt x="20" y="483"/>
                          <a:pt x="29" y="522"/>
                          <a:pt x="60" y="545"/>
                        </a:cubicBezTo>
                        <a:cubicBezTo>
                          <a:pt x="91" y="568"/>
                          <a:pt x="151" y="596"/>
                          <a:pt x="195" y="596"/>
                        </a:cubicBezTo>
                        <a:cubicBezTo>
                          <a:pt x="239" y="596"/>
                          <a:pt x="297" y="569"/>
                          <a:pt x="327" y="548"/>
                        </a:cubicBezTo>
                        <a:cubicBezTo>
                          <a:pt x="357" y="527"/>
                          <a:pt x="367" y="498"/>
                          <a:pt x="378" y="470"/>
                        </a:cubicBezTo>
                        <a:cubicBezTo>
                          <a:pt x="389" y="442"/>
                          <a:pt x="392" y="413"/>
                          <a:pt x="396" y="383"/>
                        </a:cubicBezTo>
                        <a:cubicBezTo>
                          <a:pt x="400" y="353"/>
                          <a:pt x="394" y="318"/>
                          <a:pt x="401" y="287"/>
                        </a:cubicBezTo>
                        <a:cubicBezTo>
                          <a:pt x="408" y="256"/>
                          <a:pt x="409" y="222"/>
                          <a:pt x="437" y="199"/>
                        </a:cubicBezTo>
                        <a:cubicBezTo>
                          <a:pt x="465" y="176"/>
                          <a:pt x="519" y="157"/>
                          <a:pt x="566" y="151"/>
                        </a:cubicBezTo>
                        <a:cubicBezTo>
                          <a:pt x="613" y="145"/>
                          <a:pt x="672" y="148"/>
                          <a:pt x="717" y="163"/>
                        </a:cubicBezTo>
                        <a:cubicBezTo>
                          <a:pt x="762" y="178"/>
                          <a:pt x="812" y="208"/>
                          <a:pt x="834" y="242"/>
                        </a:cubicBezTo>
                        <a:cubicBezTo>
                          <a:pt x="856" y="276"/>
                          <a:pt x="850" y="337"/>
                          <a:pt x="852" y="370"/>
                        </a:cubicBezTo>
                        <a:cubicBezTo>
                          <a:pt x="854" y="403"/>
                          <a:pt x="849" y="416"/>
                          <a:pt x="846" y="440"/>
                        </a:cubicBezTo>
                        <a:cubicBezTo>
                          <a:pt x="843" y="464"/>
                          <a:pt x="837" y="492"/>
                          <a:pt x="831" y="514"/>
                        </a:cubicBezTo>
                        <a:cubicBezTo>
                          <a:pt x="825" y="536"/>
                          <a:pt x="818" y="554"/>
                          <a:pt x="810" y="572"/>
                        </a:cubicBezTo>
                        <a:cubicBezTo>
                          <a:pt x="802" y="590"/>
                          <a:pt x="795" y="610"/>
                          <a:pt x="780" y="625"/>
                        </a:cubicBezTo>
                        <a:cubicBezTo>
                          <a:pt x="765" y="640"/>
                          <a:pt x="744" y="659"/>
                          <a:pt x="717" y="665"/>
                        </a:cubicBezTo>
                        <a:cubicBezTo>
                          <a:pt x="690" y="671"/>
                          <a:pt x="645" y="668"/>
                          <a:pt x="618" y="659"/>
                        </a:cubicBezTo>
                        <a:cubicBezTo>
                          <a:pt x="591" y="650"/>
                          <a:pt x="568" y="633"/>
                          <a:pt x="552" y="611"/>
                        </a:cubicBezTo>
                        <a:cubicBezTo>
                          <a:pt x="536" y="589"/>
                          <a:pt x="524" y="560"/>
                          <a:pt x="522" y="527"/>
                        </a:cubicBezTo>
                        <a:cubicBezTo>
                          <a:pt x="520" y="494"/>
                          <a:pt x="526" y="444"/>
                          <a:pt x="537" y="410"/>
                        </a:cubicBezTo>
                        <a:cubicBezTo>
                          <a:pt x="548" y="376"/>
                          <a:pt x="567" y="350"/>
                          <a:pt x="587" y="325"/>
                        </a:cubicBezTo>
                        <a:cubicBezTo>
                          <a:pt x="607" y="300"/>
                          <a:pt x="640" y="276"/>
                          <a:pt x="654" y="263"/>
                        </a:cubicBezTo>
                        <a:cubicBezTo>
                          <a:pt x="668" y="250"/>
                          <a:pt x="667" y="251"/>
                          <a:pt x="671" y="248"/>
                        </a:cubicBez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4" name=""/>
                  <p:cNvGrpSpPr/>
                  <p:nvPr/>
                </p:nvGrpSpPr>
                <p:grpSpPr>
                  <a:xfrm>
                    <a:off x="7668720" y="5410800"/>
                    <a:ext cx="297360" cy="257040"/>
                    <a:chOff x="7668720" y="5410800"/>
                    <a:chExt cx="297360" cy="257040"/>
                  </a:xfrm>
                </p:grpSpPr>
                <p:sp>
                  <p:nvSpPr>
                    <p:cNvPr id="345" name=""/>
                    <p:cNvSpPr/>
                    <p:nvPr/>
                  </p:nvSpPr>
                  <p:spPr>
                    <a:xfrm flipH="1" rot="19132200">
                      <a:off x="7695000" y="5536080"/>
                      <a:ext cx="91440" cy="11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346" name=""/>
                    <p:cNvSpPr/>
                    <p:nvPr/>
                  </p:nvSpPr>
                  <p:spPr>
                    <a:xfrm flipH="1" rot="19132200">
                      <a:off x="7754760" y="5502240"/>
                      <a:ext cx="79200" cy="9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Times New Roman"/>
                      </a:endParaRPr>
                    </a:p>
                  </p:txBody>
                </p:sp>
                <p:sp>
                  <p:nvSpPr>
                    <p:cNvPr id="347" name=""/>
                    <p:cNvSpPr/>
                    <p:nvPr/>
                  </p:nvSpPr>
                  <p:spPr>
                    <a:xfrm flipH="1" rot="19132200">
                      <a:off x="7808040" y="5469120"/>
                      <a:ext cx="702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48" name=""/>
                    <p:cNvSpPr/>
                    <p:nvPr/>
                  </p:nvSpPr>
                  <p:spPr>
                    <a:xfrm flipH="1" rot="19132200">
                      <a:off x="7859880" y="5439600"/>
                      <a:ext cx="5796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349" name=""/>
                    <p:cNvSpPr/>
                    <p:nvPr/>
                  </p:nvSpPr>
                  <p:spPr>
                    <a:xfrm flipH="1" rot="19132200">
                      <a:off x="7902360" y="5417280"/>
                      <a:ext cx="46080" cy="6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grpSp>
            </p:grpSp>
            <p:sp>
              <p:nvSpPr>
                <p:cNvPr id="350" name=""/>
                <p:cNvSpPr/>
                <p:nvPr/>
              </p:nvSpPr>
              <p:spPr>
                <a:xfrm>
                  <a:off x="6989760" y="5324400"/>
                  <a:ext cx="36720" cy="63360"/>
                </a:xfrm>
                <a:prstGeom prst="ellipse">
                  <a:avLst/>
                </a:prstGeom>
                <a:solidFill>
                  <a:srgbClr val="ffff66"/>
                </a:solidFill>
                <a:ln w="9360">
                  <a:solidFill>
                    <a:srgbClr val="ffff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00:17:36Z</dcterms:created>
  <dc:creator>Type your name here</dc:creator>
  <dc:description/>
  <dc:language>en-US</dc:language>
  <cp:lastModifiedBy>Amy Schilling</cp:lastModifiedBy>
  <cp:lastPrinted>2001-10-10T11:38:18Z</cp:lastPrinted>
  <dcterms:modified xsi:type="dcterms:W3CDTF">2008-04-14T18:21:41Z</dcterms:modified>
  <cp:revision>101</cp:revision>
  <dc:subject/>
  <dc:title>ECOLOGY STUDY GUIDE</dc:title>
</cp:coreProperties>
</file>